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D6B-82E4-4BC2-83BF-10F352BF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A7A-3AB5-485E-ABE0-FD8B53A9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2D3A-8513-4C10-BFB5-09B37DCA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C0CD-23E9-4DAB-91CB-E62CDDBC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FF17-CD1A-4B44-B073-97D5A06B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6F03-D81D-4FEE-997E-FAE8D49B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601F-3133-4AF6-804F-66F6B74D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9FD7-2DB4-4743-9012-E0960060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6798-B271-4815-8990-4715A10E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43E9-ED0B-40BE-80F0-4ADBFBB1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D30B-B53B-43C2-854A-A4E7C2AB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993B-FAA9-4A73-B529-CECD48F7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AA35-1872-4592-9C43-53F6353A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E273-0628-439F-866F-593B8149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F800-2785-4BAE-96CA-5A6D45B4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9345-1986-4986-9BCE-55763DEB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8C10-008D-401E-BFCD-45E23DEF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E6627-9286-4FCA-B013-D2B5D8D9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3583D-6E66-4EDB-BA9E-7C25793E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4CF39-2407-4E87-8E74-C1C9B2CE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6F690-25A7-468B-8E64-A23687D7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CF903-4AE7-41E5-A46F-0CEE6C59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B2E-E4D3-440A-A6AE-3A5C689E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42038-024D-4C3A-B6AD-57EEA914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D7746-F412-4E30-A17F-288F7E38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2250E-0B8B-493B-91E7-F07638CD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6F5D9-F22C-4570-A40C-49340DB5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6712B-901B-4C71-A05B-83E89FB9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17683-6BB7-42A6-A0BE-0DB00C9D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4040F-764E-4DAE-8A01-5B71312A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84C5-CF32-4BCD-8ACA-F00B1F6F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6EE-52BC-4F45-82EE-EFF99C5D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EFEA-CE7D-48B1-B3DE-38F6FD81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B2C-8452-4B38-88CF-463B54B0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465-CDBF-4CB7-AA4C-57F44026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E9FC-CC4E-4483-8521-C69B52A3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26A1-CED5-497E-82EF-D3D877C9D75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D645-0834-45D1-A732-260D6F6177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B071-F382-4044-ABCF-49FCD2EB4AC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5D22-22E1-4A0A-ACD2-C161933A22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2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2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2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3" descr="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</cp:lastModifiedBy>
  <dcterms:modified xsi:type="dcterms:W3CDTF">2014-07-28T10:31:20Z</dcterms:modified>
  <cp:revision>17</cp:revision>
  <dc:subject/>
  <dc:title>请在此处填写 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