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59CA-BC00-48F9-BAA6-A5FCDC3AB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5213-C360-44B1-9711-A7C4BF523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4CAA-9998-4195-8246-9E5FB38FB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B8F8-F569-4D15-882A-CB16DA935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C4683-AD0D-456A-ADF2-AB981E2E0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323C4-52C3-4580-8D25-8D626CA8D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16472-1AC4-4554-981D-8F2D10D9A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DD0A7-DD3C-475B-A844-6E3462D0E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4E8E5-4635-4AF7-A098-D8E7DBFB5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903CA-BC54-476F-A800-8BB142AF8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E8CF2-3F32-4B14-98EE-A9201701C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C213-A9DD-401A-85FD-044AF8AEB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FD4C1-0E38-477D-ADCF-7FF37194C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18B83-C7A2-482B-BED6-42A349926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2F3B9-EBF2-4B73-B461-8A51F9F72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71D0C-1E48-4660-9078-CA138E88D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FC682-3410-4C16-8CDD-5BFF60956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537686-606E-40D2-90D8-B73277B8C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E8BA2F-0EBF-4225-BF8C-D64DF3DF5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E45ECE-219E-4506-AE2F-364FE122F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66A377-85B6-4020-87D8-E42D04246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FF8C1C-FD13-4A82-9545-AB320B59C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5C9C-B397-4CA3-85E4-BB00FC1AD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41457A-50E5-4AAD-98EB-E5DD334E0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02DF56-B292-4E91-9B4F-573BDC9ED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964B97-34DB-44B9-A1DC-3674FD687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2F294E-2598-43CE-AA6A-E8D7A870A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A2CC17-AA64-4CBB-9EA3-8CEC057B3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14B0A2-0C4D-4361-A3F5-2352F021A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AAAC90-3602-4A3B-8381-C389F07BE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71A7-FE22-464F-8EC3-B62BBB594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B40D-8B05-422C-926F-4025D7E36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D154-B6DD-4DEF-A890-FCA47F9CC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7C0D-4519-4481-AEA0-11424F45B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7530-B2E7-4D45-988D-D21F3FE62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752B-9E5F-4177-80F5-1FA49B08B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629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d63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dbd634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95280"/>
            <a:ext cx="5029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eaeae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C24CA-360E-4C87-B7DF-2C0CE138CC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66BCC-1635-460E-9D94-3F20AC3DDF3D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98D04-7EEE-4A77-B4B0-1207FA26B52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629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d63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dbd634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295280"/>
            <a:ext cx="5029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eaeae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DFB9D-D6CE-42B6-8FB7-E96EF97BDA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371240"/>
            <a:ext cx="5257800" cy="22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d634"/>
                </a:solidFill>
                <a:latin typeface="Times New Roman"/>
                <a:ea typeface="宋体"/>
              </a:rPr>
              <a:t>VOLLEYBALL</a:t>
            </a:r>
            <a:br>
              <a:rPr sz="4400"/>
            </a:br>
            <a:r>
              <a:rPr b="0" lang="en-US" sz="4400" spc="-1" strike="noStrike">
                <a:solidFill>
                  <a:srgbClr val="dbd634"/>
                </a:solidFill>
                <a:latin typeface="Times New Roman"/>
                <a:ea typeface="宋体"/>
              </a:rPr>
              <a:t>OUTLINE</a:t>
            </a:r>
            <a:endParaRPr b="0" lang="en-US" sz="4400" spc="-1" strike="noStrike">
              <a:solidFill>
                <a:srgbClr val="dbd63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685440" y="3505320"/>
            <a:ext cx="48006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Your Subtitle Goes Here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629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d634"/>
                </a:solidFill>
                <a:latin typeface="Times New Roman"/>
                <a:ea typeface="宋体"/>
              </a:rPr>
              <a:t>YOUR TOPIC GOES HERE</a:t>
            </a:r>
            <a:endParaRPr b="0" lang="en-US" sz="4400" spc="-1" strike="noStrike">
              <a:solidFill>
                <a:srgbClr val="dbd63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5029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  <a:ea typeface="宋体"/>
              </a:rPr>
              <a:t>Your Subtopics Go He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629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d634"/>
                </a:solidFill>
                <a:latin typeface="Times New Roman"/>
                <a:ea typeface="宋体"/>
              </a:rPr>
              <a:t>YOUR TOPIC GOES HERE</a:t>
            </a:r>
            <a:endParaRPr b="0" lang="en-US" sz="4400" spc="-1" strike="noStrike">
              <a:solidFill>
                <a:srgbClr val="dbd63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5029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Your Subtopics Go He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3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宋体"/>
              </a:rPr>
              <a:t>TRANSITIONAL PAGE</a:t>
            </a:r>
            <a:endParaRPr b="0" lang="en-US" sz="4400" spc="-1" strike="noStrike">
              <a:solidFill>
                <a:srgbClr val="dbd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eaeaea"/>
                </a:solidFill>
                <a:latin typeface="Eurostile"/>
                <a:ea typeface="宋体"/>
              </a:rPr>
              <a:t>Elements</a:t>
            </a:r>
            <a:endParaRPr b="0" lang="en-US" sz="4400" spc="-1" strike="noStrike">
              <a:solidFill>
                <a:srgbClr val="dbd63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352320" y="837720"/>
            <a:ext cx="54104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32" name="Picture 4" descr="volleyball_outline_prt"/>
          <p:cNvPicPr/>
          <p:nvPr/>
        </p:nvPicPr>
        <p:blipFill>
          <a:blip r:embed="rId1"/>
          <a:stretch/>
        </p:blipFill>
        <p:spPr>
          <a:xfrm>
            <a:off x="6248520" y="4572000"/>
            <a:ext cx="2590560" cy="19432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33" name="Picture 5" descr="volleyball_outline_qx"/>
          <p:cNvPicPr/>
          <p:nvPr/>
        </p:nvPicPr>
        <p:blipFill>
          <a:blip r:embed="rId2"/>
          <a:stretch/>
        </p:blipFill>
        <p:spPr>
          <a:xfrm>
            <a:off x="3276720" y="2286000"/>
            <a:ext cx="2590560" cy="19432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34" name="Picture 6" descr="volleyball_outline_sld"/>
          <p:cNvPicPr/>
          <p:nvPr/>
        </p:nvPicPr>
        <p:blipFill>
          <a:blip r:embed="rId3"/>
          <a:stretch/>
        </p:blipFill>
        <p:spPr>
          <a:xfrm>
            <a:off x="3276720" y="4572000"/>
            <a:ext cx="2590560" cy="19432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35" name="Picture 7" descr="volleyball_outline_trs"/>
          <p:cNvPicPr/>
          <p:nvPr/>
        </p:nvPicPr>
        <p:blipFill>
          <a:blip r:embed="rId4"/>
          <a:stretch/>
        </p:blipFill>
        <p:spPr>
          <a:xfrm>
            <a:off x="6248520" y="2286000"/>
            <a:ext cx="2590560" cy="19432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36" name="Picture 8" descr="outline"/>
          <p:cNvPicPr/>
          <p:nvPr/>
        </p:nvPicPr>
        <p:blipFill>
          <a:blip r:embed="rId5"/>
          <a:stretch/>
        </p:blipFill>
        <p:spPr>
          <a:xfrm>
            <a:off x="369720" y="2209680"/>
            <a:ext cx="2525760" cy="43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38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9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6T22:24:24Z</dcterms:created>
  <dc:creator>eclipse</dc:creator>
  <dc:description/>
  <cp:keywords/>
  <dc:language>en-US</dc:language>
  <cp:lastModifiedBy>a</cp:lastModifiedBy>
  <dcterms:modified xsi:type="dcterms:W3CDTF">2014-07-24T07:59:29Z</dcterms:modified>
  <cp:revision>2</cp:revision>
  <dc:subject/>
  <dc:title>VOLLEYBALL OUTLIN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6</vt:lpwstr>
  </property>
</Properties>
</file>