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A09A-070F-4AAB-AC2B-791D6BCF7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A3F7-CE32-46A5-BBCC-AB1F30BC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CFD9AA-D61F-488F-8D33-6FE33D71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42CC2E-AD59-45E3-90A9-E8869CC0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B396A6-290B-4F70-9AE5-42E17DD9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9F03D1-5CAC-469E-9353-5E28CC86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90AD77-840D-4541-9F23-5A0094A4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52F311-E381-4FA1-ABBF-B475D68F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4F7F0E-FF19-4818-82C4-8E6D9EA8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4EAF3B-FDD5-438B-A2CC-F87486F3C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50F4FF-9596-4B92-B592-C1956E104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BE5023-32A5-4432-A6A7-E1E27ED78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3494-AF51-49A9-B763-35989E6EC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0B9C4E-378A-4561-8312-5478B805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A14CD6-4666-47E8-B476-B8401F67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B987CA-E5ED-4981-9F07-DCD2F277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A40791-8C48-4F12-8D2A-C183410D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070EE3-0384-4DB2-8F76-06234347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42CAFA-F9FD-4AE5-9798-06774D91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8B052B-6F4E-4F10-AF82-8E6352F0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075DDF-E900-49E4-9AFB-C500954D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D97C43-D0A1-4403-B152-941BAE03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672086-D0D1-4F69-A2A9-EB2E16D9C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3612-15A7-4D16-9A29-F71906870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DE14F1-4C94-429B-991E-A93C91E4D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8CAECD-5018-40A9-BD59-878192EC9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A7335-BE7B-4786-8D41-D8CF25CE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3AF587-968B-4343-9287-BABC611E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B58E8-23A9-4D7F-A1F2-DE3A5555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0CF002-CCE9-46BE-A4E1-21AD1553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2091E-3FE8-4BAB-8013-5390957C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97C44-1CAF-45FB-97CB-6E2A0C3B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CACA9-A338-4985-929F-2D4DB9D8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85D61F-2316-4A6F-9E43-2A28654A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06DA7-DD41-40A5-A3A4-6CDAD8681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E9D816-8E5B-4735-9649-9D3DE730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2512C-BCE7-4536-A879-14E06EBBD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6EFD6-97E9-49CA-A92F-5AC922A06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D0A9DE-00A3-4C70-AB68-B45892FF1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6A527A-BA44-4A01-BE10-1C207718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C74EBC-0E71-4C3A-A51C-7536C532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26DC49-1578-44CD-AD6F-64F92535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7EAEC4-C2C0-4AC3-A9F4-BF8677AC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14F25E-84C6-476E-8129-5C55CDAF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799069-CF36-4983-829F-A7C5FA0B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F8B5E-813C-4586-BBAD-7ECA2EBB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6920F6-189B-4927-927C-EE13EEAA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7F0BA0-9460-4F01-B820-C09D18E6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7D7167-C692-4CC0-99E3-0926E975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C0F0F4-E055-400B-B41A-FC58B20E0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A3CC0C-7901-4B18-82F5-EBD7790D0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ACE143-B3C7-40E8-92F7-FF6942C84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0B9D0A-9737-48CA-8D8F-C0652625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6C0D0B-F9A4-441D-884C-56D2D44E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7AAF59-FB44-4E73-A35A-B0D321AE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B27781-8B29-4EC2-AF9F-5EBFB675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1CECA-4C2A-4B12-998A-33B1BE71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B8B55D-59DD-4924-973E-CE60928F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94689F-E28E-456D-AF02-A4ED953B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B62A89-A3F3-4EBE-BC8C-D7C0725C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AC7659-48DF-45ED-BC08-F7B0D7DF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B35FC3-02A0-4A57-92A9-E4DAF7D2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38689B-DA42-4D43-9E16-2C5BF8659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915D2F-6CC5-4F0D-9C99-E6CF023D6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FC93C-633B-47DC-8283-8A693DF8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95D3-2097-4769-B585-E427EFDC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C183-9474-468A-8642-F5B99308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EAD3-3B71-4D3D-9879-C7915DE3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7D18-14CC-4D7B-BB0B-41DA2567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FACE-888E-4D28-831A-2171A3F2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3A54-AD57-480C-A14A-A1D6E411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47EF-6A05-4995-A552-649049C9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4051-FC4F-415E-8E97-9C76767C0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E83D-EF55-4F8C-AEC7-08A9A6631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3DB4E-2A78-4CB5-A7E0-CA83CD60B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0713C-CA1B-4746-9718-B1967A52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76EC2-F4DF-4F8F-8EB3-02210A6C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A00B6-8409-4E63-ACC2-B9D63422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33E03-C963-422A-9EC9-E7BA15D6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F442-3BB1-415C-B07F-C172F173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3A1CE-8D73-44CA-A41A-FBAB0FB3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C8071-2ED5-4F1A-8E25-E4AFDB66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26154-5F9E-4985-9C3A-C1667297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8E3CD-6886-4DA3-AD7A-A2412E54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C0221-6468-444A-8D11-50B375B9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396EF-D80B-4D18-A73D-65F5C6B56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642E2-D8CA-42DB-B017-23E460EAB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DBF5A-D072-41E2-AC28-C338F4B27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58DA5-9B29-4A59-86B1-7674885B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E891F-7994-4F2B-BCAD-EAB25535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0FFC-5B1C-4A91-AE0B-ABBC17D0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58B1F-59B3-49E9-8EAB-B148CBA7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709FA-A948-4DC6-B80F-03A353C66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64143-14F3-439A-A82E-788062BE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3C924-C12A-4FA1-88F0-5DE03DFE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8182B-325E-4503-92AE-82BD9CFF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5475C-9525-4411-8F47-20EDB72A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34762-EAD8-4DF2-959E-C4EB67ED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81FBB-6D96-4782-9E43-A9C274CCF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E260A-EA88-4CAB-B6D0-821157FB2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5A0AE-9231-4D82-85A4-708887427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4E68-CCF4-4B26-B76E-64B1A340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BC453-F4D3-4FF9-B984-A8379A30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CCD90-5CFF-4AAF-90E9-5AD46AB8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1CB28-4A02-4884-BF7B-B13EA26F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AD978-E22B-4920-B142-9D20702A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84526-F9F8-491C-BC04-09F907DC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068C3-EDA3-4B0F-9AAB-B75CD622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D9FEE-2165-43AF-B556-49CDE4E4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49D02-B1B0-40A6-8AC2-C94B56C8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2F4CD-A85C-46A7-A39A-8B3D3B14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40146-B319-4887-BCDD-3B0236294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D794-D374-4CB6-802C-FA26F7EB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CE956-89DF-482E-B946-845E7376A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00558-1059-47D3-B19E-8E2D19CF6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AB22F-FA57-45F8-B017-A8E9EF95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1C655-2E2B-4A75-B3D9-B0B26B96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72044-2261-455A-B0FF-6432A6D5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F0EA5-9E2C-4724-AEC0-AD89F8B4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8DF93-58DE-4A89-8F98-C004F69B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3FAB8-8A9C-4AED-AE2E-738021B2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47FBD-FC5C-4AC0-BAA8-7D5166FF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E7E70-02AA-4BA3-82A7-5F65C37B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F8D9-60E2-405F-AE8F-C18B0817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94133-34B6-41A2-9DB6-257CA83B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49E5C-0BBC-4255-A9B0-E8279C9E1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BCE62-D8DD-444E-B6F6-C22DFFB16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0A9AF-09DC-44EB-AA84-224F6E8FE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D45E0-9912-4302-8CE3-528D8372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137EE-735F-4ADF-8FA8-27C0EADA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2E35D-E75F-4F6D-A71E-CA79E0D2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02459-AD6F-4F84-98BB-C5271659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0A166-AA4A-48BC-9D81-972B14C1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6A3E9-3202-48C3-9BFC-440F38CC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6B32-8F3F-4242-8B4A-6B37FB4F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33F8A-D9BC-4D5E-A1E9-F9D87B4F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4D6BF-81B5-4E5F-A284-EF66B4AE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79DC1-EBF7-4DDF-88C2-8441922F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5B3A8-D503-4DD0-B6BD-4C4FA392D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FAC7E-5747-49F8-BBE0-A7C6AE61F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55F8E-7528-49B9-AA3E-C2525AAA4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BCF32-B87F-4193-9E3F-C6832E57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082B7-1411-4162-89D8-1C8D6F1C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AD63E-FEDB-42B7-9CA2-4339F255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6C74F-531A-4849-A96B-4A6F41C8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8A6A-5F5B-47F0-B4BC-898CDBEB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3B039-04E1-4D09-ACF7-BD1CE72F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CDE1F-5CB9-4C65-8B7E-85E9AB77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7DCD8-A579-4530-A35D-B158860A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AE458-9A73-462B-91CC-33719E28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E0026-BCDE-42C0-ADE8-ED191800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4A1FE-913E-4E5D-BD7A-765A65216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7572E-8B81-4B3E-9E7C-F1D35B138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F97D21-5C30-4D3E-9BB4-C85DE44CA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A39627-6FD6-4910-8BA0-24493ADC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3271EE-343A-493F-B6A9-11D67AAB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2AF1-228A-4A40-B25C-2CC5C2BA590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5EBD-B53B-436E-B8FD-B790D09AE54E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7678-C7D9-4B64-B7A8-AFF1E78587C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07F6-4AA8-4213-AA54-42D948FD91BC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4F8D-30A9-41E1-B46A-4D2797AE21D3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F430-E491-4F31-8E33-58FF7036AE19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A662-2FCE-4351-B127-42828E430C95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77B2-9C50-41FB-A11C-1FF1C74BB433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2014-452A-457B-AE9F-53C8D58E2849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B06F-101C-42E2-A8C6-79E46479EBE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3B9B-7960-477D-9E29-D4A0A4A69F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9F81-566C-4D96-B014-C4F387504932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BC5A-00BD-4625-AD07-4FA6392A4B3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A0C7-BFEC-4C2B-8DB3-5A0ED920822F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8B8A-DDB5-4771-AB89-0C759320B3A9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002A-A4AA-4623-9E4A-97D99B3027CC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77BE-1969-4D8F-9892-660724136489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AD12-08CB-4EB7-8B9D-5BD2E52B26FF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E9E3-96ED-4CF1-B083-294A0919B490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D5DE-951D-4688-95A1-619EEF35EB33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53E0-0867-4F15-A242-EDE136E7A39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6F1F-A857-4242-9184-001F86A3AF1D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5389-E2D8-4DBD-9ACD-D7305E0CA193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CFD5-BAD5-46E0-9E5E-EA5203CDD7C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C4D2-768F-41D8-BBBA-B78BE0F0FD83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hyperlink" Target="http://baike.baidu.com/view/258199.ht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4" descr="车马-01.png"/>
          <p:cNvPicPr/>
          <p:nvPr/>
        </p:nvPicPr>
        <p:blipFill>
          <a:blip r:embed="rId1"/>
          <a:stretch/>
        </p:blipFill>
        <p:spPr>
          <a:xfrm>
            <a:off x="155520" y="4610160"/>
            <a:ext cx="3048120" cy="2173320"/>
          </a:xfrm>
          <a:prstGeom prst="rect">
            <a:avLst/>
          </a:prstGeom>
          <a:ln w="0">
            <a:noFill/>
          </a:ln>
        </p:spPr>
      </p:pic>
      <p:pic>
        <p:nvPicPr>
          <p:cNvPr id="534" name="图片 2" descr="底纹-01.png"/>
          <p:cNvPicPr/>
          <p:nvPr/>
        </p:nvPicPr>
        <p:blipFill>
          <a:blip r:embed="rId2"/>
          <a:stretch/>
        </p:blipFill>
        <p:spPr>
          <a:xfrm>
            <a:off x="32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535" name="图片 5" descr="花格-01.png"/>
          <p:cNvPicPr/>
          <p:nvPr/>
        </p:nvPicPr>
        <p:blipFill>
          <a:blip r:embed="rId3"/>
          <a:stretch/>
        </p:blipFill>
        <p:spPr>
          <a:xfrm>
            <a:off x="2840040" y="2436840"/>
            <a:ext cx="6529320" cy="1471680"/>
          </a:xfrm>
          <a:prstGeom prst="rect">
            <a:avLst/>
          </a:prstGeom>
          <a:ln w="0">
            <a:noFill/>
          </a:ln>
        </p:spPr>
      </p:pic>
      <p:sp>
        <p:nvSpPr>
          <p:cNvPr id="536" name="TextBox 6"/>
          <p:cNvSpPr/>
          <p:nvPr/>
        </p:nvSpPr>
        <p:spPr>
          <a:xfrm>
            <a:off x="4400640" y="2368440"/>
            <a:ext cx="34574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600" spc="-1" strike="noStrike">
                <a:solidFill>
                  <a:srgbClr val="005897"/>
                </a:solidFill>
                <a:latin typeface="迷你简柏青"/>
                <a:ea typeface="迷你简柏青"/>
              </a:rPr>
              <a:t>汉代画像石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图片 5" descr="车马mulu-01.png"/>
          <p:cNvPicPr/>
          <p:nvPr/>
        </p:nvPicPr>
        <p:blipFill>
          <a:blip r:embed="rId1"/>
          <a:stretch/>
        </p:blipFill>
        <p:spPr>
          <a:xfrm>
            <a:off x="0" y="2109960"/>
            <a:ext cx="7467480" cy="474804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6" descr="ge-01.png"/>
          <p:cNvPicPr/>
          <p:nvPr/>
        </p:nvPicPr>
        <p:blipFill>
          <a:blip r:embed="rId2"/>
          <a:stretch/>
        </p:blipFill>
        <p:spPr>
          <a:xfrm>
            <a:off x="6237360" y="936720"/>
            <a:ext cx="1436760" cy="2222280"/>
          </a:xfrm>
          <a:prstGeom prst="rect">
            <a:avLst/>
          </a:prstGeom>
          <a:ln w="0">
            <a:noFill/>
          </a:ln>
        </p:spPr>
      </p:pic>
      <p:pic>
        <p:nvPicPr>
          <p:cNvPr id="539" name="图片 7" descr="底纹-01.png"/>
          <p:cNvPicPr/>
          <p:nvPr/>
        </p:nvPicPr>
        <p:blipFill>
          <a:blip r:embed="rId3"/>
          <a:stretch/>
        </p:blipFill>
        <p:spPr>
          <a:xfrm>
            <a:off x="3240" y="0"/>
            <a:ext cx="12188880" cy="6858000"/>
          </a:xfrm>
          <a:prstGeom prst="rect">
            <a:avLst/>
          </a:prstGeom>
          <a:ln w="0">
            <a:noFill/>
          </a:ln>
        </p:spPr>
      </p:pic>
      <p:sp>
        <p:nvSpPr>
          <p:cNvPr id="540" name="TextBox 8"/>
          <p:cNvSpPr/>
          <p:nvPr/>
        </p:nvSpPr>
        <p:spPr>
          <a:xfrm>
            <a:off x="6423840" y="835560"/>
            <a:ext cx="1170720" cy="23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500" spc="-1" strike="noStrike">
                <a:solidFill>
                  <a:srgbClr val="ffffff"/>
                </a:solidFill>
                <a:latin typeface="迷你简柏青"/>
                <a:ea typeface="迷你简柏青"/>
              </a:rPr>
              <a:t>目录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TextBox 10"/>
          <p:cNvSpPr/>
          <p:nvPr/>
        </p:nvSpPr>
        <p:spPr>
          <a:xfrm>
            <a:off x="10361160" y="3038040"/>
            <a:ext cx="63720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5897"/>
                </a:solidFill>
                <a:latin typeface="迷你简柏青"/>
                <a:ea typeface="迷你简柏青"/>
              </a:rPr>
              <a:t>四、画像石成就与地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Box 11"/>
          <p:cNvSpPr/>
          <p:nvPr/>
        </p:nvSpPr>
        <p:spPr>
          <a:xfrm>
            <a:off x="9581400" y="2842920"/>
            <a:ext cx="63720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5897"/>
                </a:solidFill>
                <a:latin typeface="迷你简柏青"/>
                <a:ea typeface="迷你简柏青"/>
              </a:rPr>
              <a:t>三、画像石雕刻技法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Box 12"/>
          <p:cNvSpPr/>
          <p:nvPr/>
        </p:nvSpPr>
        <p:spPr>
          <a:xfrm>
            <a:off x="8792640" y="2849040"/>
            <a:ext cx="63720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5897"/>
                </a:solidFill>
                <a:latin typeface="迷你简柏青"/>
                <a:ea typeface="迷你简柏青"/>
              </a:rPr>
              <a:t>二、画像石制作工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13"/>
          <p:cNvSpPr/>
          <p:nvPr/>
        </p:nvSpPr>
        <p:spPr>
          <a:xfrm>
            <a:off x="8002080" y="2460960"/>
            <a:ext cx="63720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5897"/>
                </a:solidFill>
                <a:latin typeface="迷你简柏青"/>
                <a:ea typeface="迷你简柏青"/>
              </a:rPr>
              <a:t>一、画像石分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图片 5" descr="车马-02-01.png"/>
          <p:cNvPicPr/>
          <p:nvPr/>
        </p:nvPicPr>
        <p:blipFill>
          <a:blip r:embed="rId1"/>
          <a:stretch/>
        </p:blipFill>
        <p:spPr>
          <a:xfrm>
            <a:off x="3219480" y="2432160"/>
            <a:ext cx="2185920" cy="1371600"/>
          </a:xfrm>
          <a:prstGeom prst="rect">
            <a:avLst/>
          </a:prstGeom>
          <a:ln w="0">
            <a:noFill/>
          </a:ln>
        </p:spPr>
      </p:pic>
      <p:pic>
        <p:nvPicPr>
          <p:cNvPr id="546" name="图片 4" descr="huage2-01.png"/>
          <p:cNvPicPr/>
          <p:nvPr/>
        </p:nvPicPr>
        <p:blipFill>
          <a:blip r:embed="rId2"/>
          <a:stretch/>
        </p:blipFill>
        <p:spPr>
          <a:xfrm>
            <a:off x="3036960" y="2133720"/>
            <a:ext cx="5697360" cy="1785960"/>
          </a:xfrm>
          <a:prstGeom prst="rect">
            <a:avLst/>
          </a:prstGeom>
          <a:ln w="0">
            <a:noFill/>
          </a:ln>
        </p:spPr>
      </p:pic>
      <p:sp>
        <p:nvSpPr>
          <p:cNvPr id="547" name="TextBox 6"/>
          <p:cNvSpPr/>
          <p:nvPr/>
        </p:nvSpPr>
        <p:spPr>
          <a:xfrm>
            <a:off x="5838120" y="260676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5897"/>
                </a:solidFill>
                <a:latin typeface="迷你简柏青"/>
                <a:ea typeface="迷你简柏青"/>
              </a:rPr>
              <a:t>画像石分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图片 4" descr="车马-03-01-01.png"/>
          <p:cNvPicPr/>
          <p:nvPr/>
        </p:nvPicPr>
        <p:blipFill>
          <a:blip r:embed="rId1"/>
          <a:stretch/>
        </p:blipFill>
        <p:spPr>
          <a:xfrm>
            <a:off x="63360" y="5594400"/>
            <a:ext cx="1524240" cy="973080"/>
          </a:xfrm>
          <a:prstGeom prst="rect">
            <a:avLst/>
          </a:prstGeom>
          <a:ln w="0">
            <a:noFill/>
          </a:ln>
        </p:spPr>
      </p:pic>
      <p:pic>
        <p:nvPicPr>
          <p:cNvPr id="549" name="图片 2" descr="底纹-01.png"/>
          <p:cNvPicPr/>
          <p:nvPr/>
        </p:nvPicPr>
        <p:blipFill>
          <a:blip r:embed="rId2"/>
          <a:stretch/>
        </p:blipFill>
        <p:spPr>
          <a:xfrm>
            <a:off x="0" y="0"/>
            <a:ext cx="12188880" cy="6858000"/>
          </a:xfrm>
          <a:prstGeom prst="rect">
            <a:avLst/>
          </a:prstGeom>
          <a:ln w="0">
            <a:noFill/>
          </a:ln>
        </p:spPr>
      </p:pic>
      <p:sp>
        <p:nvSpPr>
          <p:cNvPr id="550" name="TextBox 5"/>
          <p:cNvSpPr/>
          <p:nvPr/>
        </p:nvSpPr>
        <p:spPr>
          <a:xfrm>
            <a:off x="969840" y="1773360"/>
            <a:ext cx="10377720" cy="14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5897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5897"/>
                </a:solidFill>
                <a:latin typeface="微软雅黑"/>
                <a:ea typeface="微软雅黑"/>
              </a:rPr>
              <a:t>浮雕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: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类雕刻技法，为了表现物像的质感，不仅要将物像面以外的余白面削低，使物像明显浮起，而且要将物像面削刻成弧面。这类技法，可细分为三种。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5897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3"/>
              </a:rPr>
              <a:t>浅浮雕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: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这是一种物像浮起较低，物像细部用阴线刻来表现的浮雕技法。这种技法，从西汉晚期到东汉晚期的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0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余年间，广泛流行于第一、二、四汉画像石分布区，是汉画像石最重要、最基本的雕刻技法。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5897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5897"/>
                </a:solidFill>
                <a:latin typeface="微软雅黑"/>
                <a:ea typeface="微软雅黑"/>
              </a:rPr>
              <a:t>高浮雕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: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这是一种铲地较深、物像浮起很高、物像细部也根据立体表现的原则用不同的凹凸来刻画的浮雕方法。这类作品，因具有较强烈的立体感，一般多配置在门扉或门楣等比较醒目的位置。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5897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5897"/>
                </a:solidFill>
                <a:latin typeface="微软雅黑"/>
                <a:ea typeface="微软雅黑"/>
              </a:rPr>
              <a:t>透雕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: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这是一种在高浮雕的基础上，进一步将物像的某些部位镂空，使作品接近于圆雕的浮雕技法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图片 4" descr="车马-03-01-01.png"/>
          <p:cNvPicPr/>
          <p:nvPr/>
        </p:nvPicPr>
        <p:blipFill>
          <a:blip r:embed="rId1"/>
          <a:stretch/>
        </p:blipFill>
        <p:spPr>
          <a:xfrm>
            <a:off x="63360" y="5594400"/>
            <a:ext cx="1524240" cy="973080"/>
          </a:xfrm>
          <a:prstGeom prst="rect">
            <a:avLst/>
          </a:prstGeom>
          <a:ln w="0">
            <a:noFill/>
          </a:ln>
        </p:spPr>
      </p:pic>
      <p:pic>
        <p:nvPicPr>
          <p:cNvPr id="552" name="图片 2" descr="底纹-01.png"/>
          <p:cNvPicPr/>
          <p:nvPr/>
        </p:nvPicPr>
        <p:blipFill>
          <a:blip r:embed="rId2"/>
          <a:stretch/>
        </p:blipFill>
        <p:spPr>
          <a:xfrm>
            <a:off x="32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553" name="图片 6" descr="花格-02-01.png"/>
          <p:cNvPicPr/>
          <p:nvPr/>
        </p:nvPicPr>
        <p:blipFill>
          <a:blip r:embed="rId3"/>
          <a:stretch/>
        </p:blipFill>
        <p:spPr>
          <a:xfrm>
            <a:off x="4089240" y="2470320"/>
            <a:ext cx="4050000" cy="1514160"/>
          </a:xfrm>
          <a:prstGeom prst="rect">
            <a:avLst/>
          </a:prstGeom>
          <a:ln w="0">
            <a:noFill/>
          </a:ln>
        </p:spPr>
      </p:pic>
      <p:sp>
        <p:nvSpPr>
          <p:cNvPr id="554" name="TextBox 7"/>
          <p:cNvSpPr/>
          <p:nvPr/>
        </p:nvSpPr>
        <p:spPr>
          <a:xfrm>
            <a:off x="5353560" y="2422440"/>
            <a:ext cx="161316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400" spc="-1" strike="noStrike">
                <a:solidFill>
                  <a:srgbClr val="005897"/>
                </a:solidFill>
                <a:latin typeface="迷你简柏青"/>
                <a:ea typeface="迷你简柏青"/>
              </a:rPr>
              <a:t>谢谢</a:t>
            </a:r>
            <a:endParaRPr b="0" lang="en-US" sz="9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556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57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TextBox 7"/>
            <p:cNvSpPr/>
            <p:nvPr/>
          </p:nvSpPr>
          <p:spPr>
            <a:xfrm rot="20926800">
              <a:off x="343188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cp:keywords/>
  <dc:language>en-US</dc:language>
  <cp:lastModifiedBy>a</cp:lastModifiedBy>
  <dcterms:modified xsi:type="dcterms:W3CDTF">2014-07-28T10:19:29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