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A6EC-1EE0-4B5F-98CA-518911201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E704-26D3-476C-B198-7ADC264D2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4198AE-F22E-4A9D-A5BC-C04CB6EAC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D66DED-24A4-4CE5-A703-869E61B1D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6BFEA3-F59C-4F4E-B472-D57848C52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1F92A4-9AF8-4407-9AC5-5BD17CF2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9BE136-3CB9-422E-B2B8-9A35DA22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D24100-F5FE-47C9-8B99-E096FE81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12E3B2-D0BE-47A5-A7F8-A0C63F279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9B2B2E-0829-40C2-8DEF-5589B14E1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2FE301-7743-4273-886C-0E007EAB0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AD7FF4-7CDF-4764-98C0-2606097C6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F223-0A47-4DDF-A7C6-3C285F934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C25AAE-EDA7-466B-A75B-44A7E519E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B203D9-0714-46BC-8DBF-DAF851194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C1582B-E6B1-47D0-85BA-73876E94A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94542B-3745-4F0A-BBB3-4513A9014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9C1B24-B914-4B88-B76D-17C2B904C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8F639F-237A-4CCB-B865-97D5BAD1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652DA8-FB6E-4E62-855A-1386FC9E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919681-8F4E-4554-89C4-A59537EA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309D4E-A048-45C6-89B1-40A726BC7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B8BD0F-0648-4380-8FC6-E8CFE962D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3FD5-7565-4E05-9DAD-B70656341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C3A748-1F30-4EEC-890B-BD47B4A78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8A9858-70F9-46C9-B847-EFB505C6E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E83E36-D6A6-4C13-85EC-67CDEB050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F5F816-C6E7-414E-B3B5-BA5303419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F4DB51-A1E2-48AC-BB02-A52369F2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4E7E20-3328-4DAE-9560-4041AA58B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79F26F-D0A2-4F87-9450-7FA2E24A9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770339-331D-457B-B080-74C74A85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35D739-592F-48C5-A6DC-F0F0631F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10FF97-B832-49AA-9E44-41CB366F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BFEFF-76E9-4C3A-BA87-544B3864E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F7C633-4C9C-467E-8C31-996A6B0C7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370FD4-77CA-444D-80C1-97FF5CAF7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F77173-908C-413A-BA21-E268D71BB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8AA511-8FE0-40B6-A55E-76E514266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D93FC0-6B06-4E48-AF38-FB521CA28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119EF7-0B88-44F7-BFAA-C38D09CE5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035A6B-3875-4131-B309-8F31DEFC7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0E778A-24AA-4852-BECA-86C3F95CD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C50AF0-C41F-4008-8A27-7998E0403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2BCCCD-3690-4686-A78D-CF4D2338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72537-043E-4760-8F78-5ED4D89CD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46A4F4-CCA7-4C82-868E-72613E44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98EEDC-AE1A-4000-AF1C-F455CD6B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CDBD86-B4AA-4FA5-BEA6-86A2B0BB4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87A3CD-BD6C-4398-A908-89A981F72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F7EE0D-2B65-43D1-8E61-54EE9C04E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11BE90-0C2C-4FD1-85D9-31B7264D2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7808C5-31A3-4D09-87F6-91EA39B87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67E67E-BA7D-4BE4-A46E-FCF3129D7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E654EC-7A6E-4E6B-A224-A69662D2A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5604C7-905F-4E92-972A-DBB804F68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49B14-3169-404C-8211-48AA1ECB9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3D94DB-D189-4467-8051-35822E4FA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FE0AD8-F640-4B4F-8D1A-82C5AC35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04D70D-94FA-40C7-A26E-9768CF1F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17B8E7-AEB9-48D9-BADE-1201A877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9FD21D-608A-4F62-86E3-2F167FB85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66005C-5DCA-469B-8A83-44A640858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3EE1D3-F5D4-4B29-9B46-2E4490C40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DDDE73-AF12-4E52-B0DB-11515AE1D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422D84-4FC2-4344-9A31-983879343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0A0B49-07E7-486C-9061-07BECC3B7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8DC34-A2D6-474A-8745-3D6F56A65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C4DDF7-C109-496E-B95A-4903C37DD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235A79-4424-4776-ABD7-D7BAC4829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DF57A8-AA0A-4993-8D03-DF5571FE8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FAB3C1-F421-4DBD-8A95-CCF9AC28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242996-E1FA-47BB-B1DD-93825D08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398B48-CB25-4258-A1DE-A2ED23FD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AC397E-3390-431E-AAF3-76538A9F1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27D228-B971-4D3E-A46B-77D9F8085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9B58DF-6CD9-4A74-8D72-E956E6ABA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879C8-39B2-491E-98A8-2DF645CEE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E1EB8-F957-49EE-8FAA-C8F53F628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EAB27-D92A-4548-AE11-5EB43828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3C52-4929-4669-8C0D-C13999D34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6295A-4E4B-464A-A75F-78D02F09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A6296-5A25-4596-AD31-F07E797D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E85F0-BF03-418D-816C-B3F6049EC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22984-BE33-48F7-ADEA-5B5CC0328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8A43C-325B-416E-92F7-216866EF6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EBB56-C494-4FAE-80B9-37CE4942C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98031-B60E-4F8E-AE11-319DA4616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D3F5E-D948-4A83-8179-20891F509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D8139-C98F-4060-8C84-197565187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ACD48-8F2B-47E5-814D-0477D44C1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0E37-EE9F-4414-86DE-D4FAD76CA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F5A59-65EE-4FEA-B2D7-BE7EF2A7E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1DC89-DCAA-427D-AC51-607E7EFB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0D567-3F57-4901-9EFA-F1601AF4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2D65C-38DD-48FA-8F36-A8BC448D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64A29-2809-4139-9BE2-EA6292EFF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7A592-1EBA-4BF6-A622-AC6040781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07541-B3A7-407A-9D17-784D84E84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78F02-1486-485E-AF75-580EEDD95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F7ADE-9681-4346-840B-D7BAC5771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E899B-ED1D-4664-98EB-9B7341BBB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7319-6E0D-441E-9E85-3483AC941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E0FD0-1126-444A-A84B-6BD442B8A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3760D-B5A8-4B13-91DE-211BD493A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863F9-E819-472B-BAE7-E941AF129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E0A6D-F597-494A-B55C-B6D2B56B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F37EF-B7E8-4DB7-9F62-D1AA582D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2A4FF-A0C7-4A47-AE5F-2C3318F6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B5071-6308-4D41-878E-AD325F7B5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4EF46-28E1-4240-AF35-39E5A56BE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0F8A2-378A-46DC-AD6E-CD78EADC3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809F6-BBAA-41EA-B288-EDBCCE323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6DA3-6305-416F-A2D2-609A43102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97CCC-0A01-44F4-AA54-1EAC5FF72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2F955-E02D-4DED-B15E-27405E2E9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A0696-AF49-44FC-9F96-E4CA61604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8E179-7415-4759-B0EA-3E9B88F7D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3D88C-684F-4F99-A3A5-9BF5DEDFD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83E13-9405-47D7-916A-7DA47ABE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0118E-903E-47B9-82BC-AAD2B3F2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899FF-7CF9-4628-9036-B417BD84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56F9F-E450-4861-9088-4DAF0C058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15FEC5-149D-4AB3-BA54-E37648860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0388-DE7F-461C-BAA2-F660FD1E7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1A890-AED5-42CA-9493-27A78A24C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F47C4-88F1-485F-BCB4-70E5BF8B1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506C7-52DD-4BEF-84AF-2AD166E51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7EFBD-875D-41BA-A33D-396722070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2A6AC-BD50-47CE-86A0-A5E95C220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33D6B-FE06-4D31-85F6-C5F60906E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0D8EC9-F035-4211-BFED-C0B5FEDC2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2C5A0B-59E4-4766-A31E-5F86BEAA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2CA31D-1C87-45E2-A3DF-B78B06F6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A332F-B29A-4C67-9D2B-783C3128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A087-F11B-4D1C-BC40-2E43EE89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524D9-639D-4B9F-8932-F712A78CB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27CD6E-CA01-45CF-9D7C-D3C4935E8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F4714-15E3-4EE0-86BC-339369EA1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9FBCE8-318A-41FF-A7C7-D5A152956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0FD2A-A32E-4188-80C8-E33B431F5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9CF701-C151-4274-8953-86532F7CB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CE6CA7-169A-4766-8084-76259A161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6443FA-5BBF-4A7A-A9AA-228EF57D1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5FE86E-4765-43A3-A377-AB6D3FD9B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B8FA0D-D596-4BA3-9BF8-4B95B4DD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2C0D-FE08-46CA-9C7A-A9DE2CAB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7F17F7-6D25-4F04-846D-FFCCA808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3718DC-F646-481A-880B-22294B8E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F665F2-EB0B-4B45-A709-A68475AEA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B1F077-546C-453B-9FA5-43145BC41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B5910D-36B6-4ED2-A8A3-CB8734BAA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372540-86D8-43A4-B11A-930392376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31253A-DCBC-4396-B1BC-ACDF4F14E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CC3629-A0C0-4771-AF3B-7677B098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D1F6A1-B28D-493F-9518-19C074F63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A2F356-720F-4E0C-8D5A-E74265216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BCB4-AFE0-45B7-B26F-05A48E37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6D5C28-E2AA-41F5-BB99-BDB914B7F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A5EACA-87FC-4EFF-992C-51507AA7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052716-20EC-4D8B-BF6F-7DE1FC06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0A6B9B-FA29-4073-9A0B-8587E928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6A57B8-A366-48D9-92F8-A5AE5F507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EDF8BE-B268-47FA-BABA-69340D306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34443C-5863-4E1A-BE3F-18629A5A6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6C67BD-505B-46C4-98E6-1DF78DC89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F18762-D534-4C1C-9C48-5E02ABF06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A9BEC4-B930-43A7-B9F8-8A3B40BD4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020600"/>
            <a:ext cx="7772400" cy="51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59aaf2"/>
              </a:buClr>
              <a:buSzPct val="80000"/>
              <a:buFont typeface="Wingdings 2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03228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4004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C75AA-CBBD-4A67-9C9D-110DBC43B84B}" type="slidenum">
              <a:rPr b="0" lang="zh-CN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2"/>
          <a:srcRect l="0" t="0" r="0" b="88574"/>
          <a:stretch/>
        </p:blipFill>
        <p:spPr>
          <a:xfrm>
            <a:off x="0" y="0"/>
            <a:ext cx="9144000" cy="652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685800" y="4752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fef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6" name="Straight Connector 9"/>
          <p:cNvSpPr/>
          <p:nvPr/>
        </p:nvSpPr>
        <p:spPr>
          <a:xfrm>
            <a:off x="0" y="652320"/>
            <a:ext cx="9144000" cy="0"/>
          </a:xfrm>
          <a:prstGeom prst="line">
            <a:avLst/>
          </a:prstGeom>
          <a:ln w="381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0E591-8625-41F3-961A-09911A5C2D4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8557D-F876-42A5-90BF-7739B0F1042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0A6FE-EE37-42F2-9163-06BE230867A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01FDF-A291-4507-9B17-15381C05AD0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24828-B650-40A1-AA4B-079579F61F9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0EB25-7879-4A4E-8908-0EFD5A84A2F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84FDF-5E3D-4865-A89E-A48338CB6B4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D3A18-FD79-4AF5-A94D-EF4F82B9C24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D4279-2C72-4084-8EEC-4542767CA9B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B062B-A365-458A-B05C-15892CA97E0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"/>
          <p:cNvPicPr/>
          <p:nvPr/>
        </p:nvPicPr>
        <p:blipFill>
          <a:blip r:embed="rId2"/>
          <a:srcRect l="0" t="0" r="0" b="88574"/>
          <a:stretch/>
        </p:blipFill>
        <p:spPr>
          <a:xfrm>
            <a:off x="0" y="0"/>
            <a:ext cx="9144000" cy="652320"/>
          </a:xfrm>
          <a:prstGeom prst="rect">
            <a:avLst/>
          </a:prstGeom>
          <a:ln w="0">
            <a:noFill/>
          </a:ln>
        </p:spPr>
      </p:pic>
      <p:sp>
        <p:nvSpPr>
          <p:cNvPr id="44" name="Straight Connector 9"/>
          <p:cNvSpPr/>
          <p:nvPr/>
        </p:nvSpPr>
        <p:spPr>
          <a:xfrm>
            <a:off x="0" y="652320"/>
            <a:ext cx="9144000" cy="0"/>
          </a:xfrm>
          <a:prstGeom prst="line">
            <a:avLst/>
          </a:prstGeom>
          <a:ln w="381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10" descr=""/>
          <p:cNvPicPr/>
          <p:nvPr/>
        </p:nvPicPr>
        <p:blipFill>
          <a:blip r:embed="rId3"/>
          <a:srcRect l="8456" t="14733" r="8567" b="0"/>
          <a:stretch/>
        </p:blipFill>
        <p:spPr>
          <a:xfrm>
            <a:off x="0" y="560520"/>
            <a:ext cx="9156600" cy="5136840"/>
          </a:xfrm>
          <a:prstGeom prst="rect">
            <a:avLst/>
          </a:prstGeom>
          <a:ln w="0">
            <a:noFill/>
          </a:ln>
        </p:spPr>
      </p:pic>
      <p:grpSp>
        <p:nvGrpSpPr>
          <p:cNvPr id="46" name="Rectangle 7"/>
          <p:cNvGrpSpPr/>
          <p:nvPr/>
        </p:nvGrpSpPr>
        <p:grpSpPr>
          <a:xfrm>
            <a:off x="0" y="0"/>
            <a:ext cx="9144000" cy="4711680"/>
            <a:chOff x="0" y="0"/>
            <a:chExt cx="9144000" cy="4711680"/>
          </a:xfrm>
        </p:grpSpPr>
        <p:pic>
          <p:nvPicPr>
            <p:cNvPr id="47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470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0" y="0"/>
              <a:ext cx="9144000" cy="471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" name="Straight Connector 9" descr=""/>
          <p:cNvPicPr/>
          <p:nvPr/>
        </p:nvPicPr>
        <p:blipFill>
          <a:blip r:embed="rId5"/>
          <a:stretch/>
        </p:blipFill>
        <p:spPr>
          <a:xfrm>
            <a:off x="-54000" y="4687920"/>
            <a:ext cx="9271080" cy="1461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685800" y="1020600"/>
            <a:ext cx="7772400" cy="51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59aaf2"/>
              </a:buClr>
              <a:buSzPct val="80000"/>
              <a:buFont typeface="Wingdings 2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685800" y="4752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fef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4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03228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4004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9621-88F3-42A0-9A9B-CC4AAE67C435}" type="slidenum">
              <a:rPr b="0" lang="zh-CN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745A1-09E0-41A1-B566-BD114B7856F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11A91-F0FF-4DB0-A5AB-D4BB48C762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43C28-90D5-429D-83EF-F7202371F9B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B0838-0FF0-4BA1-B407-B80968C6A6E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AE7DF-77D3-4ADA-A824-53BE6BE5E47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C48D1-23C2-43C2-86EA-CDB5E9494A8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F716C-01FB-43C8-BD66-8B647A5BD62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64CA0-E668-4E68-A15A-79928837A68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5657B-4CD6-4372-AA81-BA28FBE0FA5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8BCCF-4951-40B2-AD16-2A603BBDC9D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D2EBC-B98B-4B41-B1A1-0E6378256AE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C76BD-1FCD-4F6C-B055-9A63DEBDD4A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99EB3-1D43-4B3C-9F2C-A73062BA3D3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F65AC-3E83-4DE6-B5E9-1C795745E80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Title 1" descr=""/>
          <p:cNvPicPr/>
          <p:nvPr/>
        </p:nvPicPr>
        <p:blipFill>
          <a:blip r:embed="rId1"/>
          <a:stretch/>
        </p:blipFill>
        <p:spPr>
          <a:xfrm>
            <a:off x="682560" y="1603440"/>
            <a:ext cx="7772400" cy="2146320"/>
          </a:xfrm>
          <a:prstGeom prst="rect">
            <a:avLst/>
          </a:prstGeom>
          <a:ln w="0">
            <a:noFill/>
          </a:ln>
        </p:spPr>
      </p:pic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1143000" y="5035320"/>
            <a:ext cx="6858000" cy="116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Title 1" descr=""/>
          <p:cNvPicPr/>
          <p:nvPr/>
        </p:nvPicPr>
        <p:blipFill>
          <a:blip r:embed="rId1"/>
          <a:stretch/>
        </p:blipFill>
        <p:spPr>
          <a:xfrm>
            <a:off x="682560" y="49320"/>
            <a:ext cx="7778880" cy="65700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 txBox="1"/>
          <p:nvPr/>
        </p:nvSpPr>
        <p:spPr>
          <a:xfrm>
            <a:off x="685800" y="1020600"/>
            <a:ext cx="7772400" cy="51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59aaf2"/>
              </a:buClr>
              <a:buSzPct val="80000"/>
              <a:buFont typeface="Wingdings 2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此处添加文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59aaf2"/>
              </a:buClr>
              <a:buSzPct val="80000"/>
              <a:buFont typeface="Wingdings 2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此处添加文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59aaf2"/>
              </a:buClr>
              <a:buSzPct val="80000"/>
              <a:buFont typeface="Wingdings 2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此处添加文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8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7-23T08:07:10Z</dcterms:modified>
  <cp:revision>1</cp:revision>
  <dc:subject/>
  <dc:title>PowerPoint 演示文稿</dc:title>
</cp:coreProperties>
</file>