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FEC-0C1C-4725-984C-796D3FE0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7BBA-1052-4968-BEDA-5EB52630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D30F2-F6D7-465C-91B5-5D2868A2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2300B-E80A-4274-B6BF-F7C7B492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1EF66-C70D-466C-A342-5F0D4B7F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88AE4-3F70-4B2D-9388-E6E36F56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73E07-6066-4E2B-AC48-4D769287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AA376-A94C-4224-9743-761AECE7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BC072-1E53-42AC-B269-B3788439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313E7-4BF7-47FA-97D3-68AF6B7B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CADBA-8892-473D-BE6A-FA3A60E4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44553-C716-4249-B122-63CCE039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3AE-4E26-4ADF-9AAC-1FE79E71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26A46-2727-44E4-8A95-993E16B4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1C1A5-717B-4449-A890-668561A4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FCD77-E362-42DB-B1B2-DB7778DB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781F1-37B0-401C-8406-EC533E20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50965-2A9C-46A4-9F52-3DDE39C6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3B113-63F4-4575-A93A-E219FA4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1CA31-567B-4A24-9DCE-B3AB237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0E77A-4612-4CD4-88E8-745DD7C7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B4FC7-C1E4-4C5F-8732-2A84573A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635F7-15A0-49E5-B989-387B0B00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6C8-7874-4076-91F1-7643DF54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E7112-47B9-4B54-8013-2F8ED613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C2451-D3E1-426C-8473-0A51EAFF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2220C-5F8A-47F8-9871-6A0ECD7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B86A8-3347-403F-AA4E-90F482A9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04235-431F-4CF8-AD84-EC3C717B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883CE-15A2-4FE1-B1F7-90D96730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61FBC-3146-4880-95A8-3F8B73C1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04827-BA40-4D08-8273-8777A80A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A216A-7EB8-436B-8154-A34B6074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EEADB-CBA5-47B7-B9BD-A50D6506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7913-B7EA-47E3-8FCB-E171F121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BE217-9E03-4A41-B5F1-CB47BCBB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BF0E3-6803-4C7F-AEED-20F85423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D5185-62FF-4839-B527-3944F5B8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3C4A7-F221-4714-9EEC-F6C99241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FDCA1-2DB9-4DC1-ACFA-203AC27D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7A076-054A-4434-A63F-4937C546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EC1BE-85A6-452F-80AC-8C262E32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29706-9026-4781-83FB-67786DD3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D27E3-C8EA-41DB-BA93-A15EB757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D05E3-E262-4A53-9EEB-527D382F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94B8-3E3F-4F15-8217-84D41BAC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762A5-4974-4126-8002-67B587F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8C8CB-F48D-48E7-9495-CC068DB8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4D0CD-1B41-4A05-89DD-9A82756B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78914-AF88-4825-A089-6D9BE35B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37F72-F621-465D-B06A-35712E5F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3B04D-8CB1-4E6F-BCC2-7E07342E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81FDF-4AFA-467A-9F30-FE177204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D6B5A-25B8-4273-8E40-1555A9EA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3BB1C-FAC2-47CB-9A37-F5CC91A7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FA95B-F169-452C-9BBE-8CD0D455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16AD-06BB-4FE8-9608-60CEDE2E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D9CE3-2125-4261-AE4C-2519F55F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76D01-8670-4FF3-942E-FC3F7E0A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EAABF-0970-4B8B-939C-A45E66B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FEE45-B2AA-4FD6-B536-B96E90FF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49DFB-4F6C-4C22-9C7D-C5CC5B63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42E73-611B-487F-AE41-DD403BAF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41ACB-1C34-4D68-982F-DCE3DD0A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7628B-4D44-4985-B5E9-BFAD2435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CCC41-7457-4377-9FA0-9694250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E8BE9-8223-46E4-8483-C598FBAB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391A-FA79-421E-8D55-F59B582C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373D8-1828-47DF-A376-A31B7803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B4959-5DC6-4952-97ED-07369DEF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2A1A4-353F-4626-948F-7D16D41F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2D7D5-7C1A-4CC4-A4C0-B269B436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77E93-74F2-4B17-9973-9CAE31F5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403EF-AF18-44E8-B848-0A4189DE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A31A6-2EC9-42CD-A0EE-D961333A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765B1-73BC-4B25-BD01-EC025353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25096-C171-4604-8174-BA200B40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EE75-6C9F-448E-A1ED-444DF406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3A21-396C-4475-8BB8-A68250B2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C9E6-6ABE-43A9-A69F-56E7E8A3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4A5-ACE9-4992-A556-65B34B21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78A6-E13E-419D-8C8A-4200B764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2569-AE5F-4A30-8944-81A1977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B57E-8AB0-4E6C-ADE5-74900378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5E14-D888-40B5-B139-EC75ED6F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4B00-537F-4676-A187-6C4C9DD1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A97FB-8AAE-4658-9828-862FA684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F218-7899-4684-99DF-3F95A768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2A62-A6F4-4DD4-943E-25DA57FC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EF82-CFEE-4BC2-8829-36CD24E3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8F25D-2959-4B79-8509-38BEC40B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1D7-CE0B-41DA-91E8-0AC3CDF3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48C7-B479-4D63-BA98-5CBD3B70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3C1B-781A-4C3D-8A7D-A0775380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2A99-AF13-4AE3-822C-C7D517F3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4BBC-04F5-4293-BED6-41F30BC4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D7E3-339C-4AEE-9873-67260217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F41A3-D61B-4F78-9F59-2DB8E4F2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21AF-13FC-4857-9BA3-4B59F51A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E07F8-FBD8-45FC-A354-14BF3E23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6FAD-D75D-41FC-A840-40F45D38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074C-15AE-4D36-988A-0BE95397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EFD-325A-4432-AEEE-4BB90985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4CB1C-1AA7-45EF-83E1-C28CC944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49B15-058C-45E8-985C-6F0EA329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0F3B-C507-4C4A-904B-7C004DB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9B81E-64A9-4ED6-AB63-1DEFFB72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86A5-FFC6-4F20-9B47-B63A93C2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9F44-57CD-464E-AAF4-FB6AC5E3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4D0AE-45A2-4B64-B62A-675145AA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A3270-FF55-46FB-94C2-83FB6B78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9863-8ECB-41B8-918B-77779B61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A933E-CE34-4CFF-89D7-9292D766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78D-A0C4-4802-B57A-7646F557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9E4A-ED37-451B-ADB4-3D6F0C2F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A1BF9-A242-4732-981F-72DBD94A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24BB2-81A1-4EAE-BE45-363653B2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4A306-6F22-4F55-AF41-849281D5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8C585-32AA-4391-94BF-85EC9A5D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7293-BDAE-48E5-B40A-B24BE1E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C3D3F-588B-4FC6-B915-C47E12E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44160-EE59-494E-8594-D90E9A67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5AB8-6729-46B4-9378-B4EDE9BD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0CAD7-2E88-4E5E-A2DC-CF9A3E75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ABE-ED08-42D6-A7BD-D24EB9C6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4CDD3-B496-42A9-AC98-8D7F4568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3FB94-5CD3-4B82-AB3F-11E03B48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462E2-A7EA-4518-B1A3-4B9C879B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4DE29-2B2E-443D-A489-0F640E22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65BCC-C708-4AB3-9CE8-450153EB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28099-00B1-495E-878E-022D04AC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DB6BA-6B00-4D4B-9F87-26CC5EFD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8F671-2197-46E2-B855-5D8E4FB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717DE-F3F5-4809-9F5E-8D55E07C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79889-CDAD-4676-B2E3-5DFF0DEA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1BE-581F-4719-9586-55288CE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541B2-96E0-4B3E-9929-419E4402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A0A5D-442B-4D5E-8C7B-8FFE1EF3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3EAEB-CE20-42C3-9976-7F64203D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8C193-7550-4E0D-8D44-FE7CD7A0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D76C5-79BB-44BA-9777-7B54A93C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4D09-4C1B-4A81-839D-93E98C7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F4306-863B-4154-AE67-F8FAB716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3FCDA-61F9-4673-BE06-2D6B2178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C2331-B5BF-41CC-AE8F-53A55868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7B58F-D12F-45F1-B24D-33FA177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7BD-629F-4F94-9313-BD1AC76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13ECF-F6EC-4D80-A72D-CEB1CD44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31E0-64B8-4830-93AC-AFF63A82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343E9-B969-4B85-B101-807BF0B9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2C79A-348B-4B5B-8D06-4B17219F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C1526-AF5B-4B07-8D43-C07F9D4E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83EE3-0D8A-49B5-B587-DA3ECB8D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43665-047B-4F99-900A-79EBEFC9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AF893-669A-4AAE-A94B-5C91909B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EA530-3094-478F-96F3-8DECCB61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09D6E-4415-4086-801B-ED58D757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575-13D2-4D70-A4F9-CD0FF799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50E5D-686B-4679-BEBD-F5F4FB04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E9034-C5F6-49C5-BCC3-8570D54B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141B2-2CB4-4E02-ACB9-E669F237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D160-E860-4635-966C-7CAB25C7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5FBEA-FF37-4001-A913-AB665910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DD5BC-6782-4B20-B5A6-3E7AA255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B0B87-403D-466F-9B65-74339A36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89879-FA9E-4DC8-8514-5ED7E967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E5E22-ECF3-4667-8FD3-F8011D34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C74C3-3B0E-48D2-8887-5A58337B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0" t="0" r="9633" b="0"/>
          <a:stretch/>
        </p:blipFill>
        <p:spPr>
          <a:xfrm>
            <a:off x="1163520" y="0"/>
            <a:ext cx="11023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ounded Rectangle 8"/>
          <p:cNvSpPr/>
          <p:nvPr/>
        </p:nvSpPr>
        <p:spPr>
          <a:xfrm>
            <a:off x="838080" y="325440"/>
            <a:ext cx="10966680" cy="6207120"/>
          </a:xfrm>
          <a:prstGeom prst="roundRect">
            <a:avLst>
              <a:gd name="adj" fmla="val 4005"/>
            </a:avLst>
          </a:prstGeom>
          <a:noFill/>
          <a:ln w="38160">
            <a:solidFill>
              <a:srgbClr val="fff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1635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240920" y="6356520"/>
            <a:ext cx="316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037120" y="6356520"/>
            <a:ext cx="279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80520" y="6356520"/>
            <a:ext cx="316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AB8C-7BEE-47BD-B18A-F010FFA2AF3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82D4-653A-40DB-8D69-EB638EEC31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32A1-C988-4647-A5D2-63F784AC47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3DAF-0E0C-49D6-9AB6-910FE3525C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7784-D793-474E-A963-C2215E26E2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8EB4-5790-4700-901D-5C9AEA3EBD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F4CA-9502-4887-AEBE-9AED51F02A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C81F-505F-4F05-8ADC-D108D355BE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715C-7855-4EC7-9502-BFED605869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4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7BFA-82C2-4FD4-8B7E-595E944E75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4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4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7D9A-A971-4B9F-BED9-FC0709EF98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rcRect l="0" t="0" r="9633" b="0"/>
          <a:stretch/>
        </p:blipFill>
        <p:spPr>
          <a:xfrm>
            <a:off x="1163520" y="0"/>
            <a:ext cx="110235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ounded Rectangle 8"/>
          <p:cNvSpPr/>
          <p:nvPr/>
        </p:nvSpPr>
        <p:spPr>
          <a:xfrm>
            <a:off x="838080" y="325440"/>
            <a:ext cx="10966680" cy="6207120"/>
          </a:xfrm>
          <a:prstGeom prst="roundRect">
            <a:avLst>
              <a:gd name="adj" fmla="val 4005"/>
            </a:avLst>
          </a:prstGeom>
          <a:noFill/>
          <a:ln w="38160">
            <a:solidFill>
              <a:srgbClr val="fff4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1635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rcRect l="18998" t="0" r="0" b="0"/>
          <a:stretch/>
        </p:blipFill>
        <p:spPr>
          <a:xfrm>
            <a:off x="0" y="0"/>
            <a:ext cx="98758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5"/>
          <a:srcRect l="64763" t="0" r="16252" b="0"/>
          <a:stretch/>
        </p:blipFill>
        <p:spPr>
          <a:xfrm>
            <a:off x="9863280" y="0"/>
            <a:ext cx="2328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387360" y="4076640"/>
            <a:ext cx="9475920" cy="201636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ounded Rectangle 8"/>
          <p:cNvSpPr/>
          <p:nvPr/>
        </p:nvSpPr>
        <p:spPr>
          <a:xfrm>
            <a:off x="387360" y="325440"/>
            <a:ext cx="11417400" cy="6207120"/>
          </a:xfrm>
          <a:prstGeom prst="roundRect">
            <a:avLst>
              <a:gd name="adj" fmla="val 7560"/>
            </a:avLst>
          </a:prstGeom>
          <a:noFill/>
          <a:ln w="38160">
            <a:solidFill>
              <a:srgbClr val="fff4ce"/>
            </a:solidFill>
            <a:miter/>
          </a:ln>
          <a:effectLst>
            <a:outerShdw dist="38183" dir="27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Straight Connector 11" descr=""/>
          <p:cNvPicPr/>
          <p:nvPr/>
        </p:nvPicPr>
        <p:blipFill>
          <a:blip r:embed="rId6"/>
          <a:stretch/>
        </p:blipFill>
        <p:spPr>
          <a:xfrm>
            <a:off x="384120" y="5559480"/>
            <a:ext cx="9509040" cy="30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240920" y="6356520"/>
            <a:ext cx="316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5037120" y="6356520"/>
            <a:ext cx="279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80520" y="6356520"/>
            <a:ext cx="316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31BE-3823-4EBD-BAF6-91451F7EBDC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1DF5-68BA-4A0B-9DBE-FB0B4D5AB5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ACE8-5D11-4DBD-8A27-F1F00E7775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7A90-155D-4EBA-B5D2-B037E82165C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2EBB-B9DA-448E-99A8-A25FE704F5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4507-BFCF-4814-B426-1CAAE4A6D7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CD21-9295-488A-85A3-9F1D4D1ACA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D3CD-20ED-4A88-93DC-A774A5A912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7B32-EBE7-4FD2-87BC-149B8EA1DE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D6F1-298E-4127-AEB8-5861DEF7D5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0605-6B54-4434-A4D6-DAA2E861D6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4587-DB48-42D8-BE8F-7FF8BA7050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339B-CFE1-4D35-83CA-1FDDF8EE7D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6A0B-4779-4172-B4DB-5A1957655E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D110-630D-441E-B4D1-1F3E47F01C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74680" y="3100320"/>
            <a:ext cx="101109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 Light"/>
              </a:rPr>
              <a:t>X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XX</a:t>
            </a:r>
            <a:r>
              <a:rPr b="0" lang="zh-CN" sz="4400" spc="-1" strike="noStrike">
                <a:solidFill>
                  <a:srgbClr val="ffffff"/>
                </a:solidFill>
                <a:latin typeface="Calibri Light"/>
              </a:rPr>
              <a:t>秋招工作总结</a:t>
            </a:r>
            <a:endParaRPr b="0" lang="en-US" sz="44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1170000" y="565740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咨询中心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XX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部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88600" y="365040"/>
            <a:ext cx="10155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 Light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88600" y="1825200"/>
            <a:ext cx="10155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ca08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此处添加文本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057120" y="4498560"/>
            <a:ext cx="28242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75680" indent="0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Calibri"/>
                <a:ea typeface="黑体"/>
              </a:rPr>
              <a:t>谢谢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9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pic>
          <p:nvPicPr>
            <p:cNvPr id="5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07:37:57Z</dcterms:created>
  <dc:creator>邹恩栋</dc:creator>
  <dc:description/>
  <cp:keywords>XS-宽屏 16：9;SC-深棕色;BG-深色;DH-静态</cp:keywords>
  <dc:language>en-US</dc:language>
  <cp:lastModifiedBy>a</cp:lastModifiedBy>
  <dcterms:modified xsi:type="dcterms:W3CDTF">2014-07-17T05:52:48Z</dcterms:modified>
  <cp:revision>9</cp:revision>
  <dc:subject>TP-通用纹理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