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2D3-E2B4-4FC8-9C45-6B4497A2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732-6145-42A0-BEDE-EEF5C41A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07D-EE1E-4BC2-B6AF-3C80AB57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3F6-3290-4AB0-BAFE-9E5005E5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050-D7B2-4AE5-9457-FB3D3C5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A743-74A8-4E2A-9529-4FABC24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ED0-4B9F-4BD9-8A38-35209D6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7BF-658C-4A72-AE6B-6BFE36B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2AE2-371C-4672-8EFA-5993668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007C-AB0E-4755-B7FB-23ABC7A2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B9B7-FDE1-42BF-B7B6-5AC8E17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096-ED51-4726-9B39-50061F0D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FF1-7D8E-4509-AD2A-BBC96CA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918-0C23-4C94-8145-1B2932A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3020-38C8-40CE-9779-A7CF079D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26A0-02ED-4DCB-8AA3-F03A4742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A37-ABB1-4FED-AC37-6F59DCE8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315-B421-44E1-B3DB-9AD93BC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6F4-31B4-45DC-9138-9ACBE9E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16C-1DFA-4447-8E14-B44A4CA3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A11-6CCF-4124-8657-4A809F16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331-B973-48C0-944C-3CD93F1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29B-C08B-40DE-BD1B-70FB61C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01E-F0B1-4886-8C80-03E815B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B8D-9503-49E8-B78F-285AC59ECE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907-C52D-4D69-B72B-372C399B5A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CE8D-9C77-45A1-AD08-F1BF3A36A02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B83A-0233-48AD-9654-71D9915C1B9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8"/>
          <p:cNvSpPr/>
          <p:nvPr/>
        </p:nvSpPr>
        <p:spPr>
          <a:xfrm>
            <a:off x="31680" y="35211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携手校企与培训机构合作共赢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4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3" descr=""/>
          <p:cNvPicPr/>
          <p:nvPr/>
        </p:nvPicPr>
        <p:blipFill>
          <a:blip r:embed="rId3"/>
          <a:stretch/>
        </p:blipFill>
        <p:spPr>
          <a:xfrm>
            <a:off x="482760" y="263520"/>
            <a:ext cx="1800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74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75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7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8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84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89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92" name="直接箭头连接符 30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93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95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98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301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09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10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11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1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1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7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323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26" name="直接箭头连接符 18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27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1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329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3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3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3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4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4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1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45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4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48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7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51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64" name="直接箭头连接符 34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65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0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0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0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0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0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iamisis\Desktop\图片1.png"/>
          <p:cNvPicPr/>
          <p:nvPr/>
        </p:nvPicPr>
        <p:blipFill>
          <a:blip r:embed="rId6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418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4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8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8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8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8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8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Users\Administrator\Desktop\对勾.png"/>
          <p:cNvPicPr/>
          <p:nvPr/>
        </p:nvPicPr>
        <p:blipFill>
          <a:blip r:embed="rId6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97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1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61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62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6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6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6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7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3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63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63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63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64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642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8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50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6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58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5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67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38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70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41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73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44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76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7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79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13 CuadroTexto"/>
          <p:cNvSpPr/>
          <p:nvPr/>
        </p:nvSpPr>
        <p:spPr>
          <a:xfrm>
            <a:off x="8252640" y="481644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21"/>
          <p:cNvSpPr/>
          <p:nvPr/>
        </p:nvSpPr>
        <p:spPr>
          <a:xfrm>
            <a:off x="405324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2" descr="C:\Users\iamisis\Desktop\未标题-1.png"/>
          <p:cNvPicPr/>
          <p:nvPr/>
        </p:nvPicPr>
        <p:blipFill>
          <a:blip r:embed="rId2"/>
          <a:stretch/>
        </p:blipFill>
        <p:spPr>
          <a:xfrm>
            <a:off x="2452680" y="2590920"/>
            <a:ext cx="423720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9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2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3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6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iamisis\Desktop\964b2e4e98c270f3d0c86a3c.jpg"/>
          <p:cNvPicPr/>
          <p:nvPr/>
        </p:nvPicPr>
        <p:blipFill>
          <a:blip r:embed="rId7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13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4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4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4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4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6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49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58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6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" descr="www.tuweimei.comComp_10783851_QD0pL2fbu4Czmg2COkwX13qtD9JN38YK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7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7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7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8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iamisis\Desktop\崔老师的PPT\培训02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9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9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9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C:\Users\iamisis\Desktop\图片1.pn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06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07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08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1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" descr="www.tuweimei.comComp_10410381_VJW8cYTeX0nAHfLOmrS2Ufq23wyNA9RW.jpg"/>
          <p:cNvPicPr/>
          <p:nvPr/>
        </p:nvPicPr>
        <p:blipFill>
          <a:blip r:embed="rId6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219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23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3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3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3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11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39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图片 2" descr="optaros-homepage-raisethebar-thumb.gif"/>
          <p:cNvPicPr/>
          <p:nvPr/>
        </p:nvPicPr>
        <p:blipFill>
          <a:blip r:embed="rId6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42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3:24:52Z</dcterms:created>
  <dc:creator>sg</dc:creator>
  <dc:description/>
  <dc:language>en-US</dc:language>
  <cp:lastModifiedBy>a</cp:lastModifiedBy>
  <dcterms:modified xsi:type="dcterms:W3CDTF">2015-01-14T13:26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