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CE35-D4EC-47ED-8D5E-EE1B979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607D8-3C19-404E-AEA7-7C91E95D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6D7D1-23A8-4259-905A-4AC7F43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CFEF-B123-4339-8FB0-B699BC8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1EAB-9386-4D0B-A2BC-D75A741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B1BC6-32BB-44A4-9842-F618C62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7697-AA1D-4D48-99A0-8F9A020B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836E-51A3-45D7-B2A2-5052EBAB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7C8DF-1B21-4E0A-8A02-8F5371FD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5C466-F8DA-4A8B-BF27-FCD085E1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4ADBE-E84D-4DB4-877C-B039F87E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3CC6E-7AD0-4A73-BD00-58E6B670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31050-84BE-4F13-A2F0-ECEE966C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ABE48-D61D-4B8C-9E86-EBF0B77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3DAD2-00CB-44FA-ABF0-2187FE21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3179F-5145-47D9-8BB4-AF187A7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849C6-A13B-4913-919A-99073FD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6148B-8D60-4B5E-AAFE-C8F3C63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0AC6B-6811-49D1-AC6B-8FB2C9F6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8B246-D645-479F-8B2A-E30FE5A6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E085F-283F-41E5-8E5C-74845454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2EAEF-FC23-418A-BF46-18F25A6F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5E2D0-EBBB-42BE-B6A1-F8C3F0FF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A4E56-4774-4000-A703-BA44DDEF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B432B-7924-4B22-BCF7-A3295907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BBA6F-067C-4153-B7A6-B3E9F986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E06E0-8666-4E18-A70F-90ED1696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78EF1-56BD-494E-B8E7-82741C8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14B6C-470B-463F-A350-8448B6E0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4E428-B934-4882-A40D-21C8207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946-4219-44C8-A0C9-7E16D603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76654-9503-4F56-80E7-90C6CF41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F60E1-6F00-485C-AEBE-36245096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76177-F298-45DA-9AE8-32666C6C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81D73-3F02-4785-87C3-6CB58058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3D0E4-9CEC-45D7-B244-F5E98102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1D24B-F68E-4BF2-AA6F-65C2C348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BC6CA-2140-415E-A374-F738EA3C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04BA5-DFD2-43AC-81A4-FAB3173C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08160-67DF-453D-9167-40ABA826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FC202-70C5-4FCF-A938-C1621415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786-02A7-4F5C-BD4A-293951FC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7DF4-33F0-45D6-AE07-2A684BF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BAE6-16C8-4D7B-BFEA-31C1425E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DBE6-A981-4F4F-BDD7-16CAD045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70D7-8F56-4A88-BD7F-7A40DF76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717E1-FBBC-4EC4-9791-546A4127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C16FB-F392-44E9-BCCE-D7E5723F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C9189-6391-4D41-AD1D-BA00DF7A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72AC3-EB6A-433A-A2D9-602F36C5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2498E-1ECB-4DB6-A926-4FCAB7C8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07E07-7062-4CEA-BA9B-63908E8C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B35-3465-42FB-92EC-5787F259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ED220-91B7-4D74-9A07-F5E4533B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666BA-6EFD-4DC1-8A45-E9BD5D1C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29FBB-30A0-4EA8-95B8-7226E84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146BC-C308-44B4-B10E-692EB13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A98B1-EF86-4884-B01E-A5B6C98A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4E708-D656-438C-AA57-B98FCED3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30B13-0E5F-4C30-8ADC-D0469A04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567-64D7-4615-8D4C-554207B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00A-0FBA-4C1C-B01F-AEFA6D19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F8B-507A-4F16-95B7-3AF9D05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8B4-E5ED-4EC3-8935-1AE3FFD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66A-9A89-469B-A8FE-9E0C790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790-7B3F-48D5-9EE3-006D206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41F-0BF2-4E7F-B8EF-26B1394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D5F-446D-429C-96D3-F3C2C275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458-8180-4DCE-9C6B-0A83AA40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DFB7-596A-4A6E-9FE7-B0C1D3B4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62D-154E-42ED-BC42-3F98E77F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E9E-60F8-44C3-ABA5-CAAF3FB8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3A9-C0E0-47F5-8445-AA13F5E2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8FE0-F835-46D2-87D6-8A811A17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03B1-D100-4303-B02A-93853CF5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F738-316B-49EB-99CE-AAFFE2F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3633-ED89-465E-84A7-51E2F75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C9C4-5A6B-477A-8491-059A648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D357-A6F7-450D-860E-FF5920F1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EB38-9BA6-4E75-AE15-21F8E283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F329-4444-4133-923B-5F1B831F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739C-2612-484E-9D3E-83833C22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FDD9-6AE4-49D5-9F4D-EEC1E695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3B66-A5A3-422A-8754-32DD7AF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C8A0-22E8-471E-ACFA-C6A48B21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FC22-05C5-4712-89E7-9248E50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C81F-B589-4660-9DD6-DE742BF6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C4D6-C76C-4514-9107-00BDE80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46DB-919D-4D5D-821A-BC254E6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7722-F27B-4EA7-BB0A-7D46EA7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03C6-E628-4D1B-BF92-42B5CEE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6021-3798-4125-A99B-D81F454D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634F-0702-46B9-8E75-87893213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5EA8-C094-43C0-AE9E-1C4753AC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3FDC-9F47-45E3-89FE-7C40D3E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5C9A-6B0E-4324-975D-6268027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4EF3-C3A1-4F0D-810B-B8004F69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602F-BBB4-4DC5-A310-D5AF186C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837A-3035-42FC-9C99-6CCDBFD2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B50C-F1F9-4821-94B6-79F1814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CDBA-B096-42CE-8C2B-18695FC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0EBCA-0404-4E0A-8995-69F5A6C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5A1C-C9B1-483E-AB31-31AB1C7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3424-67A1-48E4-9A9D-A95E683F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AB42-BE8F-4C27-9A70-2EACF347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5B0F-E126-4EE3-AC1C-90F8A7DC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4D74-D4C4-441C-9B42-37C78489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6073-09B9-4753-849C-6396883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10BD3-CF52-40F7-B803-5102EE0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E61E1-128D-449B-8965-AA737EC9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4C4D-5196-4F53-9244-98D595C7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2577A-20B9-44CB-9772-50090F48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E192-1329-44A8-9865-BD1B031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39B92-0841-4796-B12D-D0C1C2A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9740-46D5-459F-B69B-E775A88B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413AC-04FC-4985-AE3B-415ECD33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36F6-E1FB-42DD-9CD1-BB0E32DC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0C8F-1C87-451F-8C97-D53C21EB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8ED38-2C9F-4107-8D36-060EBE0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16F71-D4D0-454B-8219-3DBED661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9747-9555-43D8-AC0D-232D42C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3EC5-BBA3-4E69-8D5C-81C6DA34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40E0-776C-4EE6-B5C0-E97C0B95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E322-68CC-4B0B-9E65-13DEF6BD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5E0D-A89F-4076-A16C-01ED965E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2BCF-CA38-4880-A8C9-2B52DF0B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2824-2BA8-478B-98F5-759276B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F1458-BB7E-40FD-BC29-4C7B7FF6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0BF2C-502C-4413-82D8-86765DAD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CF5EC-51CB-4276-B5ED-EAF4EA8B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C642-6B9D-43D5-93C6-8063DC33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03B1B-0C6E-4771-A084-BC6554B4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E9788-93EE-4016-9E22-0967BCA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8814-1865-47DC-8AC8-C9CA9971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7B0E-192C-41F0-B7DE-2E07946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85A0-75D1-401C-9AFB-EE4B377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A8099-B09C-4724-9877-A166BCF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EC1BD-A29C-444E-B4BC-77B51EF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07E04-42E1-47FB-866B-AFEEDA9D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466D-9620-4A0B-95AF-B81965C0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D419-7C4B-4322-B5E2-E6AA18A9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92993-A4DC-4FBA-9F73-52290FF9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56BCD-764B-4FAA-A09F-B9926C56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39C5F-BEF8-450C-8E08-E365830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480" y="785880"/>
            <a:ext cx="7872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" name="等腰三角形 6"/>
          <p:cNvSpPr/>
          <p:nvPr/>
        </p:nvSpPr>
        <p:spPr>
          <a:xfrm rot="19778400">
            <a:off x="-140760" y="-28440"/>
            <a:ext cx="568080" cy="49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965-6B54-40EC-83F6-C318C4DB64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E052-4294-46F5-B215-5B6AA2389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9400-69EF-4F78-A61D-BDF64369CB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B22E-0001-471E-B03A-6CE7A304F2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DFDC-D38E-4890-80A4-76D31CCE29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6196-8EE9-4C37-BA33-1C86EE610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BE00-8E62-4B6F-B34D-9C8CA442B0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E611-16B5-4AEC-AFF1-01B5C5EEA2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413-4A68-488A-A9E8-0031C1356C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3C9D-3EC4-4CC2-9F4F-50B194891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F96D-0513-42B4-A5AF-2E85859A29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D234-4345-4C95-A02C-AAEB399C0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E288-7275-4A03-90B6-7A7C923559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1465-8080-47DB-82FF-1F16E85EA3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E2CB-8943-4018-985B-7E67B41880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45C9-53DD-417F-8FB1-0C68FDA26E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252D-F00E-42FC-9800-6D1FF4E4E0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047-6087-43A9-9BC2-C31F317B0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EF25-1DC1-44DC-804B-55D17BA8F8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6B46-53F5-4581-A2DC-618E921C6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3E19-10B9-4E2A-8CA2-314230A7A1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2552-113A-440E-BD77-CFB4C230A3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ABB6-F9A9-4A5F-A60A-2842D85D02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E9ED-B7B2-4994-B8E3-BD74007DB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Entertainment in Mathematics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143080" y="328608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- Dr. Meyer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1424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Introduction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42960" y="92844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Fall 2007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Play exploring nature of infinity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Following Semester, Spring 2008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Game Show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d8d8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Game Show Conten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d8d8d8"/>
                </a:solidFill>
                <a:latin typeface="Calibri"/>
              </a:rPr>
              <a:t>History of calculus and Fundamental concepts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1424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Content</a:t>
            </a:r>
            <a:endParaRPr b="1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6" name="Oval 10"/>
          <p:cNvSpPr/>
          <p:nvPr/>
        </p:nvSpPr>
        <p:spPr>
          <a:xfrm>
            <a:off x="6791400" y="4003560"/>
            <a:ext cx="1398600" cy="1422360"/>
          </a:xfrm>
          <a:prstGeom prst="ellipse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2146320" y="2247840"/>
            <a:ext cx="5207040" cy="2576520"/>
          </a:xfrm>
          <a:prstGeom prst="upArrow">
            <a:avLst>
              <a:gd name="adj1" fmla="val 57824"/>
              <a:gd name="adj2" fmla="val 54394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>
            <a:off x="3035160" y="4003560"/>
            <a:ext cx="1398600" cy="1422360"/>
          </a:xfrm>
          <a:prstGeom prst="ellipse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1790640" y="1503360"/>
            <a:ext cx="5451480" cy="539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0"/>
          <p:cNvSpPr/>
          <p:nvPr/>
        </p:nvSpPr>
        <p:spPr>
          <a:xfrm>
            <a:off x="1214280" y="4006800"/>
            <a:ext cx="1398600" cy="1422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1316160" y="450360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8"/>
          <p:cNvSpPr/>
          <p:nvPr/>
        </p:nvSpPr>
        <p:spPr>
          <a:xfrm>
            <a:off x="3079800" y="450360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0"/>
          <p:cNvSpPr/>
          <p:nvPr/>
        </p:nvSpPr>
        <p:spPr>
          <a:xfrm>
            <a:off x="4933800" y="4003560"/>
            <a:ext cx="1398600" cy="142236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4"/>
          <p:cNvSpPr/>
          <p:nvPr/>
        </p:nvSpPr>
        <p:spPr>
          <a:xfrm>
            <a:off x="4857840" y="4503600"/>
            <a:ext cx="14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1"/>
          <p:cNvSpPr/>
          <p:nvPr/>
        </p:nvSpPr>
        <p:spPr>
          <a:xfrm>
            <a:off x="7173360" y="45036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4240" y="26431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39:00Z</dcterms:created>
  <dc:creator/>
  <dc:description/>
  <cp:keywords/>
  <dc:language>en-US</dc:language>
  <cp:lastModifiedBy>a</cp:lastModifiedBy>
  <dcterms:modified xsi:type="dcterms:W3CDTF">2014-07-19T08:57:32Z</dcterms:modified>
  <cp:revision>2</cp:revision>
  <dc:subject/>
  <dc:title>Entertainment in Mathema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