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4922-73A0-4A9F-8BB0-680766419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A878-9D74-4D86-8E10-5BC567A8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C55F-7DF0-48F1-A614-475DBC904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895C-AC90-403D-B579-3C64E73B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6ABE-985C-4150-9059-CAE33C7F6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2901-18DA-4D1C-A0DC-32669024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11EB-9439-407D-80F8-27E63C97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D390-E35A-4192-81DC-D4C0D26B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58EB-7A2D-4305-AD61-721E5B50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0EFA-A038-41FB-939A-A117C68F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37A7-C8C8-4D0A-9025-E38EA8A4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AC91-1570-4ED9-BE3B-62734316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8D67-29A7-4B18-89A5-67F69548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CC01-3E36-46D6-AB40-CC0368C9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E3A6-2B77-424C-8126-CC65BD7F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40D9-8F12-4C79-9840-107D4F75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1952-8240-42F5-A821-D7B70CC77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85AE-C650-4357-A05A-EECEEC91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CD2C-0249-4982-937A-E6FFFCEA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1EA1-B7BA-44CA-B396-8F9C47A4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D892-3596-472E-8682-4C687F28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380A-441A-4DFE-9C92-DC761643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BBE1-83E1-4FAD-BBE2-4F7C0478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DBB6-FDB0-4B47-B2EC-90D43581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216B-C791-473D-9A97-9D2FC6989BD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1E90-7BEE-4EAE-92D3-A9D0B71FD4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435B-03BA-4DB7-9AA8-1106DE60B2E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A707-F87D-4EFD-B692-F9253E6B31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shuxue (5)"/>
          <p:cNvPicPr/>
          <p:nvPr/>
        </p:nvPicPr>
        <p:blipFill>
          <a:blip r:embed="rId1"/>
          <a:stretch/>
        </p:blipFill>
        <p:spPr>
          <a:xfrm>
            <a:off x="1117440" y="1600200"/>
            <a:ext cx="6907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shuxue (13)"/>
          <p:cNvPicPr/>
          <p:nvPr/>
        </p:nvPicPr>
        <p:blipFill>
          <a:blip r:embed="rId1"/>
          <a:stretch/>
        </p:blipFill>
        <p:spPr>
          <a:xfrm>
            <a:off x="1177920" y="1600200"/>
            <a:ext cx="6786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shuxue (14)"/>
          <p:cNvPicPr/>
          <p:nvPr/>
        </p:nvPicPr>
        <p:blipFill>
          <a:blip r:embed="rId1"/>
          <a:stretch/>
        </p:blipFill>
        <p:spPr>
          <a:xfrm>
            <a:off x="1177920" y="1600200"/>
            <a:ext cx="6786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shuxue (4)"/>
          <p:cNvPicPr/>
          <p:nvPr/>
        </p:nvPicPr>
        <p:blipFill>
          <a:blip r:embed="rId1"/>
          <a:stretch/>
        </p:blipFill>
        <p:spPr>
          <a:xfrm>
            <a:off x="1117440" y="1600200"/>
            <a:ext cx="6907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shuxue (6)"/>
          <p:cNvPicPr/>
          <p:nvPr/>
        </p:nvPicPr>
        <p:blipFill>
          <a:blip r:embed="rId1"/>
          <a:stretch/>
        </p:blipFill>
        <p:spPr>
          <a:xfrm>
            <a:off x="1117440" y="1600200"/>
            <a:ext cx="6907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shuxue (7)"/>
          <p:cNvPicPr/>
          <p:nvPr/>
        </p:nvPicPr>
        <p:blipFill>
          <a:blip r:embed="rId1"/>
          <a:stretch/>
        </p:blipFill>
        <p:spPr>
          <a:xfrm>
            <a:off x="1117440" y="1600200"/>
            <a:ext cx="6907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shuxue (8)"/>
          <p:cNvPicPr/>
          <p:nvPr/>
        </p:nvPicPr>
        <p:blipFill>
          <a:blip r:embed="rId1"/>
          <a:stretch/>
        </p:blipFill>
        <p:spPr>
          <a:xfrm>
            <a:off x="1117440" y="1600200"/>
            <a:ext cx="6907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shuxue (9)"/>
          <p:cNvPicPr/>
          <p:nvPr/>
        </p:nvPicPr>
        <p:blipFill>
          <a:blip r:embed="rId1"/>
          <a:stretch/>
        </p:blipFill>
        <p:spPr>
          <a:xfrm>
            <a:off x="1117440" y="1600200"/>
            <a:ext cx="6907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shuxue (10)"/>
          <p:cNvPicPr/>
          <p:nvPr/>
        </p:nvPicPr>
        <p:blipFill>
          <a:blip r:embed="rId1"/>
          <a:stretch/>
        </p:blipFill>
        <p:spPr>
          <a:xfrm>
            <a:off x="1117440" y="1600200"/>
            <a:ext cx="6907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shuxue (11)"/>
          <p:cNvPicPr/>
          <p:nvPr/>
        </p:nvPicPr>
        <p:blipFill>
          <a:blip r:embed="rId1"/>
          <a:stretch/>
        </p:blipFill>
        <p:spPr>
          <a:xfrm>
            <a:off x="1177920" y="1600200"/>
            <a:ext cx="6786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shuxue (12)"/>
          <p:cNvPicPr/>
          <p:nvPr/>
        </p:nvPicPr>
        <p:blipFill>
          <a:blip r:embed="rId1"/>
          <a:stretch/>
        </p:blipFill>
        <p:spPr>
          <a:xfrm>
            <a:off x="1173240" y="1600200"/>
            <a:ext cx="6796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dc:language>en-US</dc:language>
  <cp:lastModifiedBy>a</cp:lastModifiedBy>
  <dcterms:modified xsi:type="dcterms:W3CDTF">2015-01-14T13:33:33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