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CCB-234C-4451-A9A6-90B0E15B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C24-64B4-4C5B-891E-F44A7B01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2B3-FE0B-4481-B9BF-FF319207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5FA-E601-4034-899A-1A1D5C65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B74D-493B-46A4-BF79-991719C5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959A-73F7-46F5-8F7A-83EC3C4F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0CA7-806E-407C-89FD-4A280AF4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980B-3438-4D07-B175-26AE1D4B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964F-E320-4C61-8D9B-E998EF38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1C15-78C5-4E54-9A5E-F9236023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B77D-8EE5-4A5B-9896-0EEE8958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05F-43AF-43E2-92F1-631FA3FD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065E-FC66-4147-B926-A00FF2D3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8C8B-BFA4-411E-83E5-3B3FB7FC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F89C-4DE6-462F-B7B7-7AEF2272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4AB8-715F-4602-B0E1-1EDE0A4D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F343-1D74-43AE-AF36-78C6DFD8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4996A-8A7A-4974-B653-CEAC77C2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BCD80-B710-4FE6-810C-F143B119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58922-2A94-43F9-A908-98C36EE3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A432-CA31-4200-9557-15686DE8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55F09-E019-40E9-9A71-3FBED590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EA6-12F5-4E45-9C38-4379C5C7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272C-AD71-4D2D-8CC1-75DB706A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00D70-9F66-4059-AA18-482B0708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3666-A935-4297-96C1-38B15E64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8F0A3-7166-4F80-9678-227E2F4F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6C216-395C-4056-BE7E-068EA69C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81420-614E-4A68-A209-A9CC1CE4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D182-8BE8-42FA-9D76-BE70F77A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561-159C-4B7B-8681-9823199A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FDD-50BA-4648-A8AA-1A76179D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6A61-03D1-4DB9-9193-630E0586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660-0DAF-4559-BCB6-C02E6EAC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643-91BF-4258-BBFC-AF69FD2B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7D2-59B0-4B8F-A450-83E70927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天地人和3-2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01E7-D497-4D43-A20A-5A8FBB0EBD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F613-AF26-4232-9E46-6BF9A10843E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57BE-2B3C-4C97-979C-1D176F2EBE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天地人和3-1"/>
          <p:cNvPicPr/>
          <p:nvPr/>
        </p:nvPicPr>
        <p:blipFill>
          <a:blip r:embed="rId2"/>
          <a:stretch/>
        </p:blipFill>
        <p:spPr>
          <a:xfrm>
            <a:off x="-30240" y="0"/>
            <a:ext cx="92124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EDD6-879A-4A3D-8A1F-15221F75CF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9:46:31Z</dcterms:created>
  <dc:creator>sunlilymm</dc:creator>
  <dc:description/>
  <cp:keywords/>
  <dc:language>en-US</dc:language>
  <cp:lastModifiedBy>a</cp:lastModifiedBy>
  <dcterms:modified xsi:type="dcterms:W3CDTF">2014-07-16T09:01:3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