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A05-FB1C-425D-BD8C-86B1804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F7C-E4D6-4E5F-8162-793C661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7A0-7523-4328-9775-87FD2378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616-DFCD-4EE1-8CC3-DBA07CC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B0E-679B-43E3-9084-42FDAD4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427-CE6D-4137-9675-961065C6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614-1986-4817-B9DC-3E18A01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4B5-2682-449B-8D2C-DD0426E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947-2C41-4791-ABF0-5E2CF17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83C-0A90-4CCE-9DDC-D6BEFD8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975-3133-4CF6-9AC6-DD9724BC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6CF-D6DD-425D-AE66-117AA2CE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DA9-1E12-431F-8C47-1221AF3D75EC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196E-FE2B-49D9-8947-8CBA3EBCDBFB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2700360" y="3724200"/>
            <a:ext cx="39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太湖风情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苏州园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封一"/>
          <p:cNvPicPr/>
          <p:nvPr/>
        </p:nvPicPr>
        <p:blipFill>
          <a:blip r:embed="rId1"/>
          <a:srcRect l="2052" t="4542" r="2205" b="31510"/>
          <a:stretch/>
        </p:blipFill>
        <p:spPr>
          <a:xfrm>
            <a:off x="250920" y="411120"/>
            <a:ext cx="8601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E:/cd/项目文档/风情小镇/ps文件/di3.jpgdi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itle 1"/>
          <p:cNvSpPr/>
          <p:nvPr/>
        </p:nvSpPr>
        <p:spPr>
          <a:xfrm>
            <a:off x="2395440" y="333360"/>
            <a:ext cx="6418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2395440" y="1327320"/>
            <a:ext cx="64184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请输入文字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瓦"/>
          <p:cNvPicPr/>
          <p:nvPr/>
        </p:nvPicPr>
        <p:blipFill>
          <a:blip r:embed="rId2"/>
          <a:srcRect l="32109" t="71842" r="57035" b="18038"/>
          <a:stretch/>
        </p:blipFill>
        <p:spPr>
          <a:xfrm>
            <a:off x="182520" y="123840"/>
            <a:ext cx="1076400" cy="574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0760" y="757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·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i"/>
          <p:cNvPicPr/>
          <p:nvPr/>
        </p:nvPicPr>
        <p:blipFill>
          <a:blip r:embed="rId1"/>
          <a:stretch/>
        </p:blipFill>
        <p:spPr>
          <a:xfrm>
            <a:off x="0" y="-9360"/>
            <a:ext cx="9144000" cy="515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QQ截图20111111133656"/>
          <p:cNvPicPr/>
          <p:nvPr/>
        </p:nvPicPr>
        <p:blipFill>
          <a:blip r:embed="rId2">
            <a:lum bright="6000"/>
          </a:blip>
          <a:srcRect l="3883" t="4766" r="2904" b="2914"/>
          <a:stretch/>
        </p:blipFill>
        <p:spPr>
          <a:xfrm>
            <a:off x="247680" y="266760"/>
            <a:ext cx="8520120" cy="474984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457200" y="4874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539640" y="1481040"/>
            <a:ext cx="81471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请输入文字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QQ截图20111110143803"/>
          <p:cNvPicPr/>
          <p:nvPr/>
        </p:nvPicPr>
        <p:blipFill>
          <a:blip r:embed="rId2"/>
          <a:srcRect l="3695" t="1453" r="10530" b="3796"/>
          <a:stretch/>
        </p:blipFill>
        <p:spPr>
          <a:xfrm>
            <a:off x="3105000" y="525600"/>
            <a:ext cx="2716200" cy="272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203640" y="329256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长城大黑体"/>
                <a:ea typeface="微软雅黑"/>
              </a:rPr>
              <a:t>谢谢</a:t>
            </a:r>
            <a:r>
              <a:rPr b="0" lang="zh-CN" sz="2800" spc="-1" strike="noStrike">
                <a:solidFill>
                  <a:srgbClr val="800080"/>
                </a:solidFill>
                <a:latin typeface="长城大黑体"/>
                <a:ea typeface="微软雅黑"/>
              </a:rPr>
              <a:t>观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4:12:11Z</dcterms:created>
  <dc:creator/>
  <dc:description/>
  <dc:language>en-US</dc:language>
  <cp:lastModifiedBy>a</cp:lastModifiedBy>
  <dcterms:modified xsi:type="dcterms:W3CDTF">2015-01-14T13:01:2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