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18DC-19A4-4554-B968-D3082753C5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畅想在想象力的自由世界里，寻找内心童话般的城堡。这里有中世纪的雕塑，油画中的人物，还有现实的动物，混合出一种视觉新体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9388-ACB7-4B57-9212-F35B1C5A79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往城堡的石路花坛边上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BA90-B8BA-4D9C-95BD-354F0D8A5B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接近童话中的城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4E5D-5F5E-487E-980B-E0BBA6C413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的自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3E2E-3E10-4491-9E31-8AFC46F0DD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F9B5-96C9-47B4-8CC7-5CACF741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A312-76AD-4D2A-BAAB-9D50BEBE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43574-B8FB-4E1C-8FA0-B61D87B3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255B-DD6D-4FE7-A798-6CDB77EE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E56B4-5DE5-43F0-A67C-75775A85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AD283-649C-4428-94C7-754B744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B2D80-AC79-42A2-ACB8-8B1794DD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8C784-0B8A-4BD3-A2FB-E02279F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3ED97-ADD5-4532-B8DA-88A4A98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93DA0-1091-4A03-8310-B05DAE7F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CF43B-8F2C-406D-9B6D-DA506493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A918-DBB2-4976-B5AA-4A3057FE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08B-9A67-4B09-B074-7885A3CF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065BE-C1A1-4E39-BCD5-FC8E6BEB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9E609-423C-4CC0-A43B-321E7D52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2102A-F881-4BA3-B206-45AA8808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FA902-3569-45BF-B1EE-36B267F0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90182-FDFC-41D5-ADE9-5AD791E3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A3537-707C-4BDE-A789-50BA556C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EC0D-0A20-49A1-9006-48E4FEE2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7C864-F6FC-4D89-8A66-6AA16D2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FD093-008F-4C2C-8094-A5741BD0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519BA-1D3A-4456-A5B3-66208941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189-05A4-48E4-AF8F-E3324AE4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0B0BC-4496-4D63-9B30-660C0F46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9F406-7AD1-4582-83B7-A90731AB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6E8E0-CE11-4FA3-B41E-F48BCDA0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848CC-5EA4-48B8-AE80-CFB7C9DF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E60C4-BC02-4861-9D23-1BC49CED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006AB-8169-47F6-B579-5705A112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8FC68-646E-4E39-96CE-77B8E57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90E3F-CA90-4B37-9FAC-C841F9B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19470-E8E0-4632-B901-BC6CE980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5D15F-79F6-4565-A11C-52EF0B8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446-7FDA-452B-92CF-FB8261D0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18228-C462-4286-AF5E-ECF55F05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830A8-C56F-4913-8F63-CC1E7D32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88527-D4DE-4DF5-8981-B15B90E1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6BE26-9CC2-4D40-9A6B-68B94C70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F096A-DC09-458F-B210-7B74B8B8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60BA8-2EF3-4B82-B7DE-9093500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E11CA-0C45-408A-B3FE-87054D47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67E3B-E150-431C-8DEB-93896199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17688-6E63-4AEC-B74A-F39B674C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0B3DD-6282-4203-B612-38DB0BB3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2AB6-7BCC-4709-B4AE-D0398E8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6CF71-F11F-4280-8D0A-BFB7D33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A1350-C843-4B78-AAD0-411B102F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0CED6-7731-4416-97BB-C845C89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DDF26-D4A8-4564-896F-97C0D7C8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106D5-4C87-4FDD-940E-2F7639C0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2B993-B447-403B-B6D3-94276904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5850B8-817F-4219-8512-02B4D0A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EE321-11F4-4052-9C40-9BE31638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7E622-9F8D-4DA7-B4E9-33189ECA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F6804-47C2-4B70-9133-3F1E0DAB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1E1B-A13C-4E44-972E-72A6BDC7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E3117-ECA5-4E22-B23B-EBC0D534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07B6C-1579-4218-8340-CC7EBAA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A0F25-3923-460B-9629-08F2E6A4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DF893-449A-4591-B135-19262F20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9930C-C0D2-4041-B00C-0B650C94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0FA1F-0185-434D-835E-2644EDBA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2BDB6-4AEF-4095-857E-927AECCD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1DD1-D66A-4F8E-9DC3-1D0FBF9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A159-704A-4B94-8B2F-FDA61311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94AC-2203-42D2-B524-448DD3DD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DBAE-F4DC-4A9D-9959-02B56B8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24F-B9CA-4E83-A503-C6C550C1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2A1E-FB30-4ABF-8A15-FA62CB5F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A83F-9AE5-40A5-B91C-865DA3E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5CFC-431F-47B8-B35D-2A810AEF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82D2-D95D-4DBB-87EA-79C4F838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78BA-CB36-45E6-B257-1612716A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F1E75-7469-425C-BFE6-D113FE30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5DD25-CBBF-469F-89A2-B383818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BF94-E604-4BED-8CF0-907E5F6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2588-7C0F-484F-8E1E-4890560F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0B13-1865-48CC-B1AE-F5448216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497-69B3-4A6B-8335-07FDF250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1DE4-5FCA-4A1C-A3CF-3FC2372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E864C-09E8-4304-8800-2005B1B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6FC0-1C25-4C53-9337-04BA7B67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A907-056F-4A8D-ACF5-6D3B739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294F-3B29-4AD3-9BA7-05067B7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36072-F883-4168-8E78-7B4A535D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F80E7-B75F-47C2-B06C-8E0FF7B7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AAA9-4081-4733-8926-8D0ECEB5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DA891-E560-4782-9F44-83D007F8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3A65-8CF7-4B1B-B7EF-31EC7541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9ED-58A2-49C9-83A5-6DA81E85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55F7-8343-449B-AD9F-7987ABCC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D9164-3494-49A9-A046-A332A91D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42DD-ED32-47B9-9086-DA5F4AA2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B271-3337-4DB9-B6DE-F9A4F2B0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51BCE-C75F-4996-A9BB-C89DB6F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4216-3236-4289-9A5C-1BF261DB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DB534-2732-49CF-8731-C3F5ABC2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98C95-016C-4C57-8672-F03740E7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764E2-A27A-4CAB-A523-31D4187C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B3D6-E639-4B0F-901C-2B5538A6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7DB-70ED-42B0-AA81-74C63523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16D53-4B27-4D26-86F5-59C833C4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5E89-1801-48F2-99E6-5E874BAF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C6917-E278-4611-8540-02B39CF3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EA5BC-8613-489D-A4E3-1959E5C9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D4354-23D4-4E57-AB5F-D35DA6AF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7C3D-0CBF-4969-989C-CC9E4FC2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50738-7D0A-40ED-B148-377EBB5F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3E4D-8ED3-4CD8-BDFB-8063269D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DE0C5-0E94-477A-8658-8D96D6A4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3B7F1-48B2-4996-98F2-370AE9EB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D4D-2AD5-4BE4-95AE-A0C1A065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19B62-E874-4C92-9B22-3AAA69E89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D9424-EC30-4267-B4EF-9946099E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750B-3565-4C33-86C8-59579124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D210-F578-4978-B579-89363428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8BCC4-13C9-4F41-BDC3-EEC6240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65AD6-F618-4134-B18E-A906E61A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A2CDC-E867-4451-87A5-2477A55F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74C08-118C-41DA-AF0B-5E6385B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3A8C6-559E-4E3B-9C18-1C2C789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55127-03DF-4D24-845E-7F2F2956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411-432C-46CB-A8DC-5FFE965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D611B-7085-45C3-99E3-7D14191E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50949-2B4E-4D75-A05A-9B4CCC8B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B340A-6AED-4D17-AA28-E9931ACB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AA648-8B94-46B0-9315-52868728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93D7-B3ED-47E3-AF63-6E8E8AB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8D00-0ABE-4C6C-8950-CD3789DA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9C597-2D42-4992-AF26-EF1FED3D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4EE7D-2DB9-436C-B316-0AA99E9B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4526E-ADD9-494A-9C37-60A029D1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2A818-D136-4FFE-BFEF-CC5E7B8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D66-2428-4006-9CE7-80E46FE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5D808-7A10-4533-B4D7-906D0CF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254C4-1681-4562-B8B8-1246A73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5EB6F-A72A-4C59-860D-B1902F6F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CB00F-3D76-4144-8C6B-9D705D80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8A4F-44A5-4C10-983D-45D23732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36B16-E290-413B-84C8-A0414922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09503-5B80-428A-8872-0F090DB3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A52B4-496F-4878-963E-56E5605F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4FB06-F7FA-47F6-985D-4A0FE1E5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96E0B-C43C-4DDD-BA84-32DAF8EF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206-046A-46C0-B3B8-A864A266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01A55-9B3C-46E7-9FAD-10FA03BE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0BEC0-8A01-4F39-80F8-7B14C74F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142D6-FFE8-4453-8882-6E18C0B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10ECF-D57A-42D8-A1D3-E3EAF65F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D9DA2-942A-4B3F-9009-A7B9C508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AF9F2-F225-422D-953A-F97F9D6D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F94D3-D8A3-4FB9-8997-C60E0E63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5AA36-DD67-4B29-AAED-1186D580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7C669-1680-4BA0-916A-D683CDB2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DF275-D658-44FA-BFD8-E30668D7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6BBE-F1E2-411C-BF7E-60596F9032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13D-BB50-4FCD-9EAC-1C1BA700BE1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7DF-39C7-4390-9268-D9C17149BF7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3E80-BB00-4669-BE9D-E412FD6357C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E20-0729-449D-A25F-DE6804663A6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6B67-3464-41D5-89C3-0E5EB0B1BF9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4D1-34A8-477A-B470-8D771DF932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73BB-6764-43CE-98DC-A3D3F23671B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C9DB-AC44-4DA3-ACC5-336E7D3B35E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C125-769A-4587-88A7-D9B5E89C53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E86E-6BD8-4ADC-9D33-26E65D52B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5219-937D-4624-B89B-169094B133B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8BA0-DA45-483F-9160-C89F165EB79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D11-0109-4EA2-B3FD-15BCE0745FD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5D9-2F5B-4948-8AF3-793C17B6882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F9AF-31EC-4772-8411-48074073FF1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16AA-AA96-435B-AE52-7C27C879AF1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FFBA-4497-4286-A3EC-0B308FF7B61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645D-DE00-4A5B-A82C-4987EE536AF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0E6F-9D5C-4DF3-92E0-4F0B49DD033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6732-FF81-402F-ADE5-5FEC63E79F0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BC96-5DA6-4554-9234-142D4198CA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DDA0-175D-4FF7-BDEB-3B393018DEF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CD85-0BB6-457D-9940-4D512B39AED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898D-5C6C-4F94-8320-DFC45047F73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2" descr="1welcome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" descr="2agenda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3signle_title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2" descr="4content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结束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2" descr="5thankyou.jpg"/>
          <p:cNvPicPr/>
          <p:nvPr/>
        </p:nvPicPr>
        <p:blipFill>
          <a:blip r:embed="rId1"/>
          <a:stretch/>
        </p:blipFill>
        <p:spPr>
          <a:xfrm>
            <a:off x="792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6T07:42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