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6BC-8615-472C-AB24-D9A19968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5C2-223A-4F3B-9BDD-E641DAA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C3A-313A-49BF-B841-DA55B778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5C6-2C5B-48DA-A641-C622EAD4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443-957A-487B-A6F7-A526F31F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3C82-230F-4F76-8E90-0B934EF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4F1E-0108-4BD7-9681-32467879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5AEF-F72D-4D1F-A0F8-A2589A6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CD7A-AF9E-4BDF-8FBC-6AEB42A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11BA-ABFD-46DC-9DB2-4F37ED2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0E13-C427-4061-8568-EBC6E9A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A9A-EB48-4044-B72D-0F394DD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5A0B-8E72-434E-86EC-ADD235F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9837-44CB-4A4A-B1C2-8294CE5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B0B-BD74-4F66-84E6-ACCAC97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1AAC-D547-4A31-9567-C787B728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D611-0D78-40B2-9CBC-1ACAFCDF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593F-0295-430A-8531-B20E9638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3A6E-AE92-42AF-9DB8-E7AA248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F803-19B6-40B7-93D4-90ADAB9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CA90-9A94-46CB-A130-58ED8CC4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9558-0964-4A3B-A24D-0862132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151-63DE-4004-A015-CB75DFF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0E14-5BB8-49EF-ABF4-AFF3057D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6B76-3DF4-4295-BDAE-6E777C8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8B74-601A-41D7-BC7B-196B416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F1AB-78D8-4985-BE18-E1F0A65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3567-4FBE-4609-A240-3EE07C89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5AF6-78E7-4D8C-8FBC-2E8AFEDB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C4A0-9E8F-4B8E-B962-2AB629D2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0A5-43B4-4889-B72E-4F9AF70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60D-4D77-48B8-9362-B38E7E00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F20-3B1A-4AC1-9821-4329FB0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A9C-19C1-499A-B988-D1EB78F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49-D78F-4823-8E25-92E6D31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C1F-BFE2-4330-80D0-4A0468E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/Documents and Settings/Administrator/桌面/未标题-11.jpg未标题-1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B338-BA36-406F-B1C1-863AD0169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/Documents and Settings/Administrator/桌面/未标题-13.jpg未标题-13"/>
          <p:cNvPicPr/>
          <p:nvPr/>
        </p:nvPicPr>
        <p:blipFill>
          <a:blip r:embed="rId2"/>
          <a:srcRect l="0" t="1476" r="15197" b="0"/>
          <a:stretch/>
        </p:blipFill>
        <p:spPr>
          <a:xfrm>
            <a:off x="3240" y="468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32000" y="6310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E7D3-1E55-4AF8-A833-C93F010F9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A2E-DED9-4C9F-A5AA-C86179CD55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F453-A423-4C3F-870C-64E2CDDD7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03:50Z</dcterms:created>
  <dc:creator>Administrator</dc:creator>
  <dc:description/>
  <dc:language>en-US</dc:language>
  <cp:lastModifiedBy>a</cp:lastModifiedBy>
  <dcterms:modified xsi:type="dcterms:W3CDTF">2015-01-14T13:03:4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