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F3D9-46D5-466D-8871-3BD015C5B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8910-B99D-43FC-A6E4-E580EF24B20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FED472-108E-402D-B1BF-54E84F2F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7344B1-40A6-4E08-821F-472FFF31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AAC172-56D3-4A66-916B-FC19FA99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E18D3A-3355-44F1-A456-A88B0B67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CA84DF-881C-4E53-A09B-8EFAA8C8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70C3F3-DB29-42E8-B082-BBCF49B5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C8F9C2-C69F-4429-9208-C822AC88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9DFD31-36D1-42C1-9685-FDE10222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C06CD2-6992-44CF-B526-8766F51B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81F12-DCDA-4149-BF5B-CB05B555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CE9B-4772-4FC0-BF13-E2EACEB4139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2147A-D2AF-4608-82BD-F166EF35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93C127-4FC6-4705-BD6C-46187205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2B292-5F62-4E51-B725-75CF22C9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1533F-5A26-4E2B-85CC-EC1DB1DF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43EF0-9488-4EEA-9715-BFAB7B9F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546DE-4B60-4E04-8875-A96CE920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79B9C-1443-4083-8529-B9038E32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9CD65-E748-47C0-BD78-23AB8CF4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967FC-922C-4EFA-931F-C47C485D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DDF15-1B41-4249-B777-948B920B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5DD5-70FF-4FB1-870C-FAF267FF248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C7171-A332-4D08-80D5-1D14F967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F5981-F607-4E47-BD1F-9A2150D9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0759E-0F60-4CDC-97D0-04C9FD1B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7BF41-217D-4B0E-BB41-5607C508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DEFC7A-678E-4DF0-A1EC-5F7B6D86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4C314-6886-4F50-8DE6-9A32A1FC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8687A-3993-4A41-9988-95B3089D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A6B52-23F8-4D4B-A35F-FE86B91B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71226-A970-4E6B-83BC-6659200F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AABD5-2ABB-4E88-B237-A48B88E8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993FE-DB2D-46BD-AAB7-03018B8D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DEA73-F11E-40EB-A452-A88D3F85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9CAF51-FAA8-4F6E-BA8F-1FCA653E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5E3E99-F1E0-4EDC-98BF-29FF799D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8AEDA1-16FC-4633-B931-54852D3C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650008-3AE3-45D6-A22E-4926DA82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3CC062-C0C3-4624-9ABD-E5550C88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B24903-10EA-44FD-BD60-A29EE76F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6133AB-3585-4EBC-8B3F-6447EE35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E1118C-DA25-4969-80BA-826B8AE5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1D0812-13AE-47B5-B9BA-94927912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58FCF-CF32-4F76-BD80-0728DDCB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5F1436-B2A4-447C-840E-BCCE3C86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8FF863-0BFE-4CA8-8F6D-C70A41A1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562234-8FF3-4747-97F5-C45242F4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39010C-E3E6-45A8-A6C3-6CDBE5E5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376E22-BB0A-4C12-B66B-07FFEBF4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B6497-1C28-465B-9050-5E59683C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8C84DC-80B0-49A1-9B21-2A513D83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5DED6-EF77-41E7-BADF-32440BDE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EFE1B-42D1-4013-9444-D56FA16A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2CAD0-D4ED-4A9F-973D-A7AE522C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813E7-EBBA-42F2-8523-51F5676C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93CD95-6664-4361-B19A-B610EACC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BC987-B770-4B37-872E-9F1CD2B5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9FC23-E5F6-4D32-919C-16C897DB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7169E-E08D-4D9C-BAD4-5BB578B7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2A96B-7B88-487F-8988-11E19D2F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1F687D-FAEB-46E3-8AA5-FB2B2F17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8C32B-3177-4216-B007-4F9F5DC9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DEC8CC-FBBE-4C08-8894-6F2A1371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9CDBBF-E8D2-44B3-8A94-787F1174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DEEDAB-6F52-4E0D-8356-83803B0D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870D5-F739-4DF9-B3E2-A764BFD6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A8C988-9FEB-466E-B6D1-2D1AE854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B6CBBA-1FE6-4314-904E-71DE92D4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C158FF-816D-4F87-A3E0-7755FBE1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1C2A5F-A4DB-4A7A-A544-258040BB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D5C0F3-3D79-4F06-BA84-8CE56790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83CE3A-AFBA-49A0-BA32-A5296CC8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FD0EEC-3B13-48C2-879B-E8FEC6DF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E736F5-2D0D-448F-8CE9-5A76851C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6B8A4C-2DD0-4EFA-A626-4FB8A2F6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E518F-B9F3-4D86-99E1-34FED917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6C7AE-EC24-4AD3-99D7-B4C12CAA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CC824-62C3-4F9D-98AB-4502342D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DC34-1097-4547-9186-91520B5A7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31ECC-B0EF-4877-ACB0-23DDA224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36EC0-23B6-41C4-B49E-AD4009F9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04764-89E6-4252-A7EC-A4A7A609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DB0BE-8958-416B-B11A-2B0B0968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BD0B7-C774-40B8-8034-93F6D3C9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0DA1-169F-41FC-9137-E40A868BC0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1A9EA5-7F77-485E-A661-32AEDCE6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5F671-BD42-447E-BD31-B8A91001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7D529A-D495-4A91-9F8C-E13655A7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9161-725C-4DD9-BC8D-04C880E95C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E31749-529D-4972-8AA5-E6A936DB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155C10-DEA9-4493-B4D0-4B1218C4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8C0C08-2F87-416D-847B-954C1F1C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096491-BC25-45B1-B283-E5F63875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ACF3B8-42DD-4A8E-8DEE-6D6ADAB4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048396-556C-4FDA-B9BD-4EADD1C4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627C91-CBC1-45BE-AF58-AA97F1B3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13D002-B989-459A-A27E-46290319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0CC5A8-EA58-4F39-B8BB-7C308829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5D9460-1376-4752-9390-346005F8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C5DB-BA37-4134-9E93-B47A9D460B1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FE2303-77AC-4046-9733-110BE01A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E261AA-8186-4CB2-83BE-880DCC01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CD8DDA-7952-4773-9A46-97BEF274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EF325D-44A4-4D92-8649-749ECE62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8CE101-6F39-49F2-96BA-904653F5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F22E72-CD0C-42CD-8B93-8385D05F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F3D013-6911-465F-B335-67F850DB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820C87-B740-4CD5-BB5C-479FCE03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BE741-D5CD-4F04-9C44-B794EF2A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1EECD6-4B9A-4E98-AC3D-1FE12EC6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2E58-47DE-4957-9803-42384087016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DCB901-2692-4634-8299-2BF08B07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1A3BE2-86A9-4396-9D18-BEC100B2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26D060-F5D7-4D30-B50E-8BD6974F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38E6B8-D059-4D69-990D-2F788E59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443CA6-16BC-4705-BA0B-1BEB5885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F7117B-7C41-4BB5-B18F-D86E13B2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F3F00E-E37C-4B2E-9053-12DED8C4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6E811B-D865-4B33-802E-0EDF0AE6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D2FE37-1AE2-406C-8A4D-8A59B318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42ED15-BB2D-434D-9DA1-C61760EB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E593-97A1-48E1-B6CF-C1C1578DF26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2ECF70-927D-4A96-85E6-BA99BF8E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CA70F2-8557-4271-8C8E-0826B60B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8CB6C5-2F0D-4BE3-9E2E-6644F92F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AF9E64-6DA2-4951-91CA-DF44389D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8B6DDB-4091-423D-9BCA-ABD30A7B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CA7CDD-51F1-46E6-B275-EE84A084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C8FBB8-A63B-4586-B985-8998D55F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AE4855-361D-4E51-99C2-9E362B8B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8F3549-2E73-4965-9FEE-E18756BD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3263AE-F386-447D-A841-D77D884F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7F8A-9ED0-4E58-BC60-09FE1ED0C7B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C95CE5-E870-49A4-8EE8-6B3D34AA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8CF532-0DAA-4CE1-A3CC-DAC1F63E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598E89-1078-4CDE-9929-BD5D86B6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2CD9FA-9102-4566-A725-53EBAC62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18B6E4-72B5-40A9-86C3-E3BD8078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B89B08-7542-43EA-9905-4DAA6044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0B892D-A293-43BE-A65D-21C2B974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28951A-A39F-47D7-9EDF-FF240F28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06F93F-A2BD-4727-A77F-47C15DE9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38CB4A-90F2-4CF3-B836-D1C845DF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61F2-6B63-44EA-935D-16CBE74119B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0843C0-EDD9-411E-98DD-7B80F18B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8F0E20-EB35-4132-8C3F-F32E50CE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705055-5DA4-4810-B67A-CD762A1B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AA0875-5731-4F63-9711-3277BF53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FA9BBD-4CB1-42A6-BE28-65263211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0D354A-A3E1-4731-93AD-5A372141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98E9A6-C434-4311-9CB0-A8C9EE3C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7E24E0-FF17-45A8-9F10-702CA137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ADE78A-EB11-4A8E-929A-3309E567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3E61F4-D7ED-4479-93F8-BE2A5F62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61800"/>
            <a:ext cx="8207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128641E-E398-411E-A641-8D10C53F83EB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2B85-88E4-4F60-92B7-F2E390C411F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05EA-9921-4AC7-AB60-1043F31416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4609-33DB-4225-81AB-1B8C621181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C117-9778-46D6-A9B7-299D384E04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0869-2AB7-4F50-96A3-921456FA44B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0B45-DABE-4300-8A00-638EEA9751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5826-4047-4875-B1EC-15AB288B363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CBDC-A1A8-4D6C-B6BE-C9F5316FAC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2CD9-5B1E-497A-BC39-82E71597169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8ED0-B3B8-4509-84CB-7E3C5E2057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3A61-01DF-4CF4-A03C-C3C2845A689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8EF4-B498-4A38-B939-00EBA5C835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261800"/>
            <a:ext cx="8207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D908-7C39-4A96-8E72-B60E61238A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3190-5F28-48A1-BF6D-FD75D95820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52E4-A104-48BC-9D46-B308ECD4E53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6ACD-98B5-4999-9759-738D75E6D0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2D38-F8C9-47BC-8C1C-103E242E581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6E66-E09A-466F-BB40-320DAC1B64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53E3-9DEA-40C1-BB00-FB2592FAD4F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F551-6C6C-42C8-8A59-B6D6E1133C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EFF5-FB56-4B6F-979A-8E138F77C5E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FAC2-70B8-4F67-868E-21036BC69C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0176-D1D9-479B-8C2C-CD418D10894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4B8B-857C-434A-975D-B86453DDBA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4094280"/>
            <a:ext cx="5408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76280" y="520488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1785960" y="3995640"/>
            <a:ext cx="1127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文字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3981600" y="3995640"/>
            <a:ext cx="1126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6168960" y="3995640"/>
            <a:ext cx="1127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645336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1c1c1c"/>
                </a:solidFill>
                <a:latin typeface="Arial"/>
              </a:rPr>
              <a:t>分享者</a:t>
            </a:r>
            <a:r>
              <a:rPr b="0" i="1" lang="zh-CN" sz="14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i="1" lang="zh-CN" sz="1400" spc="-1" strike="noStrike" u="sng">
                <a:solidFill>
                  <a:srgbClr val="00458a"/>
                </a:solidFill>
                <a:uFillTx/>
                <a:latin typeface="Arial"/>
                <a:hlinkClick r:id="rId1"/>
              </a:rPr>
              <a:t>PPT模板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1:54Z</dcterms:created>
  <dc:creator/>
  <dc:description/>
  <dc:language>en-US</dc:language>
  <cp:lastModifiedBy>a</cp:lastModifiedBy>
  <dcterms:modified xsi:type="dcterms:W3CDTF">2015-01-14T13:21:3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