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projctor.wav" ContentType="audio/x-wav"/>
  <Override PartName="/ppt/media/image14.jpeg" ContentType="image/jpeg"/>
  <Override PartName="/ppt/media/image2.png" ContentType="image/png"/>
  <Override PartName="/ppt/media/image1.jpeg" ContentType="image/jpeg"/>
  <Override PartName="/ppt/media/image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gif" ContentType="image/gif"/>
  <Override PartName="/ppt/media/image7.jpeg" ContentType="image/jpeg"/>
  <Override PartName="/ppt/media/image10.gif" ContentType="image/gif"/>
  <Override PartName="/ppt/media/image12.jpeg" ContentType="image/jpeg"/>
  <Override PartName="/ppt/media/image8.gif" ContentType="image/gi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382-AE04-42ED-850D-A4D53267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0A1-3DD2-47F1-943B-DF9EA7E5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FB80D-B3EF-4DA2-9D5D-524D9502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DCAD9-4B34-4D8D-8F67-758430B5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44509-A956-4262-9CC5-EC539475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F411D-5A01-41B2-8D44-8B377067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E32C4-5DDE-4259-81B2-E3E2317A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CA9CA-57BE-427F-9F7D-069174F9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D17D3-BD99-48CB-A821-EF863809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0E620-243A-467C-805B-2EB777F8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95405-873C-4F2D-B58E-AA7672EA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ACEC2-B51E-472E-9074-1C388FF4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751-8893-41CA-A9BD-DFB215F1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8BA82-57B4-4EEE-8073-9DF5ABE0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9848F-FF78-4913-A0A2-2D274B27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41D4F-DDF0-4314-B325-C5E68C13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D21D5-D3C6-48BF-A014-7FFE48BF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E426D-6F19-4F36-8DA9-5A67602A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47C50-CF3B-4B56-8B78-E93BD429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29C16-A81D-4B31-9C2E-1FC145B4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04B8E-3371-4C81-A127-690C88D8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0FBD0-07CF-4D77-962F-928D13F2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A0777-43A6-47BF-8DA4-AEA193CD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C32-4F27-4767-BB7E-14AD8171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9DEA5-7EEB-4C1B-B520-609F6C3A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578FB-56B1-4739-9C67-DB348F61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41CC1-17C6-48B5-9416-F7CE18B5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19A7E-98BC-4DE3-8372-1EB30521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12F9F-5091-4A26-A64D-A68FBC38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8A10F-AF26-4874-948E-055067C1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A92D7-4B82-4252-AEE9-05A6A3F5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2A32F-C329-4EAF-B955-079F7177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862A8-8288-4806-ABD3-EF62E6C7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CFBE6-7878-406A-9799-74B1A6BF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226E-448B-4E3A-B41E-366D82B5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7664D-C6A8-4248-89A3-9C5C4185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E9D02-CCF8-4C8D-B602-65F30B13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EBA39-0CD4-40BC-84FB-15F2F94F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CA7C3-736E-46D3-A494-AFEFAD9D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CC4E8-BD12-4596-B6C6-30593873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79383-BAE5-495F-9765-5D0A8D24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90F36-7F4C-44B4-8C1D-0D048504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6F9FC-0097-41DF-8AB4-7A9C26FF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707CC-2762-4A05-9BB1-951FB985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7343D-C55C-4051-A524-F3E8E2AC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B178-647E-4969-9329-534E66DF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06C0B-F131-4AD0-9CEE-9BAB7640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73DFB-5405-40E8-B2F0-574F4276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DFC2E-4CF8-4915-B37B-BF350C94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87E9F-A36E-4B33-801B-C7CCC259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862DA-84DD-467F-B4DA-73317D9E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28220-BD78-4EC5-8B5B-E9E3ECC9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77B6C-9942-4F34-9E0C-04DF6408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65B35-8F62-4E4B-BCD6-8C039644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B1E84-5C23-479E-AE27-B7D267EB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9D2A9-0375-4235-AE40-6CB6B539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8BEC-1EBC-4C3E-8B0C-D4457F21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236E8-CC16-4DFC-A853-371C86CA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A4E2E-10DE-4BCF-96FA-43AB976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761123-76C0-4725-B875-C5D83FB0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B90E7-F241-45E2-B1D6-9836AE2F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AC145-E228-4A44-8268-A85D6A5B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DD017-AF70-4BCA-AA5D-419DB26A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69EB1-F74C-4E20-892D-EEDBD14E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048F0-2170-4A5F-A208-798C0F76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B74C8-7E00-4DD2-B190-7F276470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898BF-0C67-435C-9DED-12CDDCC9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5972-5740-4EE8-B805-0FFEF913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68E33-897F-40E4-A2FD-F0CD497B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CF280D-5266-4631-9104-17F0F36E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64FF54-1A7A-4F4D-BB09-CCDD4AFA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34275-F5E8-42A7-9C4A-66FBDE22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C74EB-5304-42C6-8DF9-19047AC7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203BE-CD8A-4641-9234-E5920808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52765-B71E-4478-882C-D2C25F12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96EE6-22E9-4C7C-AA88-80DE7F04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868D8-D867-44FC-978F-25D9CA0D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BB2E-3EC8-497A-8A39-F7153353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6160-F8DB-439D-8350-7729F5F5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6C55-6EA6-420A-BE13-78B816B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791-30DB-4CC9-9F13-9C6640F3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969D-4A1F-49C6-B7AE-0799F1A4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1B1F-2857-4E89-BF0B-BC69217C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8AA4-A5B3-4AEA-BE7F-4416C69B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C3BD-D72D-4324-978D-779DE46A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7FD1-75AC-4C8F-A743-64B32F4E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632A6-0EEC-415F-BAB5-68592103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3CFAF-F6C5-4B2A-A19C-3DBB0D1D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F36B1-BEE2-4126-908D-751A1B4D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FDA18-2DCA-4D63-8ADE-FA0DF1F3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F6F3-0989-49C7-BF0C-9AF549AE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D0E-8C8E-4EB6-80E8-56B24172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3B944-B44E-4F2E-9158-3D276999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A585-B3D2-4777-A59B-CBE88FBD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AE3A6-B9AA-4E0A-86E7-34AB8B9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666F-868E-4061-BAEC-24AC91AD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AD05-FF78-426D-B116-6BE26458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9992-26D5-4BEE-BDA9-8AA3DBDD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0C6A-2988-4D22-82D5-3FEF6AE7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DD123-EA53-4575-9F30-E57AFEF2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2FD8C-A36D-4036-9A85-C3470703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EB11-F35D-4EA8-9B73-1D0AA952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29D-4669-416F-9833-4F40CF98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0BC8-C3A2-4606-95AB-3A2008B3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41F1A-F7BA-4BF5-9DDE-FD5977E3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6BD4-1A51-4A11-85F8-1C06D9A5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68398-4C60-429D-98D1-E6D2AA95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4C617-51B0-4A71-B414-7A62609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0D158-6209-4E46-8DE7-45697CB5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D09D2-369E-4992-9994-6246D6A3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BD280-10CC-494C-97C2-166405C7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A3972-0D4F-4F47-AC1F-404892C4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E84C7-461E-4EA1-85B9-1D314E8C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B4B-5C44-4A01-9453-2968547A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C47BF-583C-41D8-8F72-8E97F6CD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C7482-356F-4C48-931C-6ED1B7D4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1083C-458C-420C-8D40-907E955D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C942E-C179-4A95-AB3C-E7B46075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0069B-BD59-49F6-8E43-FD305F8E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4CF60-C4D4-4DE9-A79A-455AFE46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4A71-76E1-4CA8-85F1-3D7B573D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2876A-1CA4-4738-A3CF-F8DF70F1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75E25-F378-477E-95FB-6F31626A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AB572-03DD-4044-8287-E55953F1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0ED-94FF-4503-AD75-FE4C2FC4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DDFE0-DADF-49D9-BA46-C18A95A3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DBD29-E484-4B10-A9C9-FFC16841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F7A70-D882-43AB-89E5-28E8647A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AC589-5C4C-4052-881E-5269A297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55BB5-1499-47BC-929D-F02ADA58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EB39B-0602-4F3F-9D05-9A09F5B4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C1191-B711-4F75-B160-B62CBC6C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34B9F-BFBD-4BD1-9274-C56B3EB7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E7DE7-D9FA-47C8-ABDB-17FBBE3D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E4B27-1D4B-43D7-B312-2D60C8E1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3A4-9093-486F-BA6D-728E576D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4E69D-CED6-44F9-8EA4-A5109494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F8385-82C6-4848-B5A3-029B0B19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0A65C-FC2B-49FD-B39F-0352A63E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3D4A7-4A18-44EF-B2AA-72794F91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84C0E-47B6-4B10-91B8-BBB2CCFE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B0471-6A1A-43BF-94D8-2C862915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1393F-0E1E-40BF-B46E-A3B428EB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82C87-5922-4B48-804E-942E83F9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1F546-D535-4E37-AEE5-3D8B0CF9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A5B1E-0FB7-47C9-A29B-FC64706A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459-7CD7-47DB-B147-2053F4D2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3F0A3-A01C-4E4D-B096-93FC2355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79CB3-92EA-4162-97CD-37C5F967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6966F-D185-4306-AAF1-0E5331C9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8F397-B950-4254-B636-7BC2BFC4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7E0BC-1588-47A8-A80A-6E62FAB7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88C5E-5ABB-4A1F-A227-FE71A2A1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363F6-1378-44BA-A94C-D767966A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D6D1A-DB36-4F8D-9407-1FD7678D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4B94B-BD9E-4F55-A494-AAC91884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AAF1D-2C45-48EF-9BE2-D7D4088B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E28-CC1F-44CA-A8E8-9839C5AD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DB37E-7BB3-4243-B5F8-E963F77E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A0A2C-0340-4E8C-9AC6-C6D9C490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9806B-2E35-49DA-BBC8-038AD8FF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AA4EF-FBC3-4EEE-8283-0AA1705C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160E3-3957-45FE-BA8E-2DAB7B92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4032F-3872-4AE4-A25E-3C717172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1D2EA-765F-461E-83A5-58A69172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ABE0D-D33B-4190-A467-E8A85568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968A6-90E4-442B-96C6-31CF3BA9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82E9E-8F3A-492D-9EF2-1F497BE1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ue"/>
          <p:cNvPicPr/>
          <p:nvPr/>
        </p:nvPicPr>
        <p:blipFill>
          <a:blip r:embed="rId3"/>
          <a:stretch/>
        </p:blipFill>
        <p:spPr>
          <a:xfrm>
            <a:off x="0" y="666720"/>
            <a:ext cx="600120" cy="588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76176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4A5D-32EB-4FAA-9E75-7063F88CA8A7}" type="slidenum">
              <a:rPr b="0" lang="en-US" sz="1000" spc="-1" strike="noStrike">
                <a:solidFill>
                  <a:srgbClr val="000000"/>
                </a:solidFill>
                <a:latin typeface="Trebuchet MS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34B3-4814-4C42-AB21-3D8A1EECD998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EFD7-1A5E-4647-87FC-22375E1B01C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D8EE-AB0E-48EA-B1CE-B96025F67ACD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CCCF-267B-49D4-B5C6-30F048708AF9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A91E-DA21-4B9E-B7B2-CBDCFD53E454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EA5E-43EE-465D-9732-3109D9B79599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19C6-6294-4DB8-B0AB-DCA1A5D8A293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1970-CA93-4E91-9EC0-27866DE52C1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03AF-7317-43AE-B310-11F6D99C6199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EEA9-1C1D-4966-8960-D566D5449B01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441F-6900-4CA2-B298-8E3D3D351E6D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FD5E-BFED-459C-A196-59D2A93405FE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80880" y="76176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Eras Bold ITC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511D-8FE6-4C44-B7B8-7343E2766BA0}" type="slidenum">
              <a:rPr b="0" lang="en-US" sz="900" spc="-1" strike="noStrike">
                <a:solidFill>
                  <a:srgbClr val="000000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EC5E-649C-4678-BF20-8B4B514301A0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35CB-9BAA-4502-9459-B90BBB3D0A34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3863-3C79-4117-BFB7-EA1FF1AB9679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2A6D-F803-42CC-8A69-A2E801204629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3371-6263-4E24-9454-DCABD509C074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AC29-9777-4FA6-BC12-374846B66115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D99C-85A0-4EA2-9E40-BBEBB86C90D5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CABF-85FF-4305-8C15-4FF77FC9E56B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9E99-0FC5-46E2-AB09-48801598927D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67B1-F261-42E4-A655-C4876E0983B9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1863-6183-4892-AEAB-7C79016B04C7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0A40-DE06-40F6-ACA3-A105E0066BC5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8.gif"/><Relationship Id="rId5" Type="http://schemas.openxmlformats.org/officeDocument/2006/relationships/image" Target="../media/image5.png"/><Relationship Id="rId6" Type="http://schemas.openxmlformats.org/officeDocument/2006/relationships/image" Target="../media/image14.jpeg"/><Relationship Id="rId7" Type="http://schemas.openxmlformats.org/officeDocument/2006/relationships/image" Target="../media/image6.gif"/><Relationship Id="rId8" Type="http://schemas.openxmlformats.org/officeDocument/2006/relationships/image" Target="../media/image10.gif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ue"/>
          <p:cNvPicPr/>
          <p:nvPr/>
        </p:nvPicPr>
        <p:blipFill>
          <a:blip r:embed="rId1">
            <a:lum bright="-6000"/>
          </a:blip>
          <a:stretch/>
        </p:blipFill>
        <p:spPr>
          <a:xfrm rot="2482200">
            <a:off x="-608040" y="4267080"/>
            <a:ext cx="13333320" cy="1359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cue"/>
          <p:cNvPicPr/>
          <p:nvPr/>
        </p:nvPicPr>
        <p:blipFill>
          <a:blip r:embed="rId2"/>
          <a:stretch/>
        </p:blipFill>
        <p:spPr>
          <a:xfrm rot="19795200">
            <a:off x="-3122640" y="3505320"/>
            <a:ext cx="13333320" cy="13586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 Black"/>
                <a:ea typeface="宋体"/>
              </a:rPr>
              <a:t>Billiards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0" y="5181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Your Subtitle Goes Her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1" name="Picture 4" descr="pool_balls_racked_hg_clr"/>
          <p:cNvPicPr/>
          <p:nvPr/>
        </p:nvPicPr>
        <p:blipFill>
          <a:blip r:embed="rId1"/>
          <a:stretch/>
        </p:blipFill>
        <p:spPr>
          <a:xfrm>
            <a:off x="5810400" y="4390920"/>
            <a:ext cx="333360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0" y="5158440"/>
            <a:ext cx="9144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84" name="Picture 4" descr="pool_ball_8_rolling_hg_clr"/>
          <p:cNvPicPr/>
          <p:nvPr/>
        </p:nvPicPr>
        <p:blipFill>
          <a:blip r:embed="rId2"/>
          <a:stretch/>
        </p:blipFill>
        <p:spPr>
          <a:xfrm>
            <a:off x="3505320" y="2590920"/>
            <a:ext cx="1981080" cy="1753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7" name="Picture 4" descr="pool_cue_chalking_hg_clr"/>
          <p:cNvPicPr/>
          <p:nvPr/>
        </p:nvPicPr>
        <p:blipFill>
          <a:blip r:embed="rId2"/>
          <a:stretch/>
        </p:blipFill>
        <p:spPr>
          <a:xfrm>
            <a:off x="5810400" y="4267080"/>
            <a:ext cx="33336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Black"/>
                <a:ea typeface="宋体"/>
              </a:rPr>
              <a:t>Elements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0" y="5181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宋体"/>
              </a:rPr>
              <a:t>www.eeppt.com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90" name="Picture 4" descr="billiards_sld"/>
          <p:cNvPicPr/>
          <p:nvPr/>
        </p:nvPicPr>
        <p:blipFill>
          <a:blip r:embed="rId1"/>
          <a:stretch/>
        </p:blipFill>
        <p:spPr>
          <a:xfrm>
            <a:off x="152280" y="3462480"/>
            <a:ext cx="2014560" cy="1511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billiards_prt"/>
          <p:cNvPicPr/>
          <p:nvPr/>
        </p:nvPicPr>
        <p:blipFill>
          <a:blip r:embed="rId2"/>
          <a:stretch/>
        </p:blipFill>
        <p:spPr>
          <a:xfrm>
            <a:off x="152280" y="5118120"/>
            <a:ext cx="2014560" cy="1511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billiards_qx"/>
          <p:cNvPicPr/>
          <p:nvPr/>
        </p:nvPicPr>
        <p:blipFill>
          <a:blip r:embed="rId3"/>
          <a:stretch/>
        </p:blipFill>
        <p:spPr>
          <a:xfrm>
            <a:off x="152280" y="171360"/>
            <a:ext cx="1981440" cy="14893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7" descr="pool_ball_8_rolling_hg_clr"/>
          <p:cNvPicPr/>
          <p:nvPr/>
        </p:nvPicPr>
        <p:blipFill>
          <a:blip r:embed="rId4"/>
          <a:stretch/>
        </p:blipFill>
        <p:spPr>
          <a:xfrm>
            <a:off x="2286000" y="1419120"/>
            <a:ext cx="1752480" cy="15526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cue"/>
          <p:cNvPicPr/>
          <p:nvPr/>
        </p:nvPicPr>
        <p:blipFill>
          <a:blip r:embed="rId5"/>
          <a:stretch/>
        </p:blipFill>
        <p:spPr>
          <a:xfrm>
            <a:off x="2362320" y="228600"/>
            <a:ext cx="6400800" cy="6523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billiards_trs"/>
          <p:cNvPicPr/>
          <p:nvPr/>
        </p:nvPicPr>
        <p:blipFill>
          <a:blip r:embed="rId6"/>
          <a:stretch/>
        </p:blipFill>
        <p:spPr>
          <a:xfrm>
            <a:off x="152280" y="182880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pool_balls_racked_hg_clr"/>
          <p:cNvPicPr/>
          <p:nvPr/>
        </p:nvPicPr>
        <p:blipFill>
          <a:blip r:embed="rId7"/>
          <a:stretch/>
        </p:blipFill>
        <p:spPr>
          <a:xfrm>
            <a:off x="5810400" y="838080"/>
            <a:ext cx="3333600" cy="2467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pool_cue_chalking_hg_clr"/>
          <p:cNvPicPr/>
          <p:nvPr/>
        </p:nvPicPr>
        <p:blipFill>
          <a:blip r:embed="rId8"/>
          <a:stretch/>
        </p:blipFill>
        <p:spPr>
          <a:xfrm>
            <a:off x="2971800" y="2057400"/>
            <a:ext cx="2819520" cy="219060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12"/>
          <p:cNvSpPr/>
          <p:nvPr/>
        </p:nvSpPr>
        <p:spPr>
          <a:xfrm>
            <a:off x="6553080" y="5715000"/>
            <a:ext cx="2514600" cy="990720"/>
          </a:xfrm>
          <a:prstGeom prst="wedgeRectCallout">
            <a:avLst>
              <a:gd name="adj1" fmla="val -60226"/>
              <a:gd name="adj2" fmla="val -79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6553080" y="571500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imations of every pool ball and plenty of additional pool graphics are available on Animation Factory Platinum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1T04:45:06Z</dcterms:modified>
  <cp:revision>1</cp:revision>
  <dc:subject/>
  <dc:title>Billiards</dc:title>
</cp:coreProperties>
</file>