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BA4-95CC-4A69-9635-E273A285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1C3-CC81-4907-8CD6-AC00736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FCC-5ED9-4AE2-BE40-73819688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75F-86FB-4442-A4B4-C5886EB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AA2-55E6-4C4F-9427-8929DF01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8042-5C53-49DB-A132-2C00979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2EA-24C0-4F8D-8DF9-3CE4747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764D-DB3D-4C45-ACB3-EC8FB49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40E-DA84-4EA8-BD3A-8E9A695C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F76B-0B6E-4B40-9B28-21F035C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376-C8FF-4994-8D29-C1FF7E3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DDC-6CD3-4310-A31E-6CB5907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755-D933-4C08-B7E0-6D8ECDE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F2D-60D6-4376-A67F-E45B11A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568-9968-4CAF-AA65-C1DF26C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5674-0567-402C-AD54-481560C2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587-635A-43E3-A21A-34D04B30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AEA-9FDB-4901-9690-AA8072E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3BD-72AC-46C2-B9C8-E19629A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F9F-1D1C-4A25-96C4-97BA039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1B8-A81E-4BD7-864F-733B20DA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53A-912D-478B-B5A6-932030D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CA-D3CA-4C12-8F06-F400DAC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E29-E69A-4B1E-9596-847CD0F6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0A0A-1814-4321-8E70-8CFA151EF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2B8-19AB-4F05-9BDF-1EDF888BEB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7ABD-DA01-42B9-98C6-7ED3D6D59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-2"/>
          <p:cNvPicPr/>
          <p:nvPr/>
        </p:nvPicPr>
        <p:blipFill>
          <a:blip r:embed="rId1"/>
          <a:stretch/>
        </p:blipFill>
        <p:spPr>
          <a:xfrm>
            <a:off x="466560" y="263520"/>
            <a:ext cx="82821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0-3"/>
          <p:cNvPicPr/>
          <p:nvPr/>
        </p:nvPicPr>
        <p:blipFill>
          <a:blip r:embed="rId1"/>
          <a:stretch/>
        </p:blipFill>
        <p:spPr>
          <a:xfrm>
            <a:off x="396720" y="333360"/>
            <a:ext cx="8280720" cy="619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-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0封面0"/>
          <p:cNvPicPr/>
          <p:nvPr/>
        </p:nvPicPr>
        <p:blipFill>
          <a:blip r:embed="rId1"/>
          <a:stretch/>
        </p:blipFill>
        <p:spPr>
          <a:xfrm>
            <a:off x="466560" y="262080"/>
            <a:ext cx="82108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11"/>
          <p:cNvPicPr/>
          <p:nvPr/>
        </p:nvPicPr>
        <p:blipFill>
          <a:blip r:embed="rId1"/>
          <a:stretch/>
        </p:blipFill>
        <p:spPr>
          <a:xfrm>
            <a:off x="466560" y="333360"/>
            <a:ext cx="8137800" cy="626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630864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23"/>
          <p:cNvPicPr/>
          <p:nvPr/>
        </p:nvPicPr>
        <p:blipFill>
          <a:blip r:embed="rId1"/>
          <a:stretch/>
        </p:blipFill>
        <p:spPr>
          <a:xfrm>
            <a:off x="466560" y="333360"/>
            <a:ext cx="828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5:33:19Z</dcterms:created>
  <dc:creator/>
  <dc:description/>
  <dc:language>en-US</dc:language>
  <cp:lastModifiedBy>a</cp:lastModifiedBy>
  <dcterms:modified xsi:type="dcterms:W3CDTF">2015-01-14T13:07:16Z</dcterms:modified>
  <cp:revision>1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