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55B7-BC3E-4085-958C-C1E8DFBE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DE6B-F464-4D2E-98A1-2B6DD708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B47A-CE52-4D84-997E-E415A20D2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BE8-753F-4713-809F-0C1867D9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38A2-7CAB-4C3A-8E94-28573A1F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FC4D-14AE-41FE-82FE-A4A9CC4A8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988B-5BC6-4894-92BC-FE8F1333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AADC-7513-4ABF-BB26-A2173449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5BEB-ADCA-48EA-8A9C-E1E59CA8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B8CC-5BF0-4288-BDE5-8459353D9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BC56-84CE-4189-B9AB-5BCC47A2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7BA-50DC-4ACB-914A-9F8BCD11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AAED-7443-4D7A-9414-A09AAA33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77D0-D52E-44B0-875C-D2FF685E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F22CD-EEE2-429A-8793-50824914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1F77-13E4-4530-87E5-09A51162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0B31-3768-4A6A-ADC4-3083E23B6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DB27F-A224-49BA-8107-218FA380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05435-DA4F-4752-BF96-02D44252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B22E5-9C23-4E47-A1FF-CA8F1274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21202-E63E-43E4-8B8B-354D1FE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0A8F-BBF3-447D-82BE-31E0A6AE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911-E97E-41FD-B44B-1BD48B7D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18C43-16D0-4A99-BD52-19127006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80989-13EF-4C18-8062-7B586EA1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9B63C-F2EA-406C-909E-D550BB02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E7008-C787-4C4A-85A5-C5333935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9F280-8E67-49A5-A52D-0022C83C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FD861-2F46-4E2D-9529-01B24F01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F03DE-C77F-4EB5-AE26-A23984AE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3AB-9CE8-46F2-99F1-5E7E10F2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B7E-38C8-494E-8103-32D28F48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084-CB60-401C-93E3-A13E3416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C08C-269F-47AA-9977-1C5F01D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5C94-2361-401E-94F5-EEE88467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968-FE74-478A-89D6-510AE4E1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a606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a606e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7539-6FEE-4B6F-872D-5D7E84D7111E}" type="datetime">
              <a:rPr b="0" lang="en-US" sz="1400" spc="-1" strike="noStrike">
                <a:solidFill>
                  <a:srgbClr val="4a606e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3DB4-F0DB-490B-91AF-15D3C9E45B8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606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4680" y="6053040"/>
            <a:ext cx="2244600" cy="712800"/>
          </a:xfrm>
          <a:prstGeom prst="rect">
            <a:avLst/>
          </a:prstGeom>
          <a:solidFill>
            <a:srgbClr val="b4b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9b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d1e1e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1e1e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743040" indent="-285840">
              <a:spcBef>
                <a:spcPts val="700"/>
              </a:spcBef>
              <a:buClr>
                <a:srgbClr val="79b5b0"/>
              </a:buClr>
              <a:buSzPct val="70000"/>
              <a:buFont typeface="Wingdings" charset="2"/>
              <a:buChar char="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spcBef>
                <a:spcPts val="700"/>
              </a:spcBef>
              <a:buClr>
                <a:srgbClr val="b4bc4c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spcBef>
                <a:spcPts val="700"/>
              </a:spcBef>
              <a:buClr>
                <a:srgbClr val="b77851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spcBef>
                <a:spcPts val="700"/>
              </a:spcBef>
              <a:buClr>
                <a:srgbClr val="776a5b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B8DC-5517-40D4-8129-5F9EC388F2AB}" type="datetime">
              <a:rPr b="0" lang="en-US" sz="14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d1e1e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4928-4215-45A6-B8E6-451D5EB6AFB6}" type="slidenum">
              <a:rPr b="1" lang="en-US" sz="1400" spc="-1" strike="noStrike">
                <a:solidFill>
                  <a:srgbClr val="d1e1e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F31C-92C9-4C47-BACF-889B6841BE6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9C36-5D0D-4E16-B3EC-66DCD8E22AE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28920" y="6071760"/>
            <a:ext cx="647712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ffff"/>
                </a:solidFill>
                <a:latin typeface="Tw Cen MT"/>
              </a:rPr>
              <a:t>PRESENTATION  NAME</a:t>
            </a:r>
            <a:endParaRPr b="0" lang="en-US" sz="3600" spc="-1" strike="noStrike">
              <a:solidFill>
                <a:srgbClr val="d1e1e3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71440" y="228600"/>
            <a:ext cx="669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Tw Cen MT"/>
              </a:rPr>
              <a:t>Title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71440" y="1600200"/>
            <a:ext cx="669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71440" y="228600"/>
            <a:ext cx="669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Tw Cen MT"/>
              </a:rPr>
              <a:t>Title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071440" y="1600200"/>
            <a:ext cx="6694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3080" indent="-34308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"/>
          <p:cNvSpPr/>
          <p:nvPr/>
        </p:nvSpPr>
        <p:spPr>
          <a:xfrm>
            <a:off x="252360" y="6453360"/>
            <a:ext cx="151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分享者</a:t>
            </a:r>
            <a:r>
              <a:rPr b="0" lang="zh-CN" sz="1400" spc="-1" strike="noStrike">
                <a:solidFill>
                  <a:srgbClr val="1c1c1c"/>
                </a:solidFill>
                <a:latin typeface="Arial"/>
              </a:rPr>
              <a:t>:</a:t>
            </a:r>
            <a:r>
              <a:rPr b="0" lang="zh-CN" sz="1400" spc="-1" strike="noStrike" u="sng">
                <a:solidFill>
                  <a:srgbClr val="3ecced"/>
                </a:solidFill>
                <a:uFillTx/>
                <a:latin typeface="Arial"/>
                <a:hlinkClick r:id="rId2"/>
              </a:rPr>
              <a:t>PPT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595959"/>
                </a:solidFill>
                <a:latin typeface="Tw Cen MT"/>
              </a:rPr>
              <a:t>Title</a:t>
            </a:r>
            <a:endParaRPr b="0" lang="en-US" sz="4400" spc="-1" strike="noStrike">
              <a:solidFill>
                <a:srgbClr val="4a606e"/>
              </a:solidFill>
              <a:latin typeface="Tw Cen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12720" y="1671480"/>
            <a:ext cx="815328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b4bc4c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900" spc="-1" strike="noStrike">
                <a:solidFill>
                  <a:srgbClr val="595959"/>
                </a:solidFill>
                <a:latin typeface="Tw Cen MT"/>
              </a:rPr>
              <a:t>Lorem ipsum dolor sit amet, consectetuer adipiscing elit. Vivamus et magna. Fusce sed sem sed magna suscipit egesta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fr-FR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fr-FR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fr-FR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9:09:17Z</dcterms:created>
  <dc:creator>Ric</dc:creator>
  <dc:description/>
  <dc:language>en-US</dc:language>
  <cp:lastModifiedBy>a</cp:lastModifiedBy>
  <dcterms:modified xsi:type="dcterms:W3CDTF">2015-01-14T13:16:47Z</dcterms:modified>
  <cp:revision>3</cp:revision>
  <dc:subject/>
  <dc:title>PRESENTATION 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