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D82-BF65-4BE3-9453-6FCECC0A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102-E7D7-4E14-9585-4F069851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23C-920C-48BA-A536-2B5FB8C7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2DD-539D-4C54-AE8B-31CE5A2D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6D2B-F194-492E-840E-6140EE2F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F5D5-B321-452D-A9D0-D7086739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AB7A-91A6-4E7D-A6DD-12E3A760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F4A6-50E1-4FBB-80BD-23BA082E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167C-6160-4641-8A35-8A3BC416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8E26-7F8B-4D1B-9041-37F54142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D941-C3F9-41C6-8C44-1CBAD35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605-F607-4083-A800-A00187B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CA26-4D1C-47D2-B201-DA32381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2100-5E0A-4432-8D5E-F8C80859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1A5-26ED-4188-87B1-465498F9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5082-799F-47A0-8930-2BC8F473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9C4C-E709-48F0-B8E2-89C82A73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159-3881-452C-A167-6B51FC9C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77E-B8B6-482F-8FC2-E609468F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BAB-C264-4E6F-88F4-735CE873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E61-A778-46F2-B5D1-FFD66ECF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86B-2762-4208-8A5E-A5FBBA0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C0C-0506-4D04-A9EB-B327B540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188-EF71-4997-A685-329BCA5B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9AD1-E654-4D2E-BED0-513A90FC0D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A6C5-D2A9-4D7B-BA6C-501D74662A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580E-8BD6-4DEF-BB51-0697C77949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AD26-7BA6-4E9B-9DB5-F00F6DE5E3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good-gift (1)"/>
          <p:cNvPicPr/>
          <p:nvPr/>
        </p:nvPicPr>
        <p:blipFill>
          <a:blip r:embed="rId1"/>
          <a:stretch/>
        </p:blipFill>
        <p:spPr>
          <a:xfrm>
            <a:off x="2284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good-gift (2)"/>
          <p:cNvPicPr/>
          <p:nvPr/>
        </p:nvPicPr>
        <p:blipFill>
          <a:blip r:embed="rId1"/>
          <a:stretch/>
        </p:blipFill>
        <p:spPr>
          <a:xfrm>
            <a:off x="230040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good-gift (3)"/>
          <p:cNvPicPr/>
          <p:nvPr/>
        </p:nvPicPr>
        <p:blipFill>
          <a:blip r:embed="rId1"/>
          <a:stretch/>
        </p:blipFill>
        <p:spPr>
          <a:xfrm>
            <a:off x="234000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good-gift (4)"/>
          <p:cNvPicPr/>
          <p:nvPr/>
        </p:nvPicPr>
        <p:blipFill>
          <a:blip r:embed="rId1"/>
          <a:stretch/>
        </p:blipFill>
        <p:spPr>
          <a:xfrm>
            <a:off x="237492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1-14T13:14:1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