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553-EC01-446E-8415-3B8C73A7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C6C-5AE1-485B-B2EA-8F831E5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7C12-39C5-487E-B506-CD6C06B0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53E5C-25E6-4C39-99FF-D22C998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062D7-CD28-4258-83D8-5879E0E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8BCD-51BD-42B8-8600-022325B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3F41E-7D65-4481-8981-2DA4F492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8FCF5-91E0-4B41-9424-8E6C8C5A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DB4A-5109-469C-9AEC-E7B4034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E1979-5CE8-4792-962B-BBF6290A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85542-E7B8-4B21-BF0E-E48A2304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4E536-5A22-44C5-9FE6-C5B31530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BF3-4706-45E5-B36B-7789B49F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C3A7F-09DD-4939-BD52-2902D1E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D0710-4124-4B4C-982B-23178B56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1C86-0C17-4539-8C59-751C0FE3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461D9-BBE7-4BE0-8CEB-ECCB412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42C2-3910-406E-BE58-2A7559F0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357E1-B5B7-4E39-A964-9B6E451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427F4-468F-45CF-A3D3-B58AAAE8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74BA-2E54-43A9-ABF1-5394D84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97870-FB21-40E4-98BB-83BA11F1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22D8C-D239-4A05-BE7E-D52D40E0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21F-7B14-4D15-9735-4530E59D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780E-271B-4228-AA28-92B93702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99148-BD78-4E51-903A-BE2543BA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85E7-0150-4BBF-8F3D-AA7E7566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2198-B065-46C6-92A8-79240CE0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5C83-6317-45E0-9E8A-4659C7B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C429-87BA-4577-9925-E274E098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20D2-FD25-418F-8BE8-F6E9C9BC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227B-1F02-43C4-86EB-CE8274F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FA0DE-33B4-4B77-BF6E-48E0BE0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6093-7710-4A6F-9892-0F7D001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97D5-2061-4FEB-B6B1-49A1CBAD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8CEB8-8EC8-46DB-801F-6363624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E65F8-C643-4416-9A07-F2E95F49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BB57-087C-490D-AD09-41DBC6ED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B6CAA-7C74-4914-B6FF-9B259B8B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60719-0BDF-4293-8A2D-3734A41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A5A7-E9F8-43D7-A399-ECF754A1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DA8D-21D9-4488-BED3-7712853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52F10-8F76-4831-BF3E-A143B12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CE346-5974-4B35-88B7-FFE388B8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BBE85-D871-46E7-A2E3-665622A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94E4-14E5-450E-A79E-ADDA2536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47B50-8CF2-4F65-A8E9-BDE9E99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CD40-109D-4DE6-ACA4-D2F9FDC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46500-E1EE-446A-82C7-5563DC5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AB5B3-D6DC-4F5A-A366-792FC9A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183A5-DDE7-4F2E-B90C-33E6031F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EA115-5C7E-479E-8A2A-8ED2CDCD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89EFC-B66F-4704-9A7A-1526B72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E7E31-4996-459F-B38E-35B3AC7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3A3ED-7FBF-4B55-9584-A2438DC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5DA7A-226D-4F6B-8450-CDFB810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103A-BB25-4823-9B74-5F191684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61BDD-0F51-4F51-8888-70EEB01C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6C091-5EB5-4666-94AA-31A8F9C5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CCCEC-F199-4193-90A8-FBC1AD3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C3A97-6B48-47A9-9AEB-C143E0D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EDD28-F3ED-4F7A-B13E-11AEB2B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54879-BB49-4481-A582-586A4052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E4CDE-A15C-4AD0-B649-D70C8691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6042A-A04C-47C6-B723-DEC35D0C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3FB3A-BE4D-42FE-B3D5-DD14BAB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5C998-BD2F-4C7B-9F35-06EAEF9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3012-087C-4FBB-BFFA-7FAF0F2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914D0-C7C2-4131-8CE1-526CB87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ADCFF-B501-48CA-998C-050E303A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9D2D4-05CA-4C0F-AB75-33CA0BE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F9D12-767B-438F-AEEE-14D7D63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3984B-ABE9-4B65-9312-683F483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C0F41-7FB3-4553-A1F6-4D695F9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184C4-1DCE-4768-9DD9-F6C1CBD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617BB-32EE-4616-B6F3-01D3B54C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5806D-A8D4-4AF9-92F3-3B1C6A74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E157-77D8-42B7-ACD1-6973801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539-EB49-45B4-91B0-A790A08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ECC-C82D-4BD3-896B-57AC99A7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1B4-CA41-442C-94F7-49810BC6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C0D1-0804-4588-9243-1697C870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662F-5B1C-4091-905A-61E0488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BA3-6228-4F5A-8133-6BA7F0F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906-FC9A-4880-B250-26FBF40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10E-1568-4BEE-9BD6-2884ABD4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61F6-B1F8-4D58-BF3B-95D5FA52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F692-BA07-4163-B4B8-1353C449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784D-8762-454C-86E3-E004A6F0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5370-FE0D-4A48-A1E4-80A55F8D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75C3-E84E-4537-9363-E23D872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EBD-52F7-4716-B9AF-A3656194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F993-6227-42D4-8FEC-15D09C2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8DD6-14BC-4898-BD88-43D9EC8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564D-8322-4C51-ACDB-F232D16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6A4B-389B-4D82-9713-9AA836F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70EE-6574-42E0-8606-30A822C1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CCE7-BCB0-4387-86A4-F8CC29A8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56A2-EDE7-4F81-9066-9FD110A9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EC2E-978E-4D7F-BFCE-7392E1E3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6E9B-5BB3-42E3-97B9-83B2831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D488-CFDD-4728-B033-CAD7C6D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073-D219-4764-8D69-CC77D977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E6E9-EAA0-4A31-9125-561C5BFA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76DF6-0971-436A-B06F-66DAB0F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25E9-8AD0-4DD4-8B75-00F1041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599D-84EE-467A-8DA7-385E612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F9E9-F3C2-44DA-AA06-C82A1B4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4452-5821-4631-A72D-7EFBEA5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78B9-511A-4952-8492-FCA18E6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3B17-2707-4DB7-96F2-C9DC222F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DAE5-0442-4194-82F6-F991ED18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8727-90F8-406B-85DA-73F563DD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5B7-CAE9-4C93-9FCC-410550C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C3403-E51B-4078-94C8-63C2E56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4162-5D37-4A62-B62E-54E779CD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CA10-740F-4F3C-B590-295D7529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8260-5CC2-4013-94A5-E3EB23A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BEA1-38F2-40A7-8621-74A4F1B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FBCB3-4B54-4E50-A035-49DB51F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7270-9EC9-4A78-8316-9F554B0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3212-6C61-4F4E-8EB0-43D15A9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D3EFE-FA99-46F6-8987-D4B6E5C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00E9-22BC-4805-BD96-A53A6909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22E-2522-429A-BB50-1A1E5D5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835D-B1A5-460D-A6AB-1B8F98AC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9F0E-6057-4753-B52B-DB46676A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37DB-BF24-494B-B88C-8E1FA03A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E284-FD1D-4C56-BEBE-B6077684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257D-E70F-44A7-B7EC-16FE13D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9291-717A-44E5-8939-8BEB676E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655D-FB0F-44AD-A67D-446E1B8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6EE5-18C1-42D6-9F0E-CA40D41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DC30-5338-4533-9428-1AB9673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341F-543B-430D-81CE-0F28543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E5A-1CCE-4414-86F2-37512FE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F4A2-E523-499E-8ECF-D7B86C1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0093-8D92-4996-B885-A4FDFDCF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9C60-C631-4004-A5BD-FC62BF8B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7BEB1-A07E-4083-932C-B35ABF1F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42A05-C7D9-4054-8DB0-CB0C9CC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3124-8A59-4423-A505-8EA7A8B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0A9F-6C4E-4496-8064-6BB7F9C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88F5-A65A-466F-A0F6-B73F8CE5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78B7-1C56-48BD-8FA4-EF6321A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04FE-2332-4034-A6EF-63F7114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F63-D0D6-4DCD-9CE0-C64A1011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4E71-2CE7-48BB-BFC4-59AA026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29DBB-B0D6-441D-9CED-E8F17DF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6FAF-143B-4AAE-9A99-EBE0189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7A84-E810-4372-AA92-ACD582E8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547E-EC0B-4222-9DC1-28DA1781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C961-461D-48B7-BE11-62401892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9E53-5502-4BB7-8038-F5D7D870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F352-03E4-4F4B-8E0E-2F26479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CC38-451A-49D8-86D9-EBF60DD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0DF4-7449-410D-9C0B-ABFAB8E9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7A2-D46E-4219-A770-0DCFB5C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C698-523C-4CCC-BA63-2FBFF984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D420-0E64-41DF-A072-1ED008A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E675-F383-482F-8DE3-49CD0AE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743F-E8D8-46E4-BDA2-94DA918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DC220-F0D4-4BFD-A4CD-C51DF2B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8765-23A4-4975-9BEF-E4C0C9DA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DAD6-2457-451C-BA46-31A1395D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C9B8-2505-45A9-9F2A-9219DFC5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BBC9C-41AF-4759-923B-CBE0B83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41BD7-3224-4281-B7FB-01CB813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3E4-F5C3-4A46-89FC-18E83959B551}" type="slidenum"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BD2-9781-4747-9BE0-96D6FFA0DA1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B2E1-BC43-45D2-B151-0AEED8EE84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4993-02BC-4616-9768-F3147D64D50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CC27-427C-4760-A14E-0ABABEDA46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5C1F-ED83-40D9-8390-15D8AE384F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F86-92C0-4E3E-A142-434DCE2D0D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208-F751-4E82-9E12-3527D606712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CCFC-2AB1-43C5-B2F2-80207834B0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24E5-C65F-4B40-BE3B-214CC6DDA27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09B-B704-464C-8AE2-106F64C8D0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50D-8F3A-4555-ADEB-849180AACA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C38-6CDD-4D80-A9F0-33CC310ADD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7548-DEC0-4EBE-B06D-F1B96CACB94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E10F-C9A6-40F7-B669-6D806EB5800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CB1-4B58-4DA7-9C51-FC28FC217C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022-8E71-4C3E-884B-DB51CA39DB5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621-C92C-4001-88AE-0CA330E0EB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F74-9D41-4AC2-BE64-B14599D5B03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64F1-E39B-4347-8DEE-1B7CAF1233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A2A4-F04F-4996-85A7-DD4068E0013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2E6-922E-42D8-ADF8-1F7D6CC7F9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F8F-8FF6-4464-9EB4-923F45FB87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A72-11E5-4907-AD5E-6BD26AD5D7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3593-4C74-4931-8A7D-62D54DE83DA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23A-A612-4DD0-B9B4-2999980A81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Romantic Love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eclipse</dc:creator>
  <dc:description/>
  <dc:language>en-US</dc:language>
  <cp:lastModifiedBy>a</cp:lastModifiedBy>
  <dcterms:modified xsi:type="dcterms:W3CDTF">2015-01-14T13:14:41Z</dcterms:modified>
  <cp:revision>5</cp:revision>
  <dc:subject/>
  <dc:title>Pixel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