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9C9-9536-4D3F-B55C-B2D0D363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D54-8059-4B67-A059-C2865AAF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A88-F1B4-4A70-B917-BD31E465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F26-56F8-4820-904E-3F5E7216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1374-8916-4251-9654-57497A8F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3AE-71D6-4F00-B2F5-BECE857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240-DAFD-41F7-B08F-0FFE4529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469-D815-4B7E-9B26-25EADD8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7984-E9FA-483D-95B5-4417964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84CD-16F0-46DE-8750-CBA1B6C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F6C8-80FD-497A-B82F-840E1CD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079-929E-4439-99A1-CAD1341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999-944E-49E6-BC45-E1BD8DE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EFAD-2FCC-4D8C-A158-5E855A0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125E-A820-4232-BFC4-43234900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36B4-9276-4FAB-A485-C726B374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6FE7-4C01-4AA5-B690-55B9903D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667-0ABA-4F7D-9076-6E24DF3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18D-7AA4-4824-B391-DD5FE880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EB9-7F3B-4AB0-BC06-BB0BC34A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D50-0259-489C-82A8-4B40DCD1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1E0-50E6-4BFB-ABB8-A722C30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12F-45FC-4C63-9521-F7B83C2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359-E8C7-4A00-A6AE-9AB8BB8C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5C6-44F0-4D3A-9BE0-0CF6EF9A2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BA6-C0D9-4B21-8E68-B0213B620E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621-C0DB-4A12-BAF9-C4360BDE8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916080" y="4008600"/>
            <a:ext cx="46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572800" y="5013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手绘画卷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495840" y="544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站长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983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83400" y="32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83400" y="40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05504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75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22340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29576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95400" y="3133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9540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6954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695400" y="450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3092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93092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9948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8632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1994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607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9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20120" y="573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7917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4368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7896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dcterms:modified xsi:type="dcterms:W3CDTF">2015-01-14T13:16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