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D7D-AE31-452B-A615-5DA4E899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C68-A004-41D0-AFD0-15138E95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E68-59D8-493E-A29C-C524ABFB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9F8-9E49-4C63-8A90-E7D7B783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6A7C-1887-4C1C-9DF0-8050EA08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38E5-E755-42AC-86FC-0F4C4EE0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7BC5-B086-4190-8D6C-497F440B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D463-3818-4975-AA00-2D8645C5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3DEB-5D8F-4B34-9D61-F510A3B4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14C3-6E43-42D9-A3DF-3AE8C243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E994-8385-48DE-B338-85E7C31C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EAB-263E-48C4-B7D5-6845ADCC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F2E5-15FC-4D28-91A5-5A7BD8E4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6D06-7746-49E3-BABC-3B2371B2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3AAD-0761-42EE-8124-8B88965B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1B2D-7EA3-4A79-8627-F5F3295F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BEBB-6AB1-4F59-AA94-825E5BCE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2CE-F131-4ADB-A15F-1976D2A8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BCF-4D1E-4853-898A-96D8EBC5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E54-411B-4D80-8917-A0322D54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2C2-CBBE-4830-86F6-299D383A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6BE-95DE-445B-B615-BE0B5517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79A-D7B8-444C-9CDE-7B8D96F9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995-564E-4AEE-8A4A-F17F4EEC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14DF-D3A1-4F1D-95A3-A3BDD82587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5071-0586-4226-A087-2746A80A819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0406-B1B5-487C-943F-3FD127891F4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54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年 终 总 结</a:t>
            </a:r>
            <a:r>
              <a:rPr b="1" lang="en-US" sz="6000" spc="-1" strike="noStrike">
                <a:solidFill>
                  <a:srgbClr val="c00000"/>
                </a:solidFill>
                <a:latin typeface="方正姚体"/>
                <a:ea typeface="方正姚体"/>
              </a:rPr>
              <a:t> 报 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3068280"/>
            <a:ext cx="6400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27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——</a:t>
            </a:r>
            <a:r>
              <a:rPr b="1" lang="zh-CN" sz="2700" spc="-1" strike="noStrike">
                <a:solidFill>
                  <a:srgbClr val="000000"/>
                </a:solidFill>
                <a:latin typeface="方正姚体"/>
                <a:ea typeface="方正姚体"/>
              </a:rPr>
              <a:t>回顾总结，展望</a:t>
            </a:r>
            <a:r>
              <a:rPr b="1" lang="zh-CN" sz="2700" spc="-1" strike="noStrike">
                <a:solidFill>
                  <a:srgbClr val="c00000"/>
                </a:solidFill>
                <a:latin typeface="方正姚体"/>
                <a:ea typeface="方正姚体"/>
              </a:rPr>
              <a:t>未来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Calibri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人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 2" descr=""/>
          <p:cNvPicPr/>
          <p:nvPr/>
        </p:nvPicPr>
        <p:blipFill>
          <a:blip r:embed="rId2"/>
          <a:stretch/>
        </p:blipFill>
        <p:spPr>
          <a:xfrm>
            <a:off x="108000" y="33480"/>
            <a:ext cx="1955880" cy="1738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61080" y="62373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Calibri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ffffff"/>
                </a:solidFill>
                <a:latin typeface="Calibri"/>
                <a:ea typeface="黑体"/>
              </a:rPr>
              <a:t>PPT</a:t>
            </a:r>
            <a:r>
              <a:rPr b="0" lang="zh-CN" sz="1300" spc="-1" strike="noStrike">
                <a:solidFill>
                  <a:srgbClr val="ffffff"/>
                </a:solidFill>
                <a:latin typeface="Calibri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i="1" lang="zh-CN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4"/>
          <p:cNvSpPr/>
          <p:nvPr/>
        </p:nvSpPr>
        <p:spPr>
          <a:xfrm rot="392400">
            <a:off x="2498760" y="1832040"/>
            <a:ext cx="54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顾篇：昨日   成绩斐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 rot="474000">
            <a:off x="2646360" y="298764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思篇：今朝   共励并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6"/>
          <p:cNvSpPr/>
          <p:nvPr/>
        </p:nvSpPr>
        <p:spPr>
          <a:xfrm rot="609600">
            <a:off x="3988440" y="4268880"/>
            <a:ext cx="396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划篇：未来   任重道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——</a:t>
            </a: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昨日   成绩斐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868560" y="1890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20000"/>
                </a:solidFill>
                <a:latin typeface="方正姚体"/>
                <a:ea typeface="方正姚体"/>
              </a:rPr>
              <a:t>回顾篇：昨日   成绩斐然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55640" y="2060280"/>
            <a:ext cx="7632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中国房地产最佳宜居楼盘 ”称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中国房地产年度最佳经理人奖 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中国房地产最佳操盘            手 ”称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47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姚体"/>
                <a:ea typeface="方正姚体"/>
              </a:rPr>
              <a:t>谢 谢 </a:t>
            </a:r>
            <a:r>
              <a:rPr b="1" lang="zh-CN" sz="6000" spc="-1" strike="noStrike">
                <a:solidFill>
                  <a:srgbClr val="c00000"/>
                </a:solidFill>
                <a:latin typeface="方正姚体"/>
                <a:ea typeface="方正姚体"/>
              </a:rPr>
              <a:t>聆 听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图片 3" descr=""/>
          <p:cNvPicPr/>
          <p:nvPr/>
        </p:nvPicPr>
        <p:blipFill>
          <a:blip r:embed="rId2"/>
          <a:stretch/>
        </p:blipFill>
        <p:spPr>
          <a:xfrm>
            <a:off x="-4680" y="-15840"/>
            <a:ext cx="17730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7:32:37Z</dcterms:created>
  <dc:creator>User</dc:creator>
  <dc:description/>
  <dc:language>en-US</dc:language>
  <cp:lastModifiedBy>a</cp:lastModifiedBy>
  <dcterms:modified xsi:type="dcterms:W3CDTF">2015-01-14T13:12:46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