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C043-21F8-4240-BD7C-87DAFED59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A7B0-D864-42EF-8F9D-140F574B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AA24-8FF9-4E89-84C6-E34BB47EB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1236-FFB0-4E1A-AE96-1715E62C1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11B0-E1BD-47E8-9C6E-087AE2130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E2A7-2095-4870-9454-46B7401B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7E11-DC7E-4DD1-949C-75ED9F0D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1A1D-385E-4154-8590-9295AD7D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181F5-BC23-4220-BBA8-2A5DAC02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A948-A87F-4A45-A220-D019DC5A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9DA8-CB28-4437-BC59-DF6B128E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F3DD-C547-43C9-B8B0-D5E4BD84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5970-6813-4D87-B955-B1046A03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7D02-2D89-4EB9-B117-2D194766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4C4B-5743-4E1E-83D7-9B646F35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028D-342B-4D37-9A7E-EF9B37031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04D3-09C2-4D54-AD14-CCAD948B1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0298-F124-4215-B59F-A5971CA7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EA1F-2868-45F3-B6B2-37C32CD0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82F7-AE7D-4265-BF51-046BF1D4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E16E-A28A-4AA7-92E5-9BD0343A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185B-E16C-449C-8209-1447ABD0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19CC-B6FE-4B87-A83E-474154F7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632C-DA0E-4909-A6EE-CBFEEB54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EDF2-5E68-4F3B-A8DA-9E98BB1A93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585B-2F57-4970-9FC1-17FF647E188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997D-133D-41FB-B26F-6E57212D92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</cp:lastModifiedBy>
  <dcterms:modified xsi:type="dcterms:W3CDTF">2015-01-14T13:19:47Z</dcterms:modified>
  <cp:revision>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