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0CA-CDB8-4602-BC26-12829450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56C-9083-47BB-A9E4-5B1A5FC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9D8-529D-4530-BA1E-C7C389EB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E72-D11D-4AE0-B4E8-5AE29CBD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531-A752-4E48-9631-698A5587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C41-C808-4B4C-B7B6-28AE4B9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BED2-F69F-421E-8F8E-3773B71B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6050-9AD9-4065-834F-E7F5588C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08A-B28E-4A40-A606-A3623E9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0AC8-AF40-4C3A-BBAC-34FD43DA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FBC-5CF9-43F0-B098-5139134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882-252C-4C72-A0FC-E734513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CB0F-4505-4B0A-AF84-94868AC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8811-8AEF-4105-93C4-3563334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F67A-420A-4BF4-9192-D732F481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BC3B-10A6-49B3-98B2-38B2409D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9F15-3FAA-4290-9FB2-03477520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B2B-3596-4D27-8AA6-C99CFD71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2A1-21C4-40F2-A49B-DE5DAC9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849-EAC8-4200-BD27-4E994F92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C80-4CB5-42AA-9E2D-24AC454C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150-F107-4A3C-8BE3-A97FC20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352-DE6D-4997-B2AC-0C5C5EC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315-1E46-41B4-8A00-97A2F4B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3893-DC38-488B-944D-1EF219B64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C06E-9DAF-4EA8-A5A2-46B4F2B9AA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00E-C69E-4544-930A-3231434B0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首页-"/>
          <p:cNvPicPr/>
          <p:nvPr/>
        </p:nvPicPr>
        <p:blipFill>
          <a:blip r:embed="rId1"/>
          <a:stretch/>
        </p:blipFill>
        <p:spPr>
          <a:xfrm>
            <a:off x="-28440" y="0"/>
            <a:ext cx="876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目录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3过渡页"/>
          <p:cNvPicPr/>
          <p:nvPr/>
        </p:nvPicPr>
        <p:blipFill>
          <a:blip r:embed="rId1"/>
          <a:stretch/>
        </p:blipFill>
        <p:spPr>
          <a:xfrm>
            <a:off x="403200" y="-19080"/>
            <a:ext cx="87771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4内容页"/>
          <p:cNvPicPr/>
          <p:nvPr/>
        </p:nvPicPr>
        <p:blipFill>
          <a:blip r:embed="rId1"/>
          <a:stretch/>
        </p:blipFill>
        <p:spPr>
          <a:xfrm>
            <a:off x="-28440" y="0"/>
            <a:ext cx="876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结束页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57:29Z</dcterms:modified>
  <cp:revision>1</cp:revision>
  <dc:subject/>
  <dc:title>PowerPoint 演示文稿</dc:title>
</cp:coreProperties>
</file>