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1685-84FD-4CBB-935C-3589E5A9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1ED9-1E22-4620-98D6-086CBE22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D75D4-F268-4062-8B24-BFEDF4DA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F6E9E-12A5-4405-893F-9FEAA460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61E1A-A778-4CD1-A6FF-282B995C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90DAE-7AEF-4A92-B8C7-A739CB20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79527-7A80-489D-8596-D8E2A11F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55265-E770-4F77-9A64-28C21C7F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F898B-1AD8-49C9-B65C-85501C03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1A95C-AB02-44DE-A863-3DA6E805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4F3D6-3A8D-4B57-BF72-42C890C2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C4101-1E00-4133-9C41-368D1843F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A371-8C80-4110-ADFD-E44C239B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32A2D-EB55-4B98-BF65-84AD95F7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8325CD-679C-443C-9F2D-27FA73F2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3E7D6-64E5-4B40-9265-CF508DD7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73847-62EA-41A6-BAA9-ACC04974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C6CDD-93D8-4F0F-880A-484318EE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07E63-2DEA-403F-B9DF-CFA78666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5157D-5CA9-4FB6-A01D-48DCDFBC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9C895-B9CF-4528-92D9-73561A25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66132-FE48-4E72-ADFA-CB4D9A51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FAAD8-8179-4238-8016-FD4684609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7201-3C6A-4DA6-8E65-5333D6AC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0A405-89D0-413D-ABC3-5E3EF82EE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288A9-F925-43BA-B70E-1F43E4823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FDF79-17E2-40A7-8038-42FE71F4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B6D8C-773A-44C7-9887-FA9E7977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E3A1E-1924-4491-AD26-B64FCDDA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9A176-1CE6-4D15-AF41-A3A5CF0C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B9FA9-345D-49B7-A628-2F76F020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95AC5-9CFB-4E31-A813-64AF8BD7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D6EFD-74AE-4031-9996-4D1039E7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2515E-CE2A-471D-9A7D-7F3690AD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A1E0-8B12-4790-B928-2BDDEDF7A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39B64-1E17-4E53-A2AC-87802769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8A148-BC76-4ED8-913B-7909C92B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F6279-575E-4D0D-A36B-E954177F2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42AB53-3E58-4C6B-85A2-5E14EC0B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962C8-CDF7-4C24-AA42-15E22899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0930C-1D7D-4D13-8DCA-C4F0E0C5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071BC-7A2D-40E3-8903-8A632FAC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73AA30-2654-42C1-A0D3-54E07A63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FDA0E-9499-4E09-93C7-1832EE3C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07F6CB-3747-45E4-8873-BCECF140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FE45-C020-4727-817F-4C5AD676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98DB6B-73AF-4411-96FC-764868A3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135E1-991C-4BB8-9FBC-D838DE1E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B054E7-FFEA-403D-A174-945170D2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876DF-624A-4582-8088-6B5B06C7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DE4687-9346-4CE0-AC87-117A3A2B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8CDCE2-F20A-4323-A6A1-4A926294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A6466A-14D0-4849-A268-749EC7EF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2146E4-912D-487E-8AB4-2F29119F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08CB7D-7307-4792-AB60-F749939F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501A81-B168-4627-A54F-C6CD9112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42E2-9BC0-4DAD-9274-74CAF4D1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2A8DEF-E1DF-40BC-B256-8DFE21B3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A7D64C-08AC-43E6-AD85-9221499A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8599F2-D81E-4224-A1ED-7789A3D9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A689A3-212C-4E2C-96D1-8A8E1111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7248C3-5061-481A-ABE7-EAC83599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F02C7F-3E64-4B90-926A-7A4EB272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A4AB60-EBD2-48C0-8FD0-03A1BACB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A14080-0F97-4E23-B0C6-0882BA67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BA14C0-2333-4360-BA11-A5DBA70F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87F11E-DC29-46BD-BB92-A82EAA56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352A-D087-4E32-ADB7-5CAFE2B8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923B37-824B-4A35-957B-03E7D045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910B3A-A7CB-4F33-8614-81C13B55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7C93DE-6740-496F-9D4D-75DD0958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8842DF-257F-48B2-B544-4818597C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691D00-4BA3-4757-A1C9-E7DCB6B1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168F1B-B2E6-4660-9A21-C62CAA52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1267DA-F9C9-44A6-B709-7676FA22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4067AA-7D28-4613-B850-192A96C9F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1D820F-C76A-4579-863A-2D28F4FC2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F780-296A-464A-8FD8-B8A79F21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8C48-00B6-42C1-9D83-836EAE84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DE7B-A469-4DDA-94C1-C6D6BC53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734F-8410-4CA5-9B1C-1EFECFF5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1478-7DCC-4B00-8627-4CC64A20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BA47-BC8D-426A-B8BA-9EB5E03D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1CED-573C-463D-B433-73EA943D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D396-8B8A-47FE-A770-EDF699DD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F860-AB82-4196-9CAD-DA4DDCFA2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E10D8-BFE1-4180-A7EF-7816BD57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11FD1-2A06-4FA4-B37E-264C0F7F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4CB0A-9FE9-4C3D-8CE6-BBA855C3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C7E96-EEDD-4324-96AF-DF3E2D9B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F34CC-F824-4740-8524-07876D0E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D32B-1602-4C77-A034-7AAD9701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84ACC-A80A-4668-857E-3F158223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111A8-D668-4816-B333-C5296043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A8001-E4A6-4D18-B1C2-702B3229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3B601-A51F-4270-95E8-70FF3FF3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C152E-2A8A-4D03-A472-E6625C52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A8796-9C89-4B0C-96EF-DC3E6FB4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AE47F-BCC7-4BC9-8D0A-7435F70C0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B5821-DFF1-4466-8A7E-B6456A21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38716-0DED-4AC3-8707-BD49F91C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53AC3-18EB-443B-9419-DBD4FF5B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00A0-D652-4D57-A65A-095DA7D1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87827-97DB-473D-96BF-870D8437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C0E65-4B3C-4DFC-9E51-3038986E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22132-2C41-4A41-A46E-E8252344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008CB-D3ED-481D-8CFD-257610E6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D4BFB-7E0E-437C-AD27-25D30633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6F039-9117-41CB-98F9-02303412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02FD4-2801-44A2-BCE6-B1F6A70D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79F2A-0409-42B4-9395-42BFE9249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ACFAE-1ABA-4687-9953-9592D5DB1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B1B5F-E891-4757-B964-0374CAF1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3EB0-8B29-4AE9-8D5E-B8EDBE21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5768B-5A39-42FE-8672-5E9BF069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CE69A-24C8-417D-B31A-18099B3E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E635E-9E14-46D4-AB5D-427A8F24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8B66D-C8FB-401D-85A2-10E75B61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2B938-C8C0-4E47-AE78-BC16F9D4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165FD-48DC-4896-985C-311401C6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328EE-357D-4565-9716-25E3FB34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EBF66-81D3-428D-9DD3-E9178C3E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A3EA4-EF53-4AD2-9FDB-AD771C48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7260C-DD76-448C-8F80-F6051D01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6FF7-3E21-49C5-912D-B71D8B21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4304F-6C6D-4768-A7C9-B215C8C64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F1E8C-AEB5-4203-A99C-95D936AA6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DA001-524C-460D-A604-80ED47BA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42143-BA1A-4870-82F4-18DEA529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A45AC-DDB8-48D3-B97D-5B23330E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65401-FDFE-4665-AE49-DB8CE7C5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4E397-4E84-4A7F-9142-9A556611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90DF4-4EEC-4EC3-ABC5-D730FD18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A2B11-DE78-4FDF-B617-20557024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BEBFA-BB79-40AF-91FE-35080328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494D-33EC-4134-9216-7694F418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2DD54-7BD6-4870-BA52-6FAC9AE2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0F27B-6608-4E08-9DF8-C7A63B8A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FDD4A-534F-4D15-9AAC-7E15A923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1AA45-BB4F-4974-8B09-8BF65954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668F8-8A82-476F-9A07-66FC00EA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AC442-E377-4DBE-993B-15C257E1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AD0DC-98FF-47F9-B6DF-9C37C677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B3478-5948-4592-8857-63A006B4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1772D-DC27-4D0E-8950-8E0B6E13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34896-A3ED-4439-872E-95E4C06D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14BD-C4AF-4CD1-8923-15844D42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1BC15-BF65-4EA2-811B-C10B35A2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59D11-DAE2-48A8-BC85-DF6EC952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8B986-917B-4FC8-B66B-CB1AC48E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3E4ED-43DD-4DF1-93B6-274AED125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8FBB0-D920-4054-8517-1157AB7CF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8F2DA-B159-42CA-81DA-812FE0C4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48F95-D9D8-422F-B39E-46607C17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4E518-180C-4123-B953-417E6A30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0DF3E-6A0E-4AD0-9D63-EECEAE71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E21DE-0850-4EF6-BD41-2FFF1A5F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B5B3-827F-4253-A30D-0509D3E9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40311-EB8A-4FE7-A383-62CABA40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8E207-07CE-4641-BBE0-D7E8E983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88065-086D-4AE0-AA0A-AA7B4A63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BA4FB-3EF1-408E-B0F0-24B0D21D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25176-3BE9-4B52-A07F-49DA04A1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73093-4E6A-4F14-A25A-91AACF419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36473-78AC-43BC-8110-608A471D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D52BF-01E2-453B-A680-AC47711B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C46F0-7932-4575-8D87-3ED86A4C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261DA-96F2-417C-9D77-74359B8B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tech03修改圖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F9EA-ED56-4CA7-8472-EC80B77C8D6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4FB8-854B-4BAE-AD33-911AA6A8114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4DD4-EB0B-4F17-9587-A831064943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E4F4-6DAD-42B7-904D-FD2A082B6EE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A2AA-E4E5-4CF0-8C7D-83F5447BEA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1A53-D4CA-4CCC-9F06-93A4D1A2804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BA39-6918-46B4-B8E4-C0E2F5B04C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B205-9D39-4E3E-BAAC-3487D0CD50D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67B4-EA0F-4A02-9FC2-C94E6BA8CD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EB15-71CC-4AA5-AD7C-A42177200F3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F7B7-A7D7-43DD-80B3-5ACF5745CE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CA95-E925-49C9-9B9E-81188F3F87F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0A52-D0F0-404E-A76A-E3C0928403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AAA5-CB5C-4F3F-B4C1-79E0016F0DC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D2F2-8D56-4D45-B688-B2E562BC52C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47AC-512D-4E55-9144-C59BB69E3E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2D3E-94BD-4A0F-9852-60026A1A628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3B8D-5984-4444-B724-628011C047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0B6D-3C1F-495D-AA7A-49C55800E20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9902-C99E-4B75-A235-D27D568631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EB80-5BC2-487D-82F8-929EE5E8745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CE03-EF9E-43B8-8E05-47D5DF49BB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6656-F9CB-472C-A6BA-F767680CED4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100A-869A-4698-9F07-4A40036695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2BF2-B9ED-4C17-90C5-7A344792C70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DC5F-431D-4D57-87F1-C5ACDF6E97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  <a:ea typeface="宋体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580" name=""/>
          <p:cNvSpPr/>
          <p:nvPr/>
        </p:nvSpPr>
        <p:spPr>
          <a:xfrm>
            <a:off x="395280" y="6454800"/>
            <a:ext cx="4824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cc"/>
                </a:solidFill>
                <a:latin typeface="楷体"/>
                <a:ea typeface="楷体"/>
              </a:rPr>
              <a:t>更多</a:t>
            </a:r>
            <a:r>
              <a:rPr b="0" lang="zh-CN" sz="1400" spc="-1" strike="noStrike" u="sng">
                <a:solidFill>
                  <a:srgbClr val="ff33cc"/>
                </a:solidFill>
                <a:uFillTx/>
                <a:latin typeface="楷体"/>
                <a:ea typeface="楷体"/>
                <a:hlinkClick r:id="rId1"/>
              </a:rPr>
              <a:t>免费PPT模板</a:t>
            </a:r>
            <a:r>
              <a:rPr b="1" lang="zh-CN" sz="1400" spc="-1" strike="noStrike">
                <a:solidFill>
                  <a:srgbClr val="ff33cc"/>
                </a:solidFill>
                <a:latin typeface="楷体"/>
                <a:ea typeface="楷体"/>
              </a:rPr>
              <a:t>尽在</a:t>
            </a:r>
            <a:r>
              <a:rPr b="1" lang="zh-CN" sz="1400" spc="-1" strike="noStrike">
                <a:solidFill>
                  <a:srgbClr val="ff33cc"/>
                </a:solidFill>
                <a:latin typeface="Times New Roman"/>
              </a:rPr>
              <a:t>：</a:t>
            </a:r>
            <a:r>
              <a:rPr b="0" lang="en-US" sz="14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http://www.eeppt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58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10:02:14Z</dcterms:created>
  <dc:creator>echo</dc:creator>
  <dc:description/>
  <dc:language>en-US</dc:language>
  <cp:lastModifiedBy>a</cp:lastModifiedBy>
  <dcterms:modified xsi:type="dcterms:W3CDTF">2015-01-14T13:04:02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_TemplateID">
    <vt:lpwstr>TC010596932052</vt:lpwstr>
  </property>
</Properties>
</file>