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4F6-AC11-48C7-8698-C7D9D423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9CF-3F4C-4709-A41C-2BDB82BB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F4001-E7F2-4C9C-B6E7-BDC6DB7C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20F28-3718-4089-9F6D-F1FCB7D5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883D3-8F31-41ED-9543-3DB8A0A0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2B789-DEE5-4705-8F95-B40911EE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E0266-5DF8-4EE9-BB40-706B2A36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2A68B-F3C7-4264-8EE7-B157C8FA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8A32E-BD42-47F5-B788-945A37E3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78FFA-1EFE-4B87-AAAE-5D48A609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211FD-F735-40DB-9B72-9D996E6E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3E5C7-75F4-4DBC-89D5-B6618D2A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86A-B2C7-4526-BCCA-4B006E23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45C1B-A061-4835-9171-53F6CA7A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12524-B12A-406A-B40F-CD9790CC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2AE0B-BDA0-40B1-9AD5-2CCACE59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44A89-4E29-4FED-B0FF-4A247AAB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E52AA-3680-407F-8BD0-7E622D22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B491B-05BE-455B-B306-AE5EDE87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F1096-93F4-4EC8-ACB5-F10DB01D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DD72C-196C-4D76-96CA-91EFE646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B5B2B-E62F-4DA1-9944-C811AF56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3A626-3EF7-4DBA-95C6-0C0EAE30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F65-F84D-4EE0-A902-45C4C995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40728-2A6C-4974-BF13-817B814F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B0FF2-51F1-4BA3-BC37-621E7D25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24475-EB9F-4ED3-9D4D-3E49850F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90C79-14B5-4D2D-A816-CEBC545C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8A114-69A9-480C-848E-73F99CCF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E1EA6-524F-43F2-9468-7A6D9859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84C27-322E-4777-83B3-B97A1A63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C0287-498F-44B4-B76E-0441A448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779B8-B354-4FD8-9766-218738AE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7F136-FE73-402A-A7AE-3765D69B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611C-79EE-49B5-BF14-81C1952D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F664A-8791-4333-B2DB-222E9859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9707E-5ECA-44B3-B389-946E26BA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2A865-5AE5-4B4B-A2D2-5FA8E6CF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3A17C-B99D-40A6-B209-918AA179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A1107-D96F-45AA-B137-4E3C6BE4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B9BAA-28FA-4F0C-BE98-AAD3D267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23B07-6FE8-4C20-936D-804060F3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3C632-8A07-4DC5-AED5-8385C557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0F6BA-9D9F-4E65-9436-F8C5ADC7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A413A-A9AA-4D77-8255-851A5740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998A-BA93-421F-ADF0-7E39DB4D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E493F-C00C-4259-B38E-817D89C7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FCBDF-C039-4D1D-B0F9-3112881B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87717-D8FB-4A08-8F93-71214E65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C876A-2C53-45FF-90C6-B620D6FE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F7CF2-F88F-4142-9974-1D8F9964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CCA42-D5F5-44C2-A209-D268C8B7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039D3-6BFC-4C1E-9EEA-16BD47C8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8CFB9-778C-4E48-8BA4-19CBD6B3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B1C20-C411-4342-BD72-E4DBD3E5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D3128-039A-4A54-ACFD-E3E726F6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ABD6-F7DE-4467-B635-EBBEED3F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A2B31-0EC1-488C-AA9B-4352EF1A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886E8-4BEB-4DBF-B1B4-1AC72D6C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7C9EF-21E5-47C6-BEDD-378C3FEE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5580E-70EE-49EA-A44E-9EFA46C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48DA1-AB85-4B33-BF53-068259FB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9B9B3-171C-41A1-9CA5-83F57E3F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51094-9551-4863-B2D2-37AE4194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2F23E-ECEE-4983-B85A-FC5332B5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8E345-7B2E-4B4F-9B4D-ADA4A4AB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D9262-3767-4434-97C0-C60A1DCD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AB1B-5089-4C81-B169-2B363B41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EF368-36E6-455A-9AC0-76D3CC0E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F0AC8-EE4D-4262-95AE-1753E8B8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313C6-7D6B-4EBA-BD7D-FAF31B15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1446AB-4C53-47A4-9DE9-C2514B1A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5968F-2AA0-49A1-80BA-1BBE545F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72D2B-CFAF-4296-A6BC-8AD0F948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F4AF3-0B1B-4045-B62F-61E8C1E3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0E15C-50A4-4E7A-AB30-99C15CFC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1F8BE-D5C7-4854-81A1-95D438AE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4323AA-4B77-4740-BD6E-360F437A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2717-1DB2-434C-A8F1-6E2EEFCA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82E3B8-365B-41A5-8FB5-8F85D85F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8B126-43B8-47DD-A101-77FC5F87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0364AE-03E7-4775-8696-3666E195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549EC-2340-4675-B8CC-F221CED1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F71E3-9EF6-42AE-9347-773CDAEF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9F187-8B96-4D76-BBB5-825D7F75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C7628B-8CE2-4E45-B370-0B702553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B884CC-6658-42F5-A0AE-FE746187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6A4D8-2EAD-4469-8A8A-2005F1E9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71C704-6F69-4FA2-8BBB-3388A2E4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C354-7AC5-4712-AAA1-890F654B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13B82-CCA2-4E11-8734-E9552E5C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18C4D-9044-4CA0-B757-530A078E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C4523E-30D6-439A-B973-35728C32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472B7B-1A90-47B2-B1FD-88956619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139725-8DE3-455C-ACB4-2248ED61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FFA3C-C61F-43AD-AA6E-9BB5CB71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1249E-4001-4F6C-A47C-B09A1AC5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1E2B3-3E15-4183-B542-F59A1438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0D1AD-896F-4130-BA9C-A5FCC8FC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23A1F-0662-47F4-9E20-03F36865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4A6E-1657-4155-A1DE-B293A657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1D3C03-64E5-41FF-9ACC-067171E8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C0E55-5DA2-4F53-86BA-1BACD91C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BC88A9-F713-4BC5-83D0-B5A39650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BCB-A1C5-4487-A111-DE004999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A47E-8F43-49B6-A69D-29DCCB96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DF5C-9171-4F36-9AE9-7C6A427E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6384-B232-4587-BEA9-4AD08D96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5012-D97E-400A-BEE7-48B9CEF6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390B-A689-4DA5-A5D1-A20BB47D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8299-C0CE-46E0-932F-BBF78874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D89AF-265A-4AF9-A016-2393939C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F9B74-98B6-4E6F-A4B7-4C7B66D5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7BB0-46DE-4F64-88FE-A8508054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E566-BAED-4D06-BFC6-5D15D4B9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01B-B898-4D08-B045-F525D857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C16C-E983-482B-9E5A-6224AB85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3B1D7-C7AB-4FEA-9D49-E563116B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2333-01D1-4737-AF07-BBC10F7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D94EB-815F-4046-9F41-E846E57C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765B4-CFD0-4A83-A7FF-CADC8181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F547-B10F-4B5B-ABA9-94DA3817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5699-57AF-48EA-ABCC-E3310C38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73117-F966-421A-B6B7-E2D075FD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9DE8-A6F6-4E99-B2EF-295AAE5C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95E7-5F12-4239-BFF3-076AA998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6A5-4CE2-4CAA-9143-B12F5D7E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1B20B-9D4C-48CD-8267-66288466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FEBD4-A5FF-48F9-9C0F-265D551F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E8A9E-A315-4772-ABB9-AA0EA40D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CE12-5CAB-472B-AC0C-598A05A3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C4015-25F3-48D9-A451-7183DA25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1E337-2A19-4413-AD28-4C3B13D5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CA3F-7FFD-4EA3-862A-08B84D9A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FEC82-2792-491A-AD57-C7C7C5C7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F540-887D-4DF1-95A6-595DD035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4959-0639-4E3B-B27F-0EE045A4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A03-93F0-43AE-9699-89B55E89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292A4-5223-48A0-A443-98284B19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33FE9-F2FE-4DDE-B4C4-BFF3A3C9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9AD08-BA51-4CBC-9987-05EAD74C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13BCF-B852-4BB0-A877-9FFB2A9E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736F2-E335-4034-A8C4-2A7D65A0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BCE7F-2E96-4BDD-BBC0-08F3C1F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9416-B0FB-4CEB-8952-0B8ECC3B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C3C39-0A21-47D5-A472-2F38A26B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9032A-DD85-4B0E-8400-132EE93C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A9C29-E7E4-4BD8-9516-EB677529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C34-222F-412F-977D-D073EA75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0DB1B-1321-4056-9A06-5CF7C23C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50B32-1C92-4EA8-A763-4AF471AD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9641E-F0E7-4D8E-B4CE-225DF482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D6A9E-3593-4CD2-8F95-90F2C12F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22200-2532-425B-BAB6-C255B486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43155-5A23-419E-B7C7-7F69BE63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258C2-4B89-48A4-8EE4-8A3E0115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7EFC6-CDC5-4A09-BB61-059B8950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4D0EE-B43E-4E64-A1F0-283D50D1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68103-6C88-46DF-AA1E-A03E8B5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140-E789-45FE-8BF9-095524B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D17A4-F5C6-4F37-AC05-109FABC6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5DD37-D898-4F40-991C-9C869616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E6374-76DE-4D23-9D9C-8510C81D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92410-154C-48AB-BAE4-9B063EAC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ACCD7-A971-4D26-93AF-44529946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5E3A3-E50B-4BB4-84CC-A94499CD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B3C8F-3FEE-4D60-8070-73F652EA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B5B03-90BF-48CC-BB99-D93E073C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4E1AF-9ACB-4215-8284-ABAF3E0D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34558-3BC3-44F7-A317-FAE0E8F5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C2D-DAB1-40C8-A043-1D2E5486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1DBAC-F5B4-4403-BDAD-90DD3D19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C043F-1AFB-4C83-9AD3-4E56E152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81874-4691-46C7-8655-5EEEF442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8DDAD-9F70-464C-83C1-74241578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0043A-AC9C-4A29-AC91-EDC9D63D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B3C07-9B96-450C-A165-4F4FA484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26E37-7D91-40E5-BF7F-BD18CACF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87C39-55E3-476D-9403-009F66B9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B46A-95A2-4F00-957B-A6F01464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A600C-DC8F-44B7-B881-88774FB1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83E-76B2-4961-B7C7-0A24E0CC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12533-A197-45D6-9DDE-9D57B388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A6101-D509-4D06-AB72-96029E50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1B013-C692-42D4-BA2B-38900D78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8CAB2-B916-41AB-A10F-50C06CD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6ECE2-32BD-4CED-A350-81344FCA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0EE7A-D06F-469B-A89F-0E704D5B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3CF00-65B5-464A-A92C-CCA8F321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DC76E-5B1E-455D-883E-32439432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24DBD-6FBF-414F-8CD8-693B8C63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1A563-064E-4A19-A4BE-1E093CD9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2"/>
          <p:cNvSpPr/>
          <p:nvPr/>
        </p:nvSpPr>
        <p:spPr>
          <a:xfrm>
            <a:off x="5657760" y="4910040"/>
            <a:ext cx="2890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青衣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2011.08.29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BFF7-9EAB-43C0-AC51-947CA7825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68400"/>
            <a:ext cx="1332000" cy="271440"/>
            <a:chOff x="0" y="68400"/>
            <a:chExt cx="1332000" cy="271440"/>
          </a:xfrm>
        </p:grpSpPr>
        <p:sp>
          <p:nvSpPr>
            <p:cNvPr id="7" name="Line 24"/>
            <p:cNvSpPr/>
            <p:nvPr/>
          </p:nvSpPr>
          <p:spPr>
            <a:xfrm flipV="1">
              <a:off x="0" y="300240"/>
              <a:ext cx="1332000" cy="9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5"/>
            <p:cNvSpPr/>
            <p:nvPr/>
          </p:nvSpPr>
          <p:spPr>
            <a:xfrm>
              <a:off x="0" y="270000"/>
              <a:ext cx="21096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" name="Picture 26" descr=""/>
            <p:cNvPicPr/>
            <p:nvPr/>
          </p:nvPicPr>
          <p:blipFill>
            <a:blip r:embed="rId2"/>
            <a:stretch/>
          </p:blipFill>
          <p:spPr>
            <a:xfrm>
              <a:off x="324000" y="68400"/>
              <a:ext cx="576000" cy="2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" name="Picture 28" descr=""/>
          <p:cNvPicPr/>
          <p:nvPr/>
        </p:nvPicPr>
        <p:blipFill>
          <a:blip r:embed="rId3"/>
          <a:stretch/>
        </p:blipFill>
        <p:spPr>
          <a:xfrm>
            <a:off x="1440" y="0"/>
            <a:ext cx="9141120" cy="515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8320-EF08-4935-8C59-773A214DFC9B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D79F-EEFA-4BFD-BE3C-89496B0E943E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99F6-2B1B-4516-982A-A6433AD16046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B1D1-A335-4E75-9C83-07D7C2CE4516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AC8A-2825-48ED-A1D7-5967C0C8B82E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6DC6-802E-45B9-B437-D42F8E4B8661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0A0A-1ECC-49AA-B0A6-8EB54F03508B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5C48-7FA1-449B-8716-191FCD353A0D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6308-31FB-4A99-B26E-35C9FAA52B5B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1FFF-CA81-46C6-99D8-0D9755F7136A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4622-EA48-4DA4-A809-3AFC38DF2270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5573-279E-4B63-A74E-20EBE1B82DF4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C100-12D1-441E-A76C-3BCBE7D141EC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65C6-2274-4AE5-8872-797908E6D490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8"/>
          <p:cNvSpPr/>
          <p:nvPr/>
        </p:nvSpPr>
        <p:spPr>
          <a:xfrm>
            <a:off x="5657760" y="4910040"/>
            <a:ext cx="2890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青衣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2011.08.29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6E84-3DE4-4B7D-B111-79093BB51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5657760" y="4910040"/>
            <a:ext cx="2890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青衣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2011.08.29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5995-D682-47C6-A2E8-DB1299D60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8"/>
          <p:cNvSpPr/>
          <p:nvPr/>
        </p:nvSpPr>
        <p:spPr>
          <a:xfrm>
            <a:off x="5657760" y="4910040"/>
            <a:ext cx="2890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青衣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2011.08.29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B52F-DE5D-4F38-8892-998FC3FAD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ABEC-9254-4B6D-B42C-95C90EFDBE92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B6F6-988B-49FE-BE06-459E79D60A7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EB5D-FF73-4B9B-9D58-A09DC62C9281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F406-EA01-4E7D-9F46-56B5CC500C83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E601-98C9-43CB-8AB5-C47165D23100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1255-DF2E-4325-BD2B-7406CDE87285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5DB1-4363-4E4D-B719-7BA53130ACBD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0163-E24E-49A7-8687-9458E305787C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3C79-BD85-4972-A4C1-2DFCA60F3622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24D8-B431-42FB-8732-252055A6CEA8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2"/>
          <p:cNvGrpSpPr/>
          <p:nvPr/>
        </p:nvGrpSpPr>
        <p:grpSpPr>
          <a:xfrm>
            <a:off x="2176560" y="839880"/>
            <a:ext cx="1655640" cy="1585800"/>
            <a:chOff x="2176560" y="839880"/>
            <a:chExt cx="1655640" cy="1585800"/>
          </a:xfrm>
        </p:grpSpPr>
        <p:sp>
          <p:nvSpPr>
            <p:cNvPr id="669" name="Oval 37"/>
            <p:cNvSpPr/>
            <p:nvPr/>
          </p:nvSpPr>
          <p:spPr>
            <a:xfrm>
              <a:off x="2176560" y="839880"/>
              <a:ext cx="1514520" cy="1514520"/>
            </a:xfrm>
            <a:prstGeom prst="ellipse">
              <a:avLst/>
            </a:prstGeom>
            <a:solidFill>
              <a:srgbClr val="00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38"/>
            <p:cNvSpPr/>
            <p:nvPr/>
          </p:nvSpPr>
          <p:spPr>
            <a:xfrm>
              <a:off x="3256200" y="1849680"/>
              <a:ext cx="576000" cy="576000"/>
            </a:xfrm>
            <a:prstGeom prst="ellipse">
              <a:avLst/>
            </a:prstGeom>
            <a:solidFill>
              <a:srgbClr val="000000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5"/>
          <p:cNvGrpSpPr/>
          <p:nvPr/>
        </p:nvGrpSpPr>
        <p:grpSpPr>
          <a:xfrm>
            <a:off x="1979640" y="360360"/>
            <a:ext cx="2160720" cy="2624040"/>
            <a:chOff x="1979640" y="360360"/>
            <a:chExt cx="2160720" cy="2624040"/>
          </a:xfrm>
        </p:grpSpPr>
        <p:pic>
          <p:nvPicPr>
            <p:cNvPr id="672" name="Picture 40" descr=""/>
            <p:cNvPicPr/>
            <p:nvPr/>
          </p:nvPicPr>
          <p:blipFill>
            <a:blip r:embed="rId1"/>
            <a:srcRect l="50393" t="14347" r="23269" b="14347"/>
            <a:stretch/>
          </p:blipFill>
          <p:spPr>
            <a:xfrm>
              <a:off x="3113280" y="1744560"/>
              <a:ext cx="1027080" cy="12398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673" name="Picture 41" descr=""/>
            <p:cNvPicPr/>
            <p:nvPr/>
          </p:nvPicPr>
          <p:blipFill>
            <a:blip r:embed="rId2"/>
            <a:srcRect l="23266" t="14347" r="50963" b="14347"/>
            <a:stretch/>
          </p:blipFill>
          <p:spPr>
            <a:xfrm>
              <a:off x="1979640" y="360360"/>
              <a:ext cx="1765440" cy="217656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674" name="Rectangle 42"/>
          <p:cNvSpPr/>
          <p:nvPr/>
        </p:nvSpPr>
        <p:spPr>
          <a:xfrm rot="2053800">
            <a:off x="5747760" y="293832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标题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3"/>
          <p:cNvSpPr/>
          <p:nvPr/>
        </p:nvSpPr>
        <p:spPr>
          <a:xfrm rot="1975200">
            <a:off x="5986080" y="320796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副标题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2"/>
          <p:cNvGrpSpPr/>
          <p:nvPr/>
        </p:nvGrpSpPr>
        <p:grpSpPr>
          <a:xfrm>
            <a:off x="2340000" y="1204560"/>
            <a:ext cx="4248000" cy="445320"/>
            <a:chOff x="2340000" y="1204560"/>
            <a:chExt cx="4248000" cy="445320"/>
          </a:xfrm>
        </p:grpSpPr>
        <p:grpSp>
          <p:nvGrpSpPr>
            <p:cNvPr id="677" name="Group 3"/>
            <p:cNvGrpSpPr/>
            <p:nvPr/>
          </p:nvGrpSpPr>
          <p:grpSpPr>
            <a:xfrm>
              <a:off x="2340000" y="1204560"/>
              <a:ext cx="4248000" cy="445320"/>
              <a:chOff x="2340000" y="1204560"/>
              <a:chExt cx="4248000" cy="445320"/>
            </a:xfrm>
          </p:grpSpPr>
          <p:sp>
            <p:nvSpPr>
              <p:cNvPr id="678" name="AutoShape 34"/>
              <p:cNvSpPr/>
              <p:nvPr/>
            </p:nvSpPr>
            <p:spPr>
              <a:xfrm rot="10800000">
                <a:off x="2340000" y="1204200"/>
                <a:ext cx="4248000" cy="3906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0c0c0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35"/>
              <p:cNvSpPr/>
              <p:nvPr/>
            </p:nvSpPr>
            <p:spPr>
              <a:xfrm flipH="1" rot="10800000">
                <a:off x="2724840" y="1223640"/>
                <a:ext cx="3825720" cy="358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Group 6"/>
              <p:cNvGrpSpPr/>
              <p:nvPr/>
            </p:nvGrpSpPr>
            <p:grpSpPr>
              <a:xfrm>
                <a:off x="2354040" y="1216080"/>
                <a:ext cx="401400" cy="131760"/>
                <a:chOff x="2354040" y="1216080"/>
                <a:chExt cx="401400" cy="131760"/>
              </a:xfrm>
            </p:grpSpPr>
            <p:sp>
              <p:nvSpPr>
                <p:cNvPr id="681" name="AutoShape 38"/>
                <p:cNvSpPr/>
                <p:nvPr/>
              </p:nvSpPr>
              <p:spPr>
                <a:xfrm rot="5400000">
                  <a:off x="2488680" y="1081080"/>
                  <a:ext cx="131760" cy="4014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959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AutoShape 39"/>
                <p:cNvSpPr/>
                <p:nvPr/>
              </p:nvSpPr>
              <p:spPr>
                <a:xfrm rot="5400000">
                  <a:off x="2459880" y="1112760"/>
                  <a:ext cx="129960" cy="3362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Text Box 42"/>
              <p:cNvSpPr/>
              <p:nvPr/>
            </p:nvSpPr>
            <p:spPr>
              <a:xfrm>
                <a:off x="2346480" y="125100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Text Box 6"/>
            <p:cNvSpPr/>
            <p:nvPr/>
          </p:nvSpPr>
          <p:spPr>
            <a:xfrm>
              <a:off x="2989440" y="1258920"/>
              <a:ext cx="32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11"/>
          <p:cNvGrpSpPr/>
          <p:nvPr/>
        </p:nvGrpSpPr>
        <p:grpSpPr>
          <a:xfrm>
            <a:off x="2340000" y="1780920"/>
            <a:ext cx="4248000" cy="445320"/>
            <a:chOff x="2340000" y="1780920"/>
            <a:chExt cx="4248000" cy="445320"/>
          </a:xfrm>
        </p:grpSpPr>
        <p:grpSp>
          <p:nvGrpSpPr>
            <p:cNvPr id="686" name="Group 12"/>
            <p:cNvGrpSpPr/>
            <p:nvPr/>
          </p:nvGrpSpPr>
          <p:grpSpPr>
            <a:xfrm>
              <a:off x="2340000" y="1780920"/>
              <a:ext cx="4248000" cy="445320"/>
              <a:chOff x="2340000" y="1780920"/>
              <a:chExt cx="4248000" cy="445320"/>
            </a:xfrm>
          </p:grpSpPr>
          <p:sp>
            <p:nvSpPr>
              <p:cNvPr id="687" name="AutoShape 74"/>
              <p:cNvSpPr/>
              <p:nvPr/>
            </p:nvSpPr>
            <p:spPr>
              <a:xfrm rot="10800000">
                <a:off x="2340000" y="1780560"/>
                <a:ext cx="4248000" cy="3906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0c0c0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utoShape 75"/>
              <p:cNvSpPr/>
              <p:nvPr/>
            </p:nvSpPr>
            <p:spPr>
              <a:xfrm flipH="1" rot="10800000">
                <a:off x="2724840" y="1800000"/>
                <a:ext cx="3825720" cy="358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9" name="Group 15"/>
              <p:cNvGrpSpPr/>
              <p:nvPr/>
            </p:nvGrpSpPr>
            <p:grpSpPr>
              <a:xfrm>
                <a:off x="2354040" y="1792440"/>
                <a:ext cx="401400" cy="131760"/>
                <a:chOff x="2354040" y="1792440"/>
                <a:chExt cx="401400" cy="131760"/>
              </a:xfrm>
            </p:grpSpPr>
            <p:sp>
              <p:nvSpPr>
                <p:cNvPr id="690" name="AutoShape 77"/>
                <p:cNvSpPr/>
                <p:nvPr/>
              </p:nvSpPr>
              <p:spPr>
                <a:xfrm rot="5400000">
                  <a:off x="2488680" y="1657440"/>
                  <a:ext cx="131760" cy="4014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959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78"/>
                <p:cNvSpPr/>
                <p:nvPr/>
              </p:nvSpPr>
              <p:spPr>
                <a:xfrm rot="5400000">
                  <a:off x="2459880" y="1689120"/>
                  <a:ext cx="129960" cy="3362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Text Box 79"/>
              <p:cNvSpPr/>
              <p:nvPr/>
            </p:nvSpPr>
            <p:spPr>
              <a:xfrm>
                <a:off x="2346480" y="182736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Text Box 80"/>
            <p:cNvSpPr/>
            <p:nvPr/>
          </p:nvSpPr>
          <p:spPr>
            <a:xfrm>
              <a:off x="2989440" y="1835280"/>
              <a:ext cx="32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20"/>
          <p:cNvGrpSpPr/>
          <p:nvPr/>
        </p:nvGrpSpPr>
        <p:grpSpPr>
          <a:xfrm>
            <a:off x="2340000" y="2349000"/>
            <a:ext cx="4248000" cy="445320"/>
            <a:chOff x="2340000" y="2349000"/>
            <a:chExt cx="4248000" cy="445320"/>
          </a:xfrm>
        </p:grpSpPr>
        <p:grpSp>
          <p:nvGrpSpPr>
            <p:cNvPr id="695" name="Group 21"/>
            <p:cNvGrpSpPr/>
            <p:nvPr/>
          </p:nvGrpSpPr>
          <p:grpSpPr>
            <a:xfrm>
              <a:off x="2340000" y="2349000"/>
              <a:ext cx="4248000" cy="445320"/>
              <a:chOff x="2340000" y="2349000"/>
              <a:chExt cx="4248000" cy="445320"/>
            </a:xfrm>
          </p:grpSpPr>
          <p:sp>
            <p:nvSpPr>
              <p:cNvPr id="696" name="AutoShape 83"/>
              <p:cNvSpPr/>
              <p:nvPr/>
            </p:nvSpPr>
            <p:spPr>
              <a:xfrm rot="10800000">
                <a:off x="2340000" y="2348640"/>
                <a:ext cx="4248000" cy="3906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0c0c0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84"/>
              <p:cNvSpPr/>
              <p:nvPr/>
            </p:nvSpPr>
            <p:spPr>
              <a:xfrm flipH="1" rot="10800000">
                <a:off x="2724840" y="2368080"/>
                <a:ext cx="3825720" cy="358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8" name="Group 24"/>
              <p:cNvGrpSpPr/>
              <p:nvPr/>
            </p:nvGrpSpPr>
            <p:grpSpPr>
              <a:xfrm>
                <a:off x="2354040" y="2360520"/>
                <a:ext cx="401400" cy="131760"/>
                <a:chOff x="2354040" y="2360520"/>
                <a:chExt cx="401400" cy="131760"/>
              </a:xfrm>
            </p:grpSpPr>
            <p:sp>
              <p:nvSpPr>
                <p:cNvPr id="699" name="AutoShape 86"/>
                <p:cNvSpPr/>
                <p:nvPr/>
              </p:nvSpPr>
              <p:spPr>
                <a:xfrm rot="5400000">
                  <a:off x="2488680" y="2225520"/>
                  <a:ext cx="131760" cy="4014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959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AutoShape 87"/>
                <p:cNvSpPr/>
                <p:nvPr/>
              </p:nvSpPr>
              <p:spPr>
                <a:xfrm rot="5400000">
                  <a:off x="2459880" y="2257200"/>
                  <a:ext cx="129960" cy="3362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Text Box 88"/>
              <p:cNvSpPr/>
              <p:nvPr/>
            </p:nvSpPr>
            <p:spPr>
              <a:xfrm>
                <a:off x="2346480" y="239544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Text Box 89"/>
            <p:cNvSpPr/>
            <p:nvPr/>
          </p:nvSpPr>
          <p:spPr>
            <a:xfrm>
              <a:off x="2989440" y="2403360"/>
              <a:ext cx="32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29"/>
          <p:cNvGrpSpPr/>
          <p:nvPr/>
        </p:nvGrpSpPr>
        <p:grpSpPr>
          <a:xfrm>
            <a:off x="2340000" y="2931840"/>
            <a:ext cx="4248000" cy="445320"/>
            <a:chOff x="2340000" y="2931840"/>
            <a:chExt cx="4248000" cy="445320"/>
          </a:xfrm>
        </p:grpSpPr>
        <p:grpSp>
          <p:nvGrpSpPr>
            <p:cNvPr id="704" name="Group 30"/>
            <p:cNvGrpSpPr/>
            <p:nvPr/>
          </p:nvGrpSpPr>
          <p:grpSpPr>
            <a:xfrm>
              <a:off x="2340000" y="2931840"/>
              <a:ext cx="4248000" cy="445320"/>
              <a:chOff x="2340000" y="2931840"/>
              <a:chExt cx="4248000" cy="445320"/>
            </a:xfrm>
          </p:grpSpPr>
          <p:sp>
            <p:nvSpPr>
              <p:cNvPr id="705" name="AutoShape 92"/>
              <p:cNvSpPr/>
              <p:nvPr/>
            </p:nvSpPr>
            <p:spPr>
              <a:xfrm rot="10800000">
                <a:off x="2340000" y="2931480"/>
                <a:ext cx="4248000" cy="3906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0c0c0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AutoShape 93"/>
              <p:cNvSpPr/>
              <p:nvPr/>
            </p:nvSpPr>
            <p:spPr>
              <a:xfrm flipH="1" rot="10800000">
                <a:off x="2724840" y="2950920"/>
                <a:ext cx="3825720" cy="358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7" name="Group 33"/>
              <p:cNvGrpSpPr/>
              <p:nvPr/>
            </p:nvGrpSpPr>
            <p:grpSpPr>
              <a:xfrm>
                <a:off x="2354040" y="2943360"/>
                <a:ext cx="401400" cy="131760"/>
                <a:chOff x="2354040" y="2943360"/>
                <a:chExt cx="401400" cy="131760"/>
              </a:xfrm>
            </p:grpSpPr>
            <p:sp>
              <p:nvSpPr>
                <p:cNvPr id="708" name="AutoShape 95"/>
                <p:cNvSpPr/>
                <p:nvPr/>
              </p:nvSpPr>
              <p:spPr>
                <a:xfrm rot="5400000">
                  <a:off x="2488680" y="2808360"/>
                  <a:ext cx="131760" cy="4014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959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AutoShape 96"/>
                <p:cNvSpPr/>
                <p:nvPr/>
              </p:nvSpPr>
              <p:spPr>
                <a:xfrm rot="5400000">
                  <a:off x="2459880" y="2840040"/>
                  <a:ext cx="129960" cy="3362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0" name="Text Box 97"/>
              <p:cNvSpPr/>
              <p:nvPr/>
            </p:nvSpPr>
            <p:spPr>
              <a:xfrm>
                <a:off x="2346480" y="297828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Text Box 98"/>
            <p:cNvSpPr/>
            <p:nvPr/>
          </p:nvSpPr>
          <p:spPr>
            <a:xfrm>
              <a:off x="2989440" y="2986200"/>
              <a:ext cx="32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38"/>
          <p:cNvGrpSpPr/>
          <p:nvPr/>
        </p:nvGrpSpPr>
        <p:grpSpPr>
          <a:xfrm>
            <a:off x="8845560" y="1203480"/>
            <a:ext cx="363240" cy="2160360"/>
            <a:chOff x="8845560" y="1203480"/>
            <a:chExt cx="363240" cy="2160360"/>
          </a:xfrm>
        </p:grpSpPr>
        <p:sp>
          <p:nvSpPr>
            <p:cNvPr id="713" name="AutoShape 104"/>
            <p:cNvSpPr/>
            <p:nvPr/>
          </p:nvSpPr>
          <p:spPr>
            <a:xfrm>
              <a:off x="8845560" y="1203480"/>
              <a:ext cx="298440" cy="21603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21600" h="156197">
                  <a:moveTo>
                    <a:pt x="0" y="0"/>
                  </a:moveTo>
                  <a:arcTo wR="0" hR="0" stAng="16200000" swAng="-5400000"/>
                  <a:lnTo>
                    <a:pt x="0" y="156197"/>
                  </a:lnTo>
                  <a:arcTo wR="0" hR="0" stAng="10800000" swAng="-5400000"/>
                  <a:lnTo>
                    <a:pt x="21600" y="15619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4" name="Group 40"/>
            <p:cNvGrpSpPr/>
            <p:nvPr/>
          </p:nvGrpSpPr>
          <p:grpSpPr>
            <a:xfrm>
              <a:off x="8889480" y="1203480"/>
              <a:ext cx="319320" cy="198000"/>
              <a:chOff x="8889480" y="1203480"/>
              <a:chExt cx="319320" cy="198000"/>
            </a:xfrm>
          </p:grpSpPr>
          <p:sp>
            <p:nvSpPr>
              <p:cNvPr id="715" name="AutoShape 102"/>
              <p:cNvSpPr/>
              <p:nvPr/>
            </p:nvSpPr>
            <p:spPr>
              <a:xfrm rot="5400000">
                <a:off x="8949960" y="1142640"/>
                <a:ext cx="198000" cy="319320"/>
              </a:xfrm>
              <a:prstGeom prst="rtTriangl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utoShape 103"/>
              <p:cNvSpPr/>
              <p:nvPr/>
            </p:nvSpPr>
            <p:spPr>
              <a:xfrm rot="5400000">
                <a:off x="8927640" y="1167120"/>
                <a:ext cx="195120" cy="2674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Line 106"/>
            <p:cNvSpPr/>
            <p:nvPr/>
          </p:nvSpPr>
          <p:spPr>
            <a:xfrm>
              <a:off x="8893080" y="1347480"/>
              <a:ext cx="0" cy="20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8" name="Picture 108" descr=""/>
            <p:cNvPicPr/>
            <p:nvPr/>
          </p:nvPicPr>
          <p:blipFill>
            <a:blip r:embed="rId1"/>
            <a:stretch/>
          </p:blipFill>
          <p:spPr>
            <a:xfrm>
              <a:off x="8935920" y="1942920"/>
              <a:ext cx="233640" cy="56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4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4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10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2340000" y="2201400"/>
            <a:ext cx="4248000" cy="445320"/>
            <a:chOff x="2340000" y="2201400"/>
            <a:chExt cx="4248000" cy="445320"/>
          </a:xfrm>
        </p:grpSpPr>
        <p:grpSp>
          <p:nvGrpSpPr>
            <p:cNvPr id="720" name="Group 3"/>
            <p:cNvGrpSpPr/>
            <p:nvPr/>
          </p:nvGrpSpPr>
          <p:grpSpPr>
            <a:xfrm>
              <a:off x="2340000" y="2201400"/>
              <a:ext cx="4248000" cy="445320"/>
              <a:chOff x="2340000" y="2201400"/>
              <a:chExt cx="4248000" cy="445320"/>
            </a:xfrm>
          </p:grpSpPr>
          <p:sp>
            <p:nvSpPr>
              <p:cNvPr id="721" name="AutoShape 13"/>
              <p:cNvSpPr/>
              <p:nvPr/>
            </p:nvSpPr>
            <p:spPr>
              <a:xfrm rot="10800000">
                <a:off x="2340000" y="2201040"/>
                <a:ext cx="4248000" cy="3906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0c0c0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14"/>
              <p:cNvSpPr/>
              <p:nvPr/>
            </p:nvSpPr>
            <p:spPr>
              <a:xfrm flipH="1" rot="10800000">
                <a:off x="2724840" y="2220480"/>
                <a:ext cx="3825720" cy="358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3" name="Group 6"/>
              <p:cNvGrpSpPr/>
              <p:nvPr/>
            </p:nvGrpSpPr>
            <p:grpSpPr>
              <a:xfrm>
                <a:off x="2354040" y="2212920"/>
                <a:ext cx="401400" cy="131760"/>
                <a:chOff x="2354040" y="2212920"/>
                <a:chExt cx="401400" cy="131760"/>
              </a:xfrm>
            </p:grpSpPr>
            <p:sp>
              <p:nvSpPr>
                <p:cNvPr id="724" name="AutoShape 16"/>
                <p:cNvSpPr/>
                <p:nvPr/>
              </p:nvSpPr>
              <p:spPr>
                <a:xfrm rot="5400000">
                  <a:off x="2488680" y="2077920"/>
                  <a:ext cx="131760" cy="4014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959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AutoShape 17"/>
                <p:cNvSpPr/>
                <p:nvPr/>
              </p:nvSpPr>
              <p:spPr>
                <a:xfrm rot="5400000">
                  <a:off x="2459880" y="2109600"/>
                  <a:ext cx="129960" cy="3362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Text Box 18"/>
              <p:cNvSpPr/>
              <p:nvPr/>
            </p:nvSpPr>
            <p:spPr>
              <a:xfrm>
                <a:off x="2346480" y="224784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Text Box 19"/>
            <p:cNvSpPr/>
            <p:nvPr/>
          </p:nvSpPr>
          <p:spPr>
            <a:xfrm>
              <a:off x="2989440" y="2255760"/>
              <a:ext cx="32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11"/>
          <p:cNvGrpSpPr/>
          <p:nvPr/>
        </p:nvGrpSpPr>
        <p:grpSpPr>
          <a:xfrm>
            <a:off x="8845560" y="1203480"/>
            <a:ext cx="363240" cy="2160360"/>
            <a:chOff x="8845560" y="1203480"/>
            <a:chExt cx="363240" cy="2160360"/>
          </a:xfrm>
        </p:grpSpPr>
        <p:sp>
          <p:nvSpPr>
            <p:cNvPr id="729" name="AutoShape 48"/>
            <p:cNvSpPr/>
            <p:nvPr/>
          </p:nvSpPr>
          <p:spPr>
            <a:xfrm>
              <a:off x="8845560" y="1203480"/>
              <a:ext cx="298440" cy="21603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21600" h="156197">
                  <a:moveTo>
                    <a:pt x="0" y="0"/>
                  </a:moveTo>
                  <a:arcTo wR="0" hR="0" stAng="16200000" swAng="-5400000"/>
                  <a:lnTo>
                    <a:pt x="0" y="156197"/>
                  </a:lnTo>
                  <a:arcTo wR="0" hR="0" stAng="10800000" swAng="-5400000"/>
                  <a:lnTo>
                    <a:pt x="21600" y="15619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13"/>
            <p:cNvGrpSpPr/>
            <p:nvPr/>
          </p:nvGrpSpPr>
          <p:grpSpPr>
            <a:xfrm>
              <a:off x="8889480" y="1203480"/>
              <a:ext cx="319320" cy="198000"/>
              <a:chOff x="8889480" y="1203480"/>
              <a:chExt cx="319320" cy="198000"/>
            </a:xfrm>
          </p:grpSpPr>
          <p:sp>
            <p:nvSpPr>
              <p:cNvPr id="731" name="AutoShape 50"/>
              <p:cNvSpPr/>
              <p:nvPr/>
            </p:nvSpPr>
            <p:spPr>
              <a:xfrm rot="5400000">
                <a:off x="8949960" y="1142640"/>
                <a:ext cx="198000" cy="319320"/>
              </a:xfrm>
              <a:prstGeom prst="rtTriangl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AutoShape 51"/>
              <p:cNvSpPr/>
              <p:nvPr/>
            </p:nvSpPr>
            <p:spPr>
              <a:xfrm rot="5400000">
                <a:off x="8927640" y="1167120"/>
                <a:ext cx="195120" cy="2674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Line 52"/>
            <p:cNvSpPr/>
            <p:nvPr/>
          </p:nvSpPr>
          <p:spPr>
            <a:xfrm>
              <a:off x="8893080" y="1347480"/>
              <a:ext cx="0" cy="20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53" descr=""/>
            <p:cNvPicPr/>
            <p:nvPr/>
          </p:nvPicPr>
          <p:blipFill>
            <a:blip r:embed="rId1"/>
            <a:stretch/>
          </p:blipFill>
          <p:spPr>
            <a:xfrm>
              <a:off x="8935920" y="1942920"/>
              <a:ext cx="233640" cy="56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2"/>
          <p:cNvGrpSpPr/>
          <p:nvPr/>
        </p:nvGrpSpPr>
        <p:grpSpPr>
          <a:xfrm>
            <a:off x="1625760" y="765000"/>
            <a:ext cx="7205040" cy="3745080"/>
            <a:chOff x="1625760" y="765000"/>
            <a:chExt cx="7205040" cy="3745080"/>
          </a:xfrm>
        </p:grpSpPr>
        <p:sp>
          <p:nvSpPr>
            <p:cNvPr id="736" name="AutoShape 3"/>
            <p:cNvSpPr/>
            <p:nvPr/>
          </p:nvSpPr>
          <p:spPr>
            <a:xfrm>
              <a:off x="3281040" y="765000"/>
              <a:ext cx="5549760" cy="37450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0c0c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4"/>
            <p:cNvSpPr/>
            <p:nvPr/>
          </p:nvSpPr>
          <p:spPr>
            <a:xfrm flipH="1">
              <a:off x="1625760" y="785520"/>
              <a:ext cx="7164000" cy="36831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5"/>
          <p:cNvGrpSpPr/>
          <p:nvPr/>
        </p:nvGrpSpPr>
        <p:grpSpPr>
          <a:xfrm>
            <a:off x="8789040" y="766800"/>
            <a:ext cx="454680" cy="3733920"/>
            <a:chOff x="8789040" y="766800"/>
            <a:chExt cx="454680" cy="3733920"/>
          </a:xfrm>
        </p:grpSpPr>
        <p:sp>
          <p:nvSpPr>
            <p:cNvPr id="739" name="Rectangle 13"/>
            <p:cNvSpPr/>
            <p:nvPr/>
          </p:nvSpPr>
          <p:spPr>
            <a:xfrm>
              <a:off x="8807400" y="766800"/>
              <a:ext cx="331560" cy="3733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14"/>
            <p:cNvSpPr/>
            <p:nvPr/>
          </p:nvSpPr>
          <p:spPr>
            <a:xfrm>
              <a:off x="8789040" y="900000"/>
              <a:ext cx="45468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时尚中黑简体"/>
                </a:rPr>
                <a:t>单击添加标题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Group 8"/>
            <p:cNvGrpSpPr/>
            <p:nvPr/>
          </p:nvGrpSpPr>
          <p:grpSpPr>
            <a:xfrm>
              <a:off x="8812080" y="777960"/>
              <a:ext cx="387360" cy="436680"/>
              <a:chOff x="8812080" y="777960"/>
              <a:chExt cx="387360" cy="436680"/>
            </a:xfrm>
          </p:grpSpPr>
          <p:sp>
            <p:nvSpPr>
              <p:cNvPr id="742" name="AutoShape 16"/>
              <p:cNvSpPr/>
              <p:nvPr/>
            </p:nvSpPr>
            <p:spPr>
              <a:xfrm rot="5400000">
                <a:off x="8787240" y="802440"/>
                <a:ext cx="436680" cy="387360"/>
              </a:xfrm>
              <a:prstGeom prst="rtTriangl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AutoShape 17"/>
              <p:cNvSpPr/>
              <p:nvPr/>
            </p:nvSpPr>
            <p:spPr>
              <a:xfrm rot="5400000">
                <a:off x="8761320" y="830880"/>
                <a:ext cx="430200" cy="32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4" name="Text Box 18"/>
          <p:cNvSpPr/>
          <p:nvPr/>
        </p:nvSpPr>
        <p:spPr>
          <a:xfrm>
            <a:off x="3713040" y="1258920"/>
            <a:ext cx="4753080" cy="30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添加文本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…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………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……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……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………………………………...…….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……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45" name="AutoShape 29"/>
          <p:cNvCxnSpPr/>
          <p:nvPr/>
        </p:nvCxnSpPr>
        <p:spPr>
          <a:xfrm flipH="1" rot="16200000">
            <a:off x="6598080" y="711000"/>
            <a:ext cx="540360" cy="131508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6" name="AutoShape 30"/>
          <p:cNvCxnSpPr>
            <a:stCxn id="747" idx="1"/>
            <a:endCxn id="748" idx="0"/>
          </p:cNvCxnSpPr>
          <p:nvPr/>
        </p:nvCxnSpPr>
        <p:spPr>
          <a:xfrm>
            <a:off x="6132240" y="1098720"/>
            <a:ext cx="396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AutoShape 31"/>
          <p:cNvCxnSpPr/>
          <p:nvPr/>
        </p:nvCxnSpPr>
        <p:spPr>
          <a:xfrm rot="5400000">
            <a:off x="5092920" y="668880"/>
            <a:ext cx="540360" cy="13993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50" name="Group 5"/>
          <p:cNvGrpSpPr/>
          <p:nvPr/>
        </p:nvGrpSpPr>
        <p:grpSpPr>
          <a:xfrm>
            <a:off x="4871880" y="628560"/>
            <a:ext cx="2519280" cy="504720"/>
            <a:chOff x="4871880" y="628560"/>
            <a:chExt cx="2519280" cy="504720"/>
          </a:xfrm>
        </p:grpSpPr>
        <p:grpSp>
          <p:nvGrpSpPr>
            <p:cNvPr id="751" name="Group 6"/>
            <p:cNvGrpSpPr/>
            <p:nvPr/>
          </p:nvGrpSpPr>
          <p:grpSpPr>
            <a:xfrm>
              <a:off x="4871880" y="628560"/>
              <a:ext cx="2519280" cy="504720"/>
              <a:chOff x="4871880" y="628560"/>
              <a:chExt cx="2519280" cy="504720"/>
            </a:xfrm>
          </p:grpSpPr>
          <p:sp>
            <p:nvSpPr>
              <p:cNvPr id="752" name="AutoShape 26"/>
              <p:cNvSpPr/>
              <p:nvPr/>
            </p:nvSpPr>
            <p:spPr>
              <a:xfrm rot="16200000">
                <a:off x="5879160" y="-378720"/>
                <a:ext cx="504720" cy="2519280"/>
              </a:xfrm>
              <a:custGeom>
                <a:avLst/>
                <a:gdLst>
                  <a:gd name="textAreaLeft" fmla="*/ 17280 w 504720"/>
                  <a:gd name="textAreaRight" fmla="*/ 487440 w 504720"/>
                  <a:gd name="textAreaTop" fmla="*/ 17280 h 2519280"/>
                  <a:gd name="textAreaBottom" fmla="*/ 2502000 h 2519280"/>
                </a:gdLst>
                <a:ahLst/>
                <a:rect l="textAreaLeft" t="textAreaTop" r="textAreaRight" b="textAreaBottom"/>
                <a:pathLst>
                  <a:path w="21600" h="107754">
                    <a:moveTo>
                      <a:pt x="2541" y="0"/>
                    </a:moveTo>
                    <a:arcTo wR="2541" hR="2541" stAng="16200000" swAng="-5400000"/>
                    <a:lnTo>
                      <a:pt x="0" y="105213"/>
                    </a:lnTo>
                    <a:arcTo wR="2541" hR="2541" stAng="10800000" swAng="-5400000"/>
                    <a:lnTo>
                      <a:pt x="19059" y="107754"/>
                    </a:lnTo>
                    <a:arcTo wR="2541" hR="2541" stAng="5400000" swAng="-5400000"/>
                    <a:lnTo>
                      <a:pt x="21600" y="2541"/>
                    </a:lnTo>
                    <a:arcTo wR="2541" hR="2541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27"/>
              <p:cNvSpPr/>
              <p:nvPr/>
            </p:nvSpPr>
            <p:spPr>
              <a:xfrm rot="16200000">
                <a:off x="5913000" y="-378720"/>
                <a:ext cx="437040" cy="2519280"/>
              </a:xfrm>
              <a:custGeom>
                <a:avLst/>
                <a:gdLst>
                  <a:gd name="textAreaLeft" fmla="*/ 3960 w 437040"/>
                  <a:gd name="textAreaRight" fmla="*/ 433080 w 437040"/>
                  <a:gd name="textAreaTop" fmla="*/ 3960 h 2519280"/>
                  <a:gd name="textAreaBottom" fmla="*/ 2515320 h 2519280"/>
                </a:gdLst>
                <a:ahLst/>
                <a:rect l="textAreaLeft" t="textAreaTop" r="textAreaRight" b="textAreaBottom"/>
                <a:pathLst>
                  <a:path w="21600" h="124427">
                    <a:moveTo>
                      <a:pt x="718" y="0"/>
                    </a:moveTo>
                    <a:arcTo wR="718" hR="718" stAng="16200000" swAng="-5400000"/>
                    <a:lnTo>
                      <a:pt x="0" y="123709"/>
                    </a:lnTo>
                    <a:arcTo wR="718" hR="718" stAng="10800000" swAng="-5400000"/>
                    <a:lnTo>
                      <a:pt x="20882" y="124427"/>
                    </a:lnTo>
                    <a:arcTo wR="718" hR="718" stAng="5400000" swAng="-5400000"/>
                    <a:lnTo>
                      <a:pt x="21600" y="718"/>
                    </a:lnTo>
                    <a:arcTo wR="718" hR="71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Rectangle 34"/>
            <p:cNvSpPr/>
            <p:nvPr/>
          </p:nvSpPr>
          <p:spPr>
            <a:xfrm>
              <a:off x="5726160" y="695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添加标题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0"/>
          <p:cNvGrpSpPr/>
          <p:nvPr/>
        </p:nvGrpSpPr>
        <p:grpSpPr>
          <a:xfrm>
            <a:off x="3957480" y="1636560"/>
            <a:ext cx="1261800" cy="2953080"/>
            <a:chOff x="3957480" y="1636560"/>
            <a:chExt cx="1261800" cy="2953080"/>
          </a:xfrm>
        </p:grpSpPr>
        <p:grpSp>
          <p:nvGrpSpPr>
            <p:cNvPr id="755" name="Group 11"/>
            <p:cNvGrpSpPr/>
            <p:nvPr/>
          </p:nvGrpSpPr>
          <p:grpSpPr>
            <a:xfrm>
              <a:off x="3957480" y="1636560"/>
              <a:ext cx="1261800" cy="2953080"/>
              <a:chOff x="3957480" y="1636560"/>
              <a:chExt cx="1261800" cy="2953080"/>
            </a:xfrm>
          </p:grpSpPr>
          <p:sp>
            <p:nvSpPr>
              <p:cNvPr id="756" name="AutoShape 16"/>
              <p:cNvSpPr/>
              <p:nvPr/>
            </p:nvSpPr>
            <p:spPr>
              <a:xfrm>
                <a:off x="3957480" y="1636560"/>
                <a:ext cx="1261800" cy="2953080"/>
              </a:xfrm>
              <a:custGeom>
                <a:avLst/>
                <a:gdLst>
                  <a:gd name="textAreaLeft" fmla="*/ 43200 w 1261800"/>
                  <a:gd name="textAreaRight" fmla="*/ 1218600 w 1261800"/>
                  <a:gd name="textAreaTop" fmla="*/ 43200 h 2953080"/>
                  <a:gd name="textAreaBottom" fmla="*/ 2909880 h 2953080"/>
                </a:gdLst>
                <a:ahLst/>
                <a:rect l="textAreaLeft" t="textAreaTop" r="textAreaRight" b="textAreaBottom"/>
                <a:pathLst>
                  <a:path w="21600" h="50544">
                    <a:moveTo>
                      <a:pt x="2541" y="0"/>
                    </a:moveTo>
                    <a:arcTo wR="2541" hR="2541" stAng="16200000" swAng="-5400000"/>
                    <a:lnTo>
                      <a:pt x="0" y="48003"/>
                    </a:lnTo>
                    <a:arcTo wR="2541" hR="2541" stAng="10800000" swAng="-5400000"/>
                    <a:lnTo>
                      <a:pt x="19059" y="50544"/>
                    </a:lnTo>
                    <a:arcTo wR="2541" hR="2541" stAng="5400000" swAng="-5400000"/>
                    <a:lnTo>
                      <a:pt x="21600" y="2541"/>
                    </a:lnTo>
                    <a:arcTo wR="2541" hR="2541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AutoShape 17"/>
              <p:cNvSpPr/>
              <p:nvPr/>
            </p:nvSpPr>
            <p:spPr>
              <a:xfrm>
                <a:off x="4042800" y="1636560"/>
                <a:ext cx="1092600" cy="2953080"/>
              </a:xfrm>
              <a:custGeom>
                <a:avLst/>
                <a:gdLst>
                  <a:gd name="textAreaLeft" fmla="*/ 10440 w 1092600"/>
                  <a:gd name="textAreaRight" fmla="*/ 1082160 w 1092600"/>
                  <a:gd name="textAreaTop" fmla="*/ 10440 h 2953080"/>
                  <a:gd name="textAreaBottom" fmla="*/ 2942640 h 2953080"/>
                </a:gdLst>
                <a:ahLst/>
                <a:rect l="textAreaLeft" t="textAreaTop" r="textAreaRight" b="textAreaBottom"/>
                <a:pathLst>
                  <a:path w="21600" h="58368">
                    <a:moveTo>
                      <a:pt x="718" y="0"/>
                    </a:moveTo>
                    <a:arcTo wR="718" hR="718" stAng="16200000" swAng="-5400000"/>
                    <a:lnTo>
                      <a:pt x="0" y="57650"/>
                    </a:lnTo>
                    <a:arcTo wR="718" hR="718" stAng="10800000" swAng="-5400000"/>
                    <a:lnTo>
                      <a:pt x="20882" y="58368"/>
                    </a:lnTo>
                    <a:arcTo wR="718" hR="718" stAng="5400000" swAng="-5400000"/>
                    <a:lnTo>
                      <a:pt x="21600" y="718"/>
                    </a:lnTo>
                    <a:arcTo wR="718" hR="71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Text Box 35"/>
            <p:cNvSpPr/>
            <p:nvPr/>
          </p:nvSpPr>
          <p:spPr>
            <a:xfrm>
              <a:off x="4100400" y="1766520"/>
              <a:ext cx="901800" cy="26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添加文本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…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.......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...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15"/>
          <p:cNvGrpSpPr/>
          <p:nvPr/>
        </p:nvGrpSpPr>
        <p:grpSpPr>
          <a:xfrm>
            <a:off x="5504040" y="1649520"/>
            <a:ext cx="1261440" cy="2952720"/>
            <a:chOff x="5504040" y="1649520"/>
            <a:chExt cx="1261440" cy="2952720"/>
          </a:xfrm>
        </p:grpSpPr>
        <p:grpSp>
          <p:nvGrpSpPr>
            <p:cNvPr id="760" name="Group 16"/>
            <p:cNvGrpSpPr/>
            <p:nvPr/>
          </p:nvGrpSpPr>
          <p:grpSpPr>
            <a:xfrm>
              <a:off x="5504040" y="1649520"/>
              <a:ext cx="1261440" cy="2952720"/>
              <a:chOff x="5504040" y="1649520"/>
              <a:chExt cx="1261440" cy="2952720"/>
            </a:xfrm>
          </p:grpSpPr>
          <p:sp>
            <p:nvSpPr>
              <p:cNvPr id="748" name="AutoShape 20"/>
              <p:cNvSpPr/>
              <p:nvPr/>
            </p:nvSpPr>
            <p:spPr>
              <a:xfrm>
                <a:off x="5504040" y="1649520"/>
                <a:ext cx="1261440" cy="2952720"/>
              </a:xfrm>
              <a:custGeom>
                <a:avLst/>
                <a:gdLst>
                  <a:gd name="textAreaLeft" fmla="*/ 43200 w 1261440"/>
                  <a:gd name="textAreaRight" fmla="*/ 1218240 w 1261440"/>
                  <a:gd name="textAreaTop" fmla="*/ 43200 h 2952720"/>
                  <a:gd name="textAreaBottom" fmla="*/ 2909520 h 2952720"/>
                </a:gdLst>
                <a:ahLst/>
                <a:rect l="textAreaLeft" t="textAreaTop" r="textAreaRight" b="textAreaBottom"/>
                <a:pathLst>
                  <a:path w="21600" h="50552">
                    <a:moveTo>
                      <a:pt x="2541" y="0"/>
                    </a:moveTo>
                    <a:arcTo wR="2541" hR="2541" stAng="16200000" swAng="-5400000"/>
                    <a:lnTo>
                      <a:pt x="0" y="48011"/>
                    </a:lnTo>
                    <a:arcTo wR="2541" hR="2541" stAng="10800000" swAng="-5400000"/>
                    <a:lnTo>
                      <a:pt x="19059" y="50552"/>
                    </a:lnTo>
                    <a:arcTo wR="2541" hR="2541" stAng="5400000" swAng="-5400000"/>
                    <a:lnTo>
                      <a:pt x="21600" y="2541"/>
                    </a:lnTo>
                    <a:arcTo wR="2541" hR="2541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21"/>
              <p:cNvSpPr/>
              <p:nvPr/>
            </p:nvSpPr>
            <p:spPr>
              <a:xfrm>
                <a:off x="5589360" y="1649520"/>
                <a:ext cx="1092600" cy="2952720"/>
              </a:xfrm>
              <a:custGeom>
                <a:avLst/>
                <a:gdLst>
                  <a:gd name="textAreaLeft" fmla="*/ 10440 w 1092600"/>
                  <a:gd name="textAreaRight" fmla="*/ 1082160 w 1092600"/>
                  <a:gd name="textAreaTop" fmla="*/ 10440 h 2952720"/>
                  <a:gd name="textAreaBottom" fmla="*/ 2942280 h 2952720"/>
                </a:gdLst>
                <a:ahLst/>
                <a:rect l="textAreaLeft" t="textAreaTop" r="textAreaRight" b="textAreaBottom"/>
                <a:pathLst>
                  <a:path w="21600" h="58361">
                    <a:moveTo>
                      <a:pt x="718" y="0"/>
                    </a:moveTo>
                    <a:arcTo wR="718" hR="718" stAng="16200000" swAng="-5400000"/>
                    <a:lnTo>
                      <a:pt x="0" y="57643"/>
                    </a:lnTo>
                    <a:arcTo wR="718" hR="718" stAng="10800000" swAng="-5400000"/>
                    <a:lnTo>
                      <a:pt x="20882" y="58361"/>
                    </a:lnTo>
                    <a:arcTo wR="718" hR="718" stAng="5400000" swAng="-5400000"/>
                    <a:lnTo>
                      <a:pt x="21600" y="718"/>
                    </a:lnTo>
                    <a:arcTo wR="718" hR="71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Text Box 36"/>
            <p:cNvSpPr/>
            <p:nvPr/>
          </p:nvSpPr>
          <p:spPr>
            <a:xfrm>
              <a:off x="5717880" y="1763640"/>
              <a:ext cx="901440" cy="26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添加文本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20"/>
          <p:cNvGrpSpPr/>
          <p:nvPr/>
        </p:nvGrpSpPr>
        <p:grpSpPr>
          <a:xfrm>
            <a:off x="7054920" y="1636560"/>
            <a:ext cx="1261800" cy="2953080"/>
            <a:chOff x="7054920" y="1636560"/>
            <a:chExt cx="1261800" cy="2953080"/>
          </a:xfrm>
        </p:grpSpPr>
        <p:grpSp>
          <p:nvGrpSpPr>
            <p:cNvPr id="764" name="Group 21"/>
            <p:cNvGrpSpPr/>
            <p:nvPr/>
          </p:nvGrpSpPr>
          <p:grpSpPr>
            <a:xfrm>
              <a:off x="7054920" y="1636560"/>
              <a:ext cx="1261800" cy="2953080"/>
              <a:chOff x="7054920" y="1636560"/>
              <a:chExt cx="1261800" cy="2953080"/>
            </a:xfrm>
          </p:grpSpPr>
          <p:sp>
            <p:nvSpPr>
              <p:cNvPr id="765" name="AutoShape 23"/>
              <p:cNvSpPr/>
              <p:nvPr/>
            </p:nvSpPr>
            <p:spPr>
              <a:xfrm>
                <a:off x="7054920" y="1636560"/>
                <a:ext cx="1261800" cy="2953080"/>
              </a:xfrm>
              <a:custGeom>
                <a:avLst/>
                <a:gdLst>
                  <a:gd name="textAreaLeft" fmla="*/ 43200 w 1261800"/>
                  <a:gd name="textAreaRight" fmla="*/ 1218600 w 1261800"/>
                  <a:gd name="textAreaTop" fmla="*/ 43200 h 2953080"/>
                  <a:gd name="textAreaBottom" fmla="*/ 2909880 h 2953080"/>
                </a:gdLst>
                <a:ahLst/>
                <a:rect l="textAreaLeft" t="textAreaTop" r="textAreaRight" b="textAreaBottom"/>
                <a:pathLst>
                  <a:path w="21600" h="50544">
                    <a:moveTo>
                      <a:pt x="2541" y="0"/>
                    </a:moveTo>
                    <a:arcTo wR="2541" hR="2541" stAng="16200000" swAng="-5400000"/>
                    <a:lnTo>
                      <a:pt x="0" y="48003"/>
                    </a:lnTo>
                    <a:arcTo wR="2541" hR="2541" stAng="10800000" swAng="-5400000"/>
                    <a:lnTo>
                      <a:pt x="19059" y="50544"/>
                    </a:lnTo>
                    <a:arcTo wR="2541" hR="2541" stAng="5400000" swAng="-5400000"/>
                    <a:lnTo>
                      <a:pt x="21600" y="2541"/>
                    </a:lnTo>
                    <a:arcTo wR="2541" hR="2541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24"/>
              <p:cNvSpPr/>
              <p:nvPr/>
            </p:nvSpPr>
            <p:spPr>
              <a:xfrm>
                <a:off x="7140240" y="1636560"/>
                <a:ext cx="1092600" cy="2953080"/>
              </a:xfrm>
              <a:custGeom>
                <a:avLst/>
                <a:gdLst>
                  <a:gd name="textAreaLeft" fmla="*/ 10440 w 1092600"/>
                  <a:gd name="textAreaRight" fmla="*/ 1082160 w 1092600"/>
                  <a:gd name="textAreaTop" fmla="*/ 10440 h 2953080"/>
                  <a:gd name="textAreaBottom" fmla="*/ 2942640 h 2953080"/>
                </a:gdLst>
                <a:ahLst/>
                <a:rect l="textAreaLeft" t="textAreaTop" r="textAreaRight" b="textAreaBottom"/>
                <a:pathLst>
                  <a:path w="21600" h="58368">
                    <a:moveTo>
                      <a:pt x="718" y="0"/>
                    </a:moveTo>
                    <a:arcTo wR="718" hR="718" stAng="16200000" swAng="-5400000"/>
                    <a:lnTo>
                      <a:pt x="0" y="57650"/>
                    </a:lnTo>
                    <a:arcTo wR="718" hR="718" stAng="10800000" swAng="-5400000"/>
                    <a:lnTo>
                      <a:pt x="20882" y="58368"/>
                    </a:lnTo>
                    <a:arcTo wR="718" hR="718" stAng="5400000" swAng="-5400000"/>
                    <a:lnTo>
                      <a:pt x="21600" y="718"/>
                    </a:lnTo>
                    <a:arcTo wR="718" hR="71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Text Box 53"/>
            <p:cNvSpPr/>
            <p:nvPr/>
          </p:nvSpPr>
          <p:spPr>
            <a:xfrm>
              <a:off x="7248600" y="1760760"/>
              <a:ext cx="901800" cy="26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添加文本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2340000" y="2201400"/>
            <a:ext cx="4248000" cy="445320"/>
            <a:chOff x="2340000" y="2201400"/>
            <a:chExt cx="4248000" cy="445320"/>
          </a:xfrm>
        </p:grpSpPr>
        <p:grpSp>
          <p:nvGrpSpPr>
            <p:cNvPr id="769" name="Group 3"/>
            <p:cNvGrpSpPr/>
            <p:nvPr/>
          </p:nvGrpSpPr>
          <p:grpSpPr>
            <a:xfrm>
              <a:off x="2340000" y="2201400"/>
              <a:ext cx="4248000" cy="445320"/>
              <a:chOff x="2340000" y="2201400"/>
              <a:chExt cx="4248000" cy="445320"/>
            </a:xfrm>
          </p:grpSpPr>
          <p:sp>
            <p:nvSpPr>
              <p:cNvPr id="770" name="AutoShape 13"/>
              <p:cNvSpPr/>
              <p:nvPr/>
            </p:nvSpPr>
            <p:spPr>
              <a:xfrm rot="10800000">
                <a:off x="2340000" y="2201040"/>
                <a:ext cx="4248000" cy="3906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0c0c0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14"/>
              <p:cNvSpPr/>
              <p:nvPr/>
            </p:nvSpPr>
            <p:spPr>
              <a:xfrm flipH="1" rot="10800000">
                <a:off x="2724840" y="2220480"/>
                <a:ext cx="3825720" cy="358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2" name="Group 6"/>
              <p:cNvGrpSpPr/>
              <p:nvPr/>
            </p:nvGrpSpPr>
            <p:grpSpPr>
              <a:xfrm>
                <a:off x="2354040" y="2212920"/>
                <a:ext cx="401400" cy="131760"/>
                <a:chOff x="2354040" y="2212920"/>
                <a:chExt cx="401400" cy="131760"/>
              </a:xfrm>
            </p:grpSpPr>
            <p:sp>
              <p:nvSpPr>
                <p:cNvPr id="773" name="AutoShape 16"/>
                <p:cNvSpPr/>
                <p:nvPr/>
              </p:nvSpPr>
              <p:spPr>
                <a:xfrm rot="5400000">
                  <a:off x="2488680" y="2077920"/>
                  <a:ext cx="131760" cy="4014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959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AutoShape 17"/>
                <p:cNvSpPr/>
                <p:nvPr/>
              </p:nvSpPr>
              <p:spPr>
                <a:xfrm rot="5400000">
                  <a:off x="2459880" y="2109600"/>
                  <a:ext cx="129960" cy="3362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Text Box 18"/>
              <p:cNvSpPr/>
              <p:nvPr/>
            </p:nvSpPr>
            <p:spPr>
              <a:xfrm>
                <a:off x="2346480" y="224784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Text Box 19"/>
            <p:cNvSpPr/>
            <p:nvPr/>
          </p:nvSpPr>
          <p:spPr>
            <a:xfrm>
              <a:off x="2989440" y="2255760"/>
              <a:ext cx="32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11"/>
          <p:cNvGrpSpPr/>
          <p:nvPr/>
        </p:nvGrpSpPr>
        <p:grpSpPr>
          <a:xfrm>
            <a:off x="8845560" y="1203480"/>
            <a:ext cx="363240" cy="2160360"/>
            <a:chOff x="8845560" y="1203480"/>
            <a:chExt cx="363240" cy="2160360"/>
          </a:xfrm>
        </p:grpSpPr>
        <p:sp>
          <p:nvSpPr>
            <p:cNvPr id="778" name="AutoShape 21"/>
            <p:cNvSpPr/>
            <p:nvPr/>
          </p:nvSpPr>
          <p:spPr>
            <a:xfrm>
              <a:off x="8845560" y="1203480"/>
              <a:ext cx="298440" cy="21603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21600" h="156197">
                  <a:moveTo>
                    <a:pt x="0" y="0"/>
                  </a:moveTo>
                  <a:arcTo wR="0" hR="0" stAng="16200000" swAng="-5400000"/>
                  <a:lnTo>
                    <a:pt x="0" y="156197"/>
                  </a:lnTo>
                  <a:arcTo wR="0" hR="0" stAng="10800000" swAng="-5400000"/>
                  <a:lnTo>
                    <a:pt x="21600" y="15619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13"/>
            <p:cNvGrpSpPr/>
            <p:nvPr/>
          </p:nvGrpSpPr>
          <p:grpSpPr>
            <a:xfrm>
              <a:off x="8889480" y="1203480"/>
              <a:ext cx="319320" cy="198000"/>
              <a:chOff x="8889480" y="1203480"/>
              <a:chExt cx="319320" cy="198000"/>
            </a:xfrm>
          </p:grpSpPr>
          <p:sp>
            <p:nvSpPr>
              <p:cNvPr id="780" name="AutoShape 23"/>
              <p:cNvSpPr/>
              <p:nvPr/>
            </p:nvSpPr>
            <p:spPr>
              <a:xfrm rot="5400000">
                <a:off x="8949960" y="1142640"/>
                <a:ext cx="198000" cy="319320"/>
              </a:xfrm>
              <a:prstGeom prst="rtTriangl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24"/>
              <p:cNvSpPr/>
              <p:nvPr/>
            </p:nvSpPr>
            <p:spPr>
              <a:xfrm rot="5400000">
                <a:off x="8927640" y="1167120"/>
                <a:ext cx="195120" cy="2674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" name="Line 25"/>
            <p:cNvSpPr/>
            <p:nvPr/>
          </p:nvSpPr>
          <p:spPr>
            <a:xfrm>
              <a:off x="8893080" y="1347480"/>
              <a:ext cx="0" cy="20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3" name="Picture 26" descr=""/>
            <p:cNvPicPr/>
            <p:nvPr/>
          </p:nvPicPr>
          <p:blipFill>
            <a:blip r:embed="rId1"/>
            <a:stretch/>
          </p:blipFill>
          <p:spPr>
            <a:xfrm>
              <a:off x="8935920" y="1942920"/>
              <a:ext cx="233640" cy="56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1618920" y="765000"/>
            <a:ext cx="7206120" cy="1590840"/>
            <a:chOff x="1618920" y="765000"/>
            <a:chExt cx="7206120" cy="1590840"/>
          </a:xfrm>
        </p:grpSpPr>
        <p:sp>
          <p:nvSpPr>
            <p:cNvPr id="785" name="AutoShape 18"/>
            <p:cNvSpPr/>
            <p:nvPr/>
          </p:nvSpPr>
          <p:spPr>
            <a:xfrm>
              <a:off x="3274920" y="765000"/>
              <a:ext cx="5550120" cy="15908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0c0c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AutoShape 19"/>
            <p:cNvSpPr/>
            <p:nvPr/>
          </p:nvSpPr>
          <p:spPr>
            <a:xfrm flipH="1">
              <a:off x="1618560" y="773640"/>
              <a:ext cx="7164360" cy="15645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5"/>
          <p:cNvGrpSpPr/>
          <p:nvPr/>
        </p:nvGrpSpPr>
        <p:grpSpPr>
          <a:xfrm>
            <a:off x="8782920" y="766800"/>
            <a:ext cx="454680" cy="1587600"/>
            <a:chOff x="8782920" y="766800"/>
            <a:chExt cx="454680" cy="1587600"/>
          </a:xfrm>
        </p:grpSpPr>
        <p:sp>
          <p:nvSpPr>
            <p:cNvPr id="788" name="Rectangle 21"/>
            <p:cNvSpPr/>
            <p:nvPr/>
          </p:nvSpPr>
          <p:spPr>
            <a:xfrm>
              <a:off x="8801280" y="766800"/>
              <a:ext cx="331560" cy="158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22"/>
            <p:cNvSpPr/>
            <p:nvPr/>
          </p:nvSpPr>
          <p:spPr>
            <a:xfrm>
              <a:off x="8782920" y="823320"/>
              <a:ext cx="45468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时尚中黑简体"/>
                </a:rPr>
                <a:t>标题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Group 8"/>
            <p:cNvGrpSpPr/>
            <p:nvPr/>
          </p:nvGrpSpPr>
          <p:grpSpPr>
            <a:xfrm>
              <a:off x="8805960" y="771480"/>
              <a:ext cx="387360" cy="185400"/>
              <a:chOff x="8805960" y="771480"/>
              <a:chExt cx="387360" cy="185400"/>
            </a:xfrm>
          </p:grpSpPr>
          <p:sp>
            <p:nvSpPr>
              <p:cNvPr id="791" name="AutoShape 24"/>
              <p:cNvSpPr/>
              <p:nvPr/>
            </p:nvSpPr>
            <p:spPr>
              <a:xfrm rot="5400000">
                <a:off x="8906760" y="670320"/>
                <a:ext cx="185400" cy="387360"/>
              </a:xfrm>
              <a:prstGeom prst="rtTriangl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utoShape 25"/>
              <p:cNvSpPr/>
              <p:nvPr/>
            </p:nvSpPr>
            <p:spPr>
              <a:xfrm rot="5400000">
                <a:off x="8879040" y="700560"/>
                <a:ext cx="182520" cy="32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3" name="Text Box 26"/>
          <p:cNvSpPr/>
          <p:nvPr/>
        </p:nvSpPr>
        <p:spPr>
          <a:xfrm>
            <a:off x="3706920" y="988920"/>
            <a:ext cx="47527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添加文本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…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1618920" y="2532240"/>
            <a:ext cx="7206120" cy="1590480"/>
            <a:chOff x="1618920" y="2532240"/>
            <a:chExt cx="7206120" cy="1590480"/>
          </a:xfrm>
        </p:grpSpPr>
        <p:sp>
          <p:nvSpPr>
            <p:cNvPr id="795" name="AutoShape 28"/>
            <p:cNvSpPr/>
            <p:nvPr/>
          </p:nvSpPr>
          <p:spPr>
            <a:xfrm>
              <a:off x="3274920" y="2532240"/>
              <a:ext cx="5550120" cy="15904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0c0c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29"/>
            <p:cNvSpPr/>
            <p:nvPr/>
          </p:nvSpPr>
          <p:spPr>
            <a:xfrm flipH="1">
              <a:off x="1618560" y="2540880"/>
              <a:ext cx="7164360" cy="15642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15"/>
          <p:cNvGrpSpPr/>
          <p:nvPr/>
        </p:nvGrpSpPr>
        <p:grpSpPr>
          <a:xfrm>
            <a:off x="8782920" y="2533680"/>
            <a:ext cx="454680" cy="1587600"/>
            <a:chOff x="8782920" y="2533680"/>
            <a:chExt cx="454680" cy="1587600"/>
          </a:xfrm>
        </p:grpSpPr>
        <p:sp>
          <p:nvSpPr>
            <p:cNvPr id="798" name="Rectangle 31"/>
            <p:cNvSpPr/>
            <p:nvPr/>
          </p:nvSpPr>
          <p:spPr>
            <a:xfrm>
              <a:off x="8801280" y="2533680"/>
              <a:ext cx="331560" cy="158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32"/>
            <p:cNvSpPr/>
            <p:nvPr/>
          </p:nvSpPr>
          <p:spPr>
            <a:xfrm>
              <a:off x="8782920" y="2590200"/>
              <a:ext cx="45468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时尚中黑简体"/>
                </a:rPr>
                <a:t>标题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18"/>
            <p:cNvGrpSpPr/>
            <p:nvPr/>
          </p:nvGrpSpPr>
          <p:grpSpPr>
            <a:xfrm>
              <a:off x="8805960" y="2538360"/>
              <a:ext cx="387360" cy="185400"/>
              <a:chOff x="8805960" y="2538360"/>
              <a:chExt cx="387360" cy="185400"/>
            </a:xfrm>
          </p:grpSpPr>
          <p:sp>
            <p:nvSpPr>
              <p:cNvPr id="801" name="AutoShape 34"/>
              <p:cNvSpPr/>
              <p:nvPr/>
            </p:nvSpPr>
            <p:spPr>
              <a:xfrm rot="5400000">
                <a:off x="8906760" y="2437200"/>
                <a:ext cx="185400" cy="387360"/>
              </a:xfrm>
              <a:prstGeom prst="rtTriangl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AutoShape 35"/>
              <p:cNvSpPr/>
              <p:nvPr/>
            </p:nvSpPr>
            <p:spPr>
              <a:xfrm rot="5400000">
                <a:off x="8879040" y="2467440"/>
                <a:ext cx="182520" cy="32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Text Box 36"/>
          <p:cNvSpPr/>
          <p:nvPr/>
        </p:nvSpPr>
        <p:spPr>
          <a:xfrm>
            <a:off x="3564000" y="2811600"/>
            <a:ext cx="47530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添加文本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…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88000" y="444492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4"/>
          <p:cNvSpPr/>
          <p:nvPr/>
        </p:nvSpPr>
        <p:spPr>
          <a:xfrm rot="18299400">
            <a:off x="5980320" y="26982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Group 3"/>
          <p:cNvGrpSpPr/>
          <p:nvPr/>
        </p:nvGrpSpPr>
        <p:grpSpPr>
          <a:xfrm>
            <a:off x="2176560" y="839880"/>
            <a:ext cx="1655640" cy="1585800"/>
            <a:chOff x="2176560" y="839880"/>
            <a:chExt cx="1655640" cy="1585800"/>
          </a:xfrm>
        </p:grpSpPr>
        <p:sp>
          <p:nvSpPr>
            <p:cNvPr id="807" name="Oval 7"/>
            <p:cNvSpPr/>
            <p:nvPr/>
          </p:nvSpPr>
          <p:spPr>
            <a:xfrm>
              <a:off x="2176560" y="839880"/>
              <a:ext cx="1514520" cy="1514520"/>
            </a:xfrm>
            <a:prstGeom prst="ellipse">
              <a:avLst/>
            </a:prstGeom>
            <a:solidFill>
              <a:srgbClr val="00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8"/>
            <p:cNvSpPr/>
            <p:nvPr/>
          </p:nvSpPr>
          <p:spPr>
            <a:xfrm>
              <a:off x="3256200" y="1849680"/>
              <a:ext cx="576000" cy="576000"/>
            </a:xfrm>
            <a:prstGeom prst="ellipse">
              <a:avLst/>
            </a:prstGeom>
            <a:solidFill>
              <a:srgbClr val="000000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6"/>
          <p:cNvGrpSpPr/>
          <p:nvPr/>
        </p:nvGrpSpPr>
        <p:grpSpPr>
          <a:xfrm>
            <a:off x="1979640" y="360360"/>
            <a:ext cx="2160720" cy="2624040"/>
            <a:chOff x="1979640" y="360360"/>
            <a:chExt cx="2160720" cy="2624040"/>
          </a:xfrm>
        </p:grpSpPr>
        <p:pic>
          <p:nvPicPr>
            <p:cNvPr id="810" name="Picture 10" descr=""/>
            <p:cNvPicPr/>
            <p:nvPr/>
          </p:nvPicPr>
          <p:blipFill>
            <a:blip r:embed="rId1"/>
            <a:srcRect l="50393" t="14347" r="23269" b="14347"/>
            <a:stretch/>
          </p:blipFill>
          <p:spPr>
            <a:xfrm>
              <a:off x="3113280" y="1744560"/>
              <a:ext cx="1027080" cy="12398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811" name="Picture 11" descr=""/>
            <p:cNvPicPr/>
            <p:nvPr/>
          </p:nvPicPr>
          <p:blipFill>
            <a:blip r:embed="rId2"/>
            <a:srcRect l="23266" t="14347" r="50963" b="14347"/>
            <a:stretch/>
          </p:blipFill>
          <p:spPr>
            <a:xfrm>
              <a:off x="1979640" y="360360"/>
              <a:ext cx="1765440" cy="217656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</p:pic>
      </p:grp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"/>
          <p:cNvGrpSpPr/>
          <p:nvPr/>
        </p:nvGrpSpPr>
        <p:grpSpPr>
          <a:xfrm>
            <a:off x="1141560" y="0"/>
            <a:ext cx="6352920" cy="5145120"/>
            <a:chOff x="1141560" y="0"/>
            <a:chExt cx="6352920" cy="5145120"/>
          </a:xfrm>
        </p:grpSpPr>
        <p:sp>
          <p:nvSpPr>
            <p:cNvPr id="813" name="矩形 4"/>
            <p:cNvSpPr/>
            <p:nvPr/>
          </p:nvSpPr>
          <p:spPr>
            <a:xfrm>
              <a:off x="160632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1560" y="1286280"/>
              <a:ext cx="6352920" cy="38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Box 7"/>
            <p:cNvSpPr/>
            <p:nvPr/>
          </p:nvSpPr>
          <p:spPr>
            <a:xfrm rot="20926800">
              <a:off x="2582280" y="2664000"/>
              <a:ext cx="3502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6:09:32Z</dcterms:created>
  <dc:creator>王茹薇</dc:creator>
  <dc:description/>
  <dc:language>en-US</dc:language>
  <cp:lastModifiedBy>a</cp:lastModifiedBy>
  <dcterms:modified xsi:type="dcterms:W3CDTF">2015-01-14T13:08:19Z</dcterms:modified>
  <cp:revision>78</cp:revision>
  <dc:subject/>
  <dc:title>武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