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AA9-1736-4741-A75A-17B856BA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7E4-2C99-4C4C-9993-7019F9CF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FDF-0C27-4185-87DC-1BEE9069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B97-C838-4FF7-8219-829EE4CC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9AEF-2346-4BC1-B257-CCCADE77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18F4-E6E3-4560-81CB-BE707ACD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044A-8B2F-4900-9E88-8E4A28B0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EFBD-4513-4B8D-A435-14B39BDE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AA4E-39F9-4FEB-ADFB-6E33F086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B68D-96AA-411C-8B69-9120CCE8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9EBC-2DEB-49AE-9DB6-DB7F06E0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C5D-1D48-40E9-9E3D-687328F4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7276-60EE-4DC0-8F3E-3D21C9E3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D984-CD8D-419C-B7FF-30936647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035D-7F05-43ED-8464-3FC70BB0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80AA-4947-4E10-8772-7EF70BDC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7785-4D9E-4068-A887-EA2AB9B3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391-B611-4BED-8995-C7480C08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C55-D68A-4E21-9C59-BF16C835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9BC-3149-4B0F-93F6-E40BB83A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FC7-BF3D-4839-BBEE-BFFBD06A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397-E922-4470-B532-815A4638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675-6267-40D8-AE28-8BE0A95A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F12-C020-44A2-BE0E-6CB307F8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ADD4-E706-40A7-8C78-FBE59C3DB9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77E2-9BF2-4B46-A317-399156FC75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Users\SlideIdea-6\Desktop\8480sss\8480\1.jpg"/>
          <p:cNvPicPr/>
          <p:nvPr/>
        </p:nvPicPr>
        <p:blipFill>
          <a:blip r:embed="rId2"/>
          <a:srcRect l="-63" t="0" r="0" b="0"/>
          <a:stretch/>
        </p:blipFill>
        <p:spPr>
          <a:xfrm>
            <a:off x="-14400" y="0"/>
            <a:ext cx="9151920" cy="5143680"/>
          </a:xfrm>
          <a:prstGeom prst="rect">
            <a:avLst/>
          </a:prstGeom>
          <a:ln w="0">
            <a:noFill/>
          </a:ln>
        </p:spPr>
      </p:pic>
      <p:sp>
        <p:nvSpPr>
          <p:cNvPr id="6" name="矩形 7"/>
          <p:cNvSpPr/>
          <p:nvPr/>
        </p:nvSpPr>
        <p:spPr>
          <a:xfrm>
            <a:off x="1116000" y="0"/>
            <a:ext cx="6767640" cy="5143680"/>
          </a:xfrm>
          <a:prstGeom prst="rect">
            <a:avLst/>
          </a:prstGeom>
          <a:solidFill>
            <a:srgbClr val="eaf1dd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8"/>
          <p:cNvSpPr/>
          <p:nvPr/>
        </p:nvSpPr>
        <p:spPr>
          <a:xfrm>
            <a:off x="6480" y="0"/>
            <a:ext cx="1109520" cy="514188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9"/>
          <p:cNvSpPr/>
          <p:nvPr/>
        </p:nvSpPr>
        <p:spPr>
          <a:xfrm>
            <a:off x="7883640" y="1440"/>
            <a:ext cx="1253880" cy="514368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A877-1BFD-4905-86FA-5E1A6767558B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C75F-469F-49E7-9F9E-86C4E69A179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SlideIdea-6\Desktop\8480sss\8480\1.jpg"/>
          <p:cNvPicPr/>
          <p:nvPr/>
        </p:nvPicPr>
        <p:blipFill>
          <a:blip r:embed="rId1"/>
          <a:srcRect l="-63" t="0" r="0" b="0"/>
          <a:stretch/>
        </p:blipFill>
        <p:spPr>
          <a:xfrm>
            <a:off x="-14400" y="0"/>
            <a:ext cx="915192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1187280" y="0"/>
            <a:ext cx="3800520" cy="5143680"/>
          </a:xfrm>
          <a:prstGeom prst="rect">
            <a:avLst/>
          </a:prstGeom>
          <a:solidFill>
            <a:srgbClr val="eaf1dd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020240" y="18320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6923c"/>
                </a:solidFill>
                <a:latin typeface="Script MT Bold"/>
                <a:ea typeface="微软雅黑"/>
              </a:rPr>
              <a:t>Beautiful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021040" y="252108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923c"/>
                </a:solidFill>
                <a:latin typeface="Script MT Bold"/>
                <a:ea typeface="Arial Unicode MS"/>
              </a:rPr>
              <a:t>Slideidea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1389240" y="22003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67560" y="445788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"/>
          <p:cNvSpPr/>
          <p:nvPr/>
        </p:nvSpPr>
        <p:spPr>
          <a:xfrm>
            <a:off x="2022480" y="148896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双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1446120" y="4096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8"/>
          <p:cNvSpPr/>
          <p:nvPr/>
        </p:nvSpPr>
        <p:spPr>
          <a:xfrm>
            <a:off x="1547640" y="1557360"/>
            <a:ext cx="216000" cy="21600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9"/>
          <p:cNvSpPr/>
          <p:nvPr/>
        </p:nvSpPr>
        <p:spPr>
          <a:xfrm>
            <a:off x="2022480" y="2205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双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0"/>
          <p:cNvSpPr/>
          <p:nvPr/>
        </p:nvSpPr>
        <p:spPr>
          <a:xfrm>
            <a:off x="1547640" y="2271600"/>
            <a:ext cx="216000" cy="21600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2022480" y="292572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双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2"/>
          <p:cNvSpPr/>
          <p:nvPr/>
        </p:nvSpPr>
        <p:spPr>
          <a:xfrm>
            <a:off x="1547640" y="2992320"/>
            <a:ext cx="216000" cy="21600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658880" y="1995480"/>
            <a:ext cx="1987560" cy="1735200"/>
          </a:xfrm>
          <a:prstGeom prst="rect">
            <a:avLst/>
          </a:prstGeom>
          <a:ln cap="sq" w="38160">
            <a:solidFill>
              <a:srgbClr val="76923c"/>
            </a:solidFill>
            <a:miter/>
          </a:ln>
        </p:spPr>
      </p:pic>
      <p:sp>
        <p:nvSpPr>
          <p:cNvPr id="100" name="矩形 3"/>
          <p:cNvSpPr/>
          <p:nvPr/>
        </p:nvSpPr>
        <p:spPr>
          <a:xfrm>
            <a:off x="1579680" y="127620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102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7T23:02:00Z</dcterms:created>
  <dc:creator>SlideIdea-6</dc:creator>
  <dc:description/>
  <dc:language>en-US</dc:language>
  <cp:lastModifiedBy>a</cp:lastModifiedBy>
  <dcterms:modified xsi:type="dcterms:W3CDTF">2015-01-14T13:05:20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