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17F8-F031-4C38-A83D-15CBEA37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37D-EA9F-4E29-AD21-C7C84B84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2CD6C-A902-470E-9015-7AF9357B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5D99D-4261-4144-84CE-6AC7C2F3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B58F4-7003-430D-B8B1-DD9ECD8F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FDCF2-9266-433A-8766-5ED2EA5E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D3801-4255-4AEC-987F-E98D06FC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FDC70-F1E8-4B38-AE0F-3998EF3B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54B59-FBA8-41BB-8797-1F1679B5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D2CBA-98E7-467D-970B-21E15C4B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04E5B-9087-4050-9499-41206BF4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D15C0-D3E6-4D5F-8604-85017233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0CE-1843-4228-918A-98D2C712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54C9B-FD92-4F7D-BE9F-9365CBDC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3341A-FB35-4137-BBC9-5410220F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CCA4A-36A5-4D44-BF9F-8513E292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C9D58-9604-4FCC-87DF-F8649BC4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D2F35-35E3-461A-BA76-52B4D206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FA1CF-7973-4A6E-9BD8-1BAE757B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A66C7-4AD0-4392-8EAF-7125BFA4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37820-EEF1-489C-BAFF-3C444A69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C2F3A-2BC6-438D-BB79-BF1C8638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657CD-1B83-4CB3-AD60-AB86E4C0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D612-37C0-40FE-814B-F5D2109B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0E5FC-469D-48B8-8CD2-C317FAF1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223A3-486E-4C5D-9E71-265E6B07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F512C-7464-4367-87BB-429507CF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90CC9-D281-4241-8ADE-E88F39BA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BD5A6-5EA1-4B13-BAA4-E1878C46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B89B7-93E2-45CC-B7C4-A3718C1E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9A7A6-D6FD-470A-913E-9EE36389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B1EEE-514E-4C77-8C41-DDB4D30D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5C4EA-4EEE-4108-9BD6-78CC22A1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159C2-511D-4C02-9A31-275056F3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4236-F2CF-4999-B229-3727BEEC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F84BD-CCE1-4645-BE30-8CD18D26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BF938-F003-4F77-B31D-6597286D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FA0C8-A269-487B-8AC4-46E54E92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9C313-FC30-4A13-A561-DDE55463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4980D-285F-4E8D-ABFD-F42C1CA4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C291F-F76C-42BE-AA6F-10F98285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C6BAC-F9F4-42FD-B7BD-F1A9919D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5CE54-2C3C-4E29-95D2-7F8F14A2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6F1CE-BD9D-497F-80F9-6BD6479E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F7325-157C-4DEC-8787-4EEFEAB7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4F77-82DD-4650-B2DC-0E7BA95D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9932E-399E-4834-BF10-2AB13AD8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FA018-C5B7-42DE-9A90-737D9626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22D33-B984-4666-9650-D1CFC8C0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B1987-0D21-417C-85D6-0846E97D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D3066-57CF-4655-AEB7-BF3602F9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3826C-8455-46A1-BD2F-36F349E8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399AF-069B-4D01-940C-8DC643B0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7886F-3F48-429F-91A9-BE48EC7E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CB436-28D5-4C26-AEA4-484C289C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DE9185-5A04-4E23-8779-4D917030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2926-CDA0-4F5A-8FC2-1E004F2D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2D321-670D-4DB9-B665-06A4B5CB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63B540-3431-45A2-83FC-83D91509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F56108-3FE6-43B8-85F0-FBEAF455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C13CFA-86B5-4A53-9F87-242C8118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D23B8-3394-4CC5-B300-E9F1E421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090EA2-B081-4F81-95F9-99ED9CEF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9D39C-645A-43B2-A4DB-0FB91C37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C426-9958-445D-8FE3-19E1F7C7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E8CB-BE74-4563-B137-725EF484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EB41-5FFF-4688-AF6A-6796931F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A285-F15D-4E51-99ED-7C3D1E3F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A5DB-DFED-4E87-B371-9AAF5D54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1303-9F78-403F-8810-27955E9F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268D-34A7-480E-807C-BE4AA4C4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580A-F0E1-4D42-B01C-947845E4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F391-7EC0-4FDB-B83E-70311304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B7D3-D7E1-4506-A52C-AA2FD5B3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EE6A5-005C-4F2C-8A1B-1467247D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471FF-44F8-4710-9F53-5AE0F26B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5223E-59FD-416A-B116-C73AD333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1BE0C-2138-4D94-8698-AC4CC4FE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3AB81-BA8D-49BF-94E4-058A029D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2669-694B-497E-B243-2BFE8908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720BC-D8A8-4048-9E47-74AEE384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B09F5-F2D1-419F-BF05-FE52A459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3344C-E5DB-4C2E-9D6D-3378279D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81935-4193-4317-A2F5-D1FCFC8D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8FEC7-874A-441B-B046-864FF6B6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2BA7A-A006-4552-9A02-81E7CFF9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AFB0B-7D9D-46D3-8DE6-836541CC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F4FE4-3ACB-451D-B5F0-68C53A1A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5AC2C-1379-4EF0-9F75-4EA6DD63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7960F-E22C-4B16-9BEE-7ED20256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F23-1756-4014-8965-6267F9AF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6885D-43CD-401F-BC31-6BE61C6C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7E9BE-6C07-4637-B715-73C9844D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D3125-EB57-462A-8437-CCD3E75B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1A125-7892-43A2-816F-E2B50731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23448-336D-4E5A-AA93-1F14F90F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752DE-EA51-4E59-ACC6-DD1EFBC0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87DFF-FCAA-4858-88CB-A06F12BD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A8DB3-4230-4ED6-9458-A0012F7F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C1084-9037-483D-8835-888ECFA5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FB055-3D56-41A3-B826-F9D9D047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55F-4899-4311-ADAE-91DFE40A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2997B-88C0-4327-BF76-7886D29A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3CEF6-1C5D-4141-9723-E8057972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71EE5-F982-4E8F-B718-AAC89732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0A884-CCAA-410E-A707-5D237F68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0B8D5-49F8-4485-97EE-BC968238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FAEFA-1989-441C-840F-6B7182B9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E7C6A-8F1F-4F12-8A5F-1C390D83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61DE1-CCB3-4776-BBDF-340D9A09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F5896-253C-43B7-93F7-FDC112DC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70EBE-62CD-4486-98CA-C9988F6F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3EEB-946F-47CB-B9CF-9A4B0318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B29B9-9713-444D-80C0-3AE11DD1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AEF6A-986E-4F30-8992-3166361D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21649-3C3A-4B6D-92A8-35119418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193FA-33FA-4FE9-AD46-619AA330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2758A-5962-433D-8CA4-AC6E1436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08DF0-98CE-44FD-8874-C3DE5C92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9F8C6-192A-4A87-8F0A-A392DBB3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CF85D-3984-49C9-8D01-3CE3CCB6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2EA1D-11AC-429B-A370-F4DCC5B1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FAB60-79E0-40A1-B47B-8E4E8BAB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BD0-5635-481B-B523-DE33575E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FA531-FED4-4478-8217-4735CF0C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A8BD9-549E-47EA-BD5B-F2EB76FC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74A6D-40FD-47FE-97E8-A40FB6AE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763A6-7D2D-4A3C-A95E-F71263B5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23880-9C51-4B21-A187-91BEC36D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59496-F545-4787-85D2-B9E0C05F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F03EB-A215-410B-8C68-ADA11EBA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F816C-96C8-4AA6-936F-DB247D1C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3D998-2AE3-475B-B431-3712C55C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29EA4-2EE0-4951-95ED-BF335E8E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7AE-3C89-4E36-BA6A-476BC2C7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D2847-0DFE-4FFF-AEB2-11EB7AB9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F128A-0224-4FA8-81D8-30C1FCEC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22030-5493-4C73-8F49-5799C2BB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BD865-9865-4FB7-B1D9-023A3C26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9C8CA-CD77-4CE6-B423-8E313848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5A6CF-D51F-4981-AAB9-C5DA1E20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1103D-568D-4A4D-ABC3-58436331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F2BB6-59FB-41A1-81A6-03376F5B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BAD6B-964A-4E4A-B1B9-51A2DD9B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04145-BAF4-49D1-8844-4561B324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E869-AFA3-40F0-977E-937CDF9C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28783-3703-4384-BBD8-F4DA185F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F2574-B761-46F8-8D1D-6C8F5FCA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F87C0-2E8A-4E96-87B4-CD570875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701EF-5273-47F0-AAAC-059F6FDA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C741B-129D-40D4-AED8-3388C65F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AA8AF-1A3D-4263-ADD8-4C36C513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A0E84-8F15-42F9-B1F1-F77ECDE0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12D29-5100-4E5D-9F0C-35784373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AC264-F902-4947-9001-F77B3000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99D22-8592-4A82-B96C-01A48755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1027-36F2-4CC2-B610-8F131A6664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20C4-3C57-4EF1-BFF3-76AD55A9737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2986-9B85-482A-93F3-BAA835AE99A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D1E7-2309-4F9C-B4E8-FF96EB21005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23A9-BFD8-4646-BF14-4807988673D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D658-0941-4587-A484-6AAB85FE032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D726-C529-47DE-9C80-4208E87D099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2B22-C4A2-4437-97C4-B3DF814B4AD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5BDE-C8BD-474A-8D57-CDC0FEE8624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75A7-A4FD-4A7B-B09E-62AA681BE56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4A8F-7418-4337-BBB3-F1B2CB201A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0781-C775-4395-A920-C22B26F1B58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F24D-F550-43E1-B49F-C997AACB3D8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61B1-3241-466F-B518-132D7B61536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8D3A-A61C-4F59-BD39-A0D13FCD16F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CDF1-FA41-4824-B3BD-2D904445195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6A58-7720-43BD-B80E-709FAED2388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DBD0-06BF-4918-8D90-8B33BA19213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05BE-F891-425A-9DF5-37523415515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6C04-660F-4810-9749-444B67A25FC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3590-EFFC-443D-8549-79358C71D76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567F-A82F-492A-AC22-380DF33FA9E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8F31-1BE4-444C-99EF-67A56E7A8D9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2550-E74F-433F-857D-696468C97E5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8734-FA90-4C00-ACCF-5250BBCED1A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568520" y="1274760"/>
            <a:ext cx="18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个人爱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558800" y="3070080"/>
            <a:ext cx="19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联系方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1574640" y="2470320"/>
            <a:ext cx="18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自我评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1573200" y="1854360"/>
            <a:ext cx="20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工作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AutoShape 6"/>
          <p:cNvSpPr/>
          <p:nvPr/>
        </p:nvSpPr>
        <p:spPr>
          <a:xfrm flipH="1">
            <a:off x="1219320" y="1438200"/>
            <a:ext cx="241200" cy="25416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AutoShape 7"/>
          <p:cNvSpPr/>
          <p:nvPr/>
        </p:nvSpPr>
        <p:spPr>
          <a:xfrm flipH="1">
            <a:off x="1216080" y="2003400"/>
            <a:ext cx="239760" cy="254160"/>
          </a:xfrm>
          <a:prstGeom prst="diamond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AutoShape 8"/>
          <p:cNvSpPr/>
          <p:nvPr/>
        </p:nvSpPr>
        <p:spPr>
          <a:xfrm flipH="1">
            <a:off x="1216080" y="2587680"/>
            <a:ext cx="239760" cy="253800"/>
          </a:xfrm>
          <a:prstGeom prst="diamond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AutoShape 9"/>
          <p:cNvSpPr/>
          <p:nvPr/>
        </p:nvSpPr>
        <p:spPr>
          <a:xfrm flipH="1">
            <a:off x="1216080" y="3171960"/>
            <a:ext cx="239760" cy="253800"/>
          </a:xfrm>
          <a:prstGeom prst="diamond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1555920" y="36496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获奖情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565280" y="4245120"/>
            <a:ext cx="19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个性特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AutoShape 12"/>
          <p:cNvSpPr/>
          <p:nvPr/>
        </p:nvSpPr>
        <p:spPr>
          <a:xfrm flipH="1">
            <a:off x="1210680" y="3824280"/>
            <a:ext cx="239400" cy="255600"/>
          </a:xfrm>
          <a:prstGeom prst="diamond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AutoShape 13"/>
          <p:cNvSpPr/>
          <p:nvPr/>
        </p:nvSpPr>
        <p:spPr>
          <a:xfrm flipH="1">
            <a:off x="1225440" y="4394160"/>
            <a:ext cx="239760" cy="254160"/>
          </a:xfrm>
          <a:prstGeom prst="diamond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543240" y="88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时尚中黑简体"/>
              </a:rPr>
              <a:t>过渡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/>
          <p:nvPr/>
        </p:nvSpPr>
        <p:spPr>
          <a:xfrm>
            <a:off x="395280" y="645480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563c1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楷体"/>
                <a:ea typeface="楷体"/>
                <a:hlinkClick r:id="rId2"/>
              </a:rPr>
              <a:t>免费PPT模板</a:t>
            </a:r>
            <a:r>
              <a:rPr b="1" lang="zh-CN" sz="1400" spc="-1" strike="noStrike">
                <a:solidFill>
                  <a:srgbClr val="0563c1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0563c1"/>
                </a:solidFill>
                <a:latin typeface="Calibri"/>
              </a:rPr>
              <a:t>：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917280" y="390600"/>
            <a:ext cx="91152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时尚中黑简体"/>
              </a:rPr>
              <a:t>个人爱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2127240" y="1409760"/>
            <a:ext cx="45720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2355840" y="2611440"/>
            <a:ext cx="4572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019320" y="1486080"/>
            <a:ext cx="8043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4d4d4d"/>
                </a:solidFill>
                <a:latin typeface="Calibri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4d4d4d"/>
                </a:solidFill>
                <a:latin typeface="Calibri"/>
                <a:ea typeface="微软雅黑"/>
              </a:rPr>
              <a:t>我性格活泼开朗，微笑是我的招牌。我爱唱歌、弹吉他、跳舞。幼年时曾作过许多色彩斑斓的梦，当个播音员、或者当一名电视节目主持人是我最大的梦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52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5:43:58Z</dcterms:created>
  <dc:creator>sg</dc:creator>
  <dc:description/>
  <dc:language>en-US</dc:language>
  <cp:lastModifiedBy>a</cp:lastModifiedBy>
  <dcterms:modified xsi:type="dcterms:W3CDTF">2015-01-14T05:44:0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