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2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BC16-CA79-44E5-99C7-C734B8BD8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244B-88CD-483F-BC2E-85B3142A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771779-8022-4D8F-A163-4605E04C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5C89E-5DD5-4D6B-8264-366295CC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FB1898-4287-4BD5-B6FC-9508FE6A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45AEC7-16AE-44D2-ACC8-1D2D84EE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7C770-04C4-4088-80B4-38BFF30E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A8B39F-15A8-40D2-821B-2115FB4C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C24C1-ECE0-49F9-B935-061C30DD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E30C68-76C5-4D84-9CAE-81612A793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7B20BF-AA9B-43EB-A385-26CF0473C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6E9B62-E323-47BD-B353-9391AF877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4D5E-AF40-4735-A6CC-ACC902164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136FEB-D47A-450D-8888-5C9243FC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128BD8-CCDC-4AF9-81DE-8B3F9982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429861-8B78-45D1-8549-4BB53E52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476F11-B3B6-4871-8D66-AB9704B9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4306DE-6E1D-43F8-851A-4A35D0E6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5EB7F1-5785-4BAC-B995-511FCD7A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05AA97-1BE5-45A8-A116-54ACEC65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B5E329-E56F-4D4D-98E0-56D6F98A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85B46F-9F43-49BC-AAC7-D7AD7B4C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47F9CC-07D2-4263-A659-6B2E42F30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17D1-5EA5-4A5B-818C-6FA3774B1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50066E-8640-4642-891C-08972A4DA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74C8C-B438-44AD-A87F-BCC95A694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32104A-E8A8-4B62-A2AE-B93DD1AC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74AB48-0E8A-43F1-9AFD-B66BCCEA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7D08D-ABD8-49E9-AB5B-78FA181D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61182B-243D-4800-9437-4110E64B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5EF11-6327-456C-AB47-D7D9F346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89698-D055-48E4-B73D-6C89760A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D59168-4157-4FDE-B1CB-48E755FF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F62ED3-E484-4413-9DB8-33721CA1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318D-0ED8-4976-A13A-81D145C8C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A84924-81F7-4498-86F0-2D229BB7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76B63E-E0ED-4A7B-AA27-454CE1CA5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FE8329-14FB-4781-944C-97648C240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B8507E-E9F1-4816-A143-F036C8AD8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900F60-3266-43D8-ACA8-7C881AFD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A0BDFD-C96F-4FF9-A618-2999EB03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A9BC94-67F6-48A8-8C4E-78464652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A3E7EA-7808-4525-85B9-A7E17F38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142799-6501-49EE-8C48-49F19235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8805F9-B726-4038-8353-3F1463E5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DE9A-75F3-424E-BC5B-8FA94D56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F4E078-D94F-4898-88C7-CEABD6A4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77DD49-65CD-4B4D-8160-1472AF75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0B4DB0-C4FA-4739-82D1-5B0037FF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DA4B06-7327-4C7D-A53B-070521F2A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5A21AD-1F4B-4821-B0C5-E42C40BC8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50E416-5696-43E1-9BD3-CF7451146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A7947D-BA89-46BD-B112-3CD7048A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084B1C-56B5-4484-A4A9-DB691A20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160F04-A8EE-4D11-B5A4-296BF587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58E1CE-B0E9-48A8-8DF1-7E55C197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BDB9-5104-4EDF-B728-0AEA4CD5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D7D329-2E2E-40B2-8F6D-7EE1A21F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189355-9074-4AB2-8F7E-F762C411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F48464-2A15-4E67-BE14-84101311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C05F9C-D992-4DB6-A2A4-453B8B7A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42BABD-0B1A-40F3-BA16-A74C680B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619F0D-AA81-4D93-A9B2-2F4EDEF6A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7B478D-5830-4A45-A74E-5AC9BDDF3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C5FC49-7A50-4377-BF8A-7ED05D31B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32CC6B-A14E-4DEF-8B13-BC06AD82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39CD38-EF10-4E70-AA5D-B0C5891E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460F-EF08-4550-B8CD-46392688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F5C2DC-EE02-4C5C-AD84-3690016D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81B9F3-9C52-42F3-8453-7448DC49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6519E0-833A-4294-9A25-2D12B678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F2A79C-42DE-4AF4-BE18-A01EE552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468472-0BE9-4337-B778-DE2B149F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A97CB9-3040-4707-B3C4-18049D38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2C3F18-1C91-41A0-9382-36B7D49B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9B3695-5E32-42E8-88EE-CC26F85EB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E4775D-275C-4816-AF7A-CB3C034AD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009B-9E96-41FC-9DC1-B938DBAF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30B0-C52B-440C-AFFF-C4E852A2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405B1-9715-4003-858A-8603CD0E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F210-4FAA-4916-B160-A211F07F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6F367-D677-4A1A-835F-3E98CB5F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7295-451B-47B7-B7BE-04FB79B1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9CFB-80FD-4BC1-9780-EB667274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38CE4-7807-4092-BBE5-D4CD7FA6D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743EA-ABBE-423F-AADF-2E8B926FB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29557-0684-492D-8292-090D04690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3F90A-DFEE-4421-86F9-CBF8E801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2BB80-2828-474C-9231-56E01254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7D7C7-00CD-42C0-AD53-918C037B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C124B-B88A-4B4D-8CA3-94BE4DAF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9E6E-FF0E-468A-AC5D-74BD9D7F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1F9C0-FD5F-459B-9EC8-95834B78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587AE-9138-45D9-AAD6-B481A92E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82137-DD5C-4310-8666-53BF3F6C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FED53-6075-407B-BE5B-7E6073A5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B64E5-46DC-48C5-A93A-9262CB67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8920C-DCA3-4485-ADF3-8534E9C02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EFE81-9F81-487B-86F2-2DFA69B2E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ABEB4-817A-475B-88C5-4435D0B35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A5EA1-2703-4E82-8D19-462BD3B7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C7276-8D3E-4B6F-88EC-C18497E0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B633-03DA-4EE1-8E46-63EA23FE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98149-6082-4A82-B247-B7CD1AD7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7976D-7F42-4CF8-A55A-6D32CBD0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BF22A-FFC5-4D21-B95E-DB57B5D7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F6804-8BF8-497B-9012-91DC1F46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B9879-8303-415B-B30A-B994CE0C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2289F-11F8-4170-B1DE-C8E9C6F9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40584-E553-44A1-9F5F-3BE19597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AF27A-0FDF-4573-8704-87A3DF3D5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F2169-BA1E-4812-A1FA-B568BE4A1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A4D4E-4E40-4525-BB49-241CCCF5B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F811-36E7-4958-9EFC-7ABBC0E8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2AF01-E146-467D-A1F2-2D11C545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F0580-9CE5-4C31-B7B7-000C41D7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850C0-1FCA-421B-AB7E-6B471363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9CEB4-2812-4D9F-9C06-2F438501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08A55-D903-4A1D-A531-DA9704B0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A173D-576F-4C5B-BF57-AF3B1F2F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0FD8B-B9ED-4438-A082-9C5E7FB8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15785-5F62-4038-B660-24941033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78410-323B-42B8-9D50-F85C7D10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53F4D-E9C6-4DF0-A528-E44B91FF4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451F-3BAD-43DF-8B4D-EEC7F3D4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C7435-0A26-4FB6-BBE3-BE24A3BF3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1BCC1-68AD-473B-A383-C62FE6E60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CD703-CBD9-4FBB-9611-188D9C13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DF88C-F7CC-4092-A826-DA5E70A8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15B2E-565B-430D-8135-E45246E1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515D9-269F-4098-8A7A-4995A3B8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D1297-2EC8-4C9B-BC9C-68CC0CE4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CA93F-04C2-46A7-AD94-22F6982B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BDD25-8EFF-461E-9A7E-C21558AD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36234-7289-47BD-9B71-E0585950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326E-6ADF-4010-B512-4200D4CA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5E29A-1897-47BC-9835-F638C307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EBDB5-D00D-4DAA-B0DC-30DF10B63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4810B-08F7-40E5-AFF5-EF9844734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066A2-4477-427B-A255-D1B1A6856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C8550-E48B-4A13-8DF2-1574CDFE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D992A-D832-4603-9026-A8522A64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F9B4A-046B-4434-9B2B-7D8752EC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FF40A-70FA-4386-94ED-5D6A8CDD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C393D-59A1-4D9F-BA71-9462A92B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3C1A7-EDA3-4E23-8164-111FEDE9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D82E-BD72-4231-A939-42CEDEDA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DB3F9-231E-4520-ADD3-3363D864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8873F-F219-48D0-B184-CA4B823C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54B06-44FC-4026-A665-D786CB50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3D9D4-F43A-49D4-B358-56552DD94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48D1B-5187-4F09-A7D4-04D0CBC91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3FEB6-5C5C-4D78-BFDB-E939BAABB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787E2-01F1-45B5-8DD0-315B26E7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6DFB3-576D-4A74-A2E6-678DCACD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56970-DC31-46A6-B3ED-D82641AE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FD492-89CC-4FEB-8B3B-7F6F2DC4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05BE-82A4-4318-A09E-CCB7C65B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C3F0F-B8C6-4BCE-9DD6-8E29E076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88C15-880D-451B-8022-EC2469CF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478BC-1C39-45D9-A1AE-E1FA36DB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0F2B9-6534-4FCA-A748-B836C5D1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636B2-A759-4F21-8C2A-0339F0CA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53442-9244-4887-9F1B-5993FE5BD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B0150-2BBA-4E99-9E2B-1DEBC0F38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2A7180-6E71-4079-BA48-C0F04EB99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AFF668-6813-4D01-9325-5C2DD079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388B9E-447C-469C-8189-60A4AD8A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3F2E-306E-4C95-A976-81D690A8B111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0E15-6E33-4D9A-B91E-3F0EC1A61E5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0F60-5217-4E70-B896-D2967EDA05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9A25-17B2-491D-8C7A-61AD0287614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2340-7A65-4E0A-B561-26F6DC59BE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8B01-899C-4CE1-8598-91316404ED2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4969-F31C-45D1-A928-1E748B98FF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9FEA-C2B6-4A75-8AF0-4F02FC9A142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155C-E29E-4445-9346-8F3CB4A46C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6013-24BD-46D4-9287-8B421C9E051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BB44-9141-4BF7-9F19-D2F3E87254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61EC-2D67-4E67-989E-CEA193F0B37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9752-624D-4C6A-9951-EF209F3B02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63CB-A815-4C23-A19F-6E69C1F6F80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7B21-F164-427A-B1C6-9BD04868CF2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F548-43DC-418F-B5C5-5BEB949366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F940-7FDB-40F4-966F-A9AD8039E60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A4CF-DF4F-4FD1-907C-37EC0CD8E7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5E2C-1677-4804-8E4E-2F40ADE2563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A2E8-11A4-473A-BBAE-F974619FA8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815C-D904-40F5-A429-A248F44F974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0592-D5E0-4FE5-8044-8F77841299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BB6C-57E1-4664-9244-0B054277483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A139-EFA1-4922-9E99-D5C1409883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4D97-90CF-49A6-A097-109CBE57F7C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6EBA-EAC4-4181-B5CA-BCF0F18B5E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2" descr="背景2"/>
          <p:cNvPicPr/>
          <p:nvPr/>
        </p:nvPicPr>
        <p:blipFill>
          <a:blip r:embed="rId1"/>
          <a:stretch/>
        </p:blipFill>
        <p:spPr>
          <a:xfrm>
            <a:off x="3240" y="3240"/>
            <a:ext cx="9142200" cy="685476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3" descr="箭头"/>
          <p:cNvPicPr/>
          <p:nvPr/>
        </p:nvPicPr>
        <p:blipFill>
          <a:blip r:embed="rId2"/>
          <a:stretch/>
        </p:blipFill>
        <p:spPr>
          <a:xfrm>
            <a:off x="36360" y="2633760"/>
            <a:ext cx="3238560" cy="8683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4" descr="LOGO"/>
          <p:cNvPicPr/>
          <p:nvPr/>
        </p:nvPicPr>
        <p:blipFill>
          <a:blip r:embed="rId3"/>
          <a:stretch/>
        </p:blipFill>
        <p:spPr>
          <a:xfrm>
            <a:off x="3365640" y="2421000"/>
            <a:ext cx="2376360" cy="180000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5" descr="箭头2"/>
          <p:cNvPicPr/>
          <p:nvPr/>
        </p:nvPicPr>
        <p:blipFill>
          <a:blip r:embed="rId4"/>
          <a:stretch/>
        </p:blipFill>
        <p:spPr>
          <a:xfrm>
            <a:off x="5869080" y="2624040"/>
            <a:ext cx="3240000" cy="878040"/>
          </a:xfrm>
          <a:prstGeom prst="rect">
            <a:avLst/>
          </a:prstGeom>
          <a:ln w="0">
            <a:noFill/>
          </a:ln>
        </p:spPr>
      </p:pic>
    </p:spTree>
  </p:cSld>
  <p:transition advTm="5000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2" descr="背景1"/>
          <p:cNvPicPr/>
          <p:nvPr/>
        </p:nvPicPr>
        <p:blipFill>
          <a:blip r:embed="rId1"/>
          <a:stretch/>
        </p:blipFill>
        <p:spPr>
          <a:xfrm>
            <a:off x="1440" y="4680"/>
            <a:ext cx="9141120" cy="685476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3" descr="内容背景"/>
          <p:cNvPicPr/>
          <p:nvPr/>
        </p:nvPicPr>
        <p:blipFill>
          <a:blip r:embed="rId2"/>
          <a:stretch/>
        </p:blipFill>
        <p:spPr>
          <a:xfrm>
            <a:off x="1440" y="1440"/>
            <a:ext cx="9141120" cy="685512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4" descr="虚线2"/>
          <p:cNvPicPr/>
          <p:nvPr/>
        </p:nvPicPr>
        <p:blipFill>
          <a:blip r:embed="rId3"/>
          <a:stretch/>
        </p:blipFill>
        <p:spPr>
          <a:xfrm>
            <a:off x="4946760" y="1440"/>
            <a:ext cx="4195800" cy="68580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5" descr="虚线3"/>
          <p:cNvPicPr/>
          <p:nvPr/>
        </p:nvPicPr>
        <p:blipFill>
          <a:blip r:embed="rId4"/>
          <a:stretch/>
        </p:blipFill>
        <p:spPr>
          <a:xfrm>
            <a:off x="930240" y="2666880"/>
            <a:ext cx="3470400" cy="4381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6" descr="虚线3"/>
          <p:cNvPicPr/>
          <p:nvPr/>
        </p:nvPicPr>
        <p:blipFill>
          <a:blip r:embed="rId5"/>
          <a:stretch/>
        </p:blipFill>
        <p:spPr>
          <a:xfrm>
            <a:off x="900000" y="3772080"/>
            <a:ext cx="3471840" cy="43812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7"/>
          <p:cNvSpPr/>
          <p:nvPr/>
        </p:nvSpPr>
        <p:spPr>
          <a:xfrm>
            <a:off x="1649520" y="2492280"/>
            <a:ext cx="25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1601"/>
                </a:solidFill>
                <a:latin typeface="幼圆"/>
                <a:ea typeface="幼圆"/>
              </a:rPr>
              <a:t>及 时 行 乐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8"/>
          <p:cNvSpPr/>
          <p:nvPr/>
        </p:nvSpPr>
        <p:spPr>
          <a:xfrm>
            <a:off x="1649520" y="3606840"/>
            <a:ext cx="25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1601"/>
                </a:solidFill>
                <a:latin typeface="幼圆"/>
                <a:ea typeface="幼圆"/>
              </a:rPr>
              <a:t>乐 在 其 中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strips dir="r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背景2"/>
          <p:cNvPicPr/>
          <p:nvPr/>
        </p:nvPicPr>
        <p:blipFill>
          <a:blip r:embed="rId1"/>
          <a:stretch/>
        </p:blipFill>
        <p:spPr>
          <a:xfrm>
            <a:off x="3240" y="3240"/>
            <a:ext cx="9137520" cy="685152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3" descr="过度页"/>
          <p:cNvPicPr/>
          <p:nvPr/>
        </p:nvPicPr>
        <p:blipFill>
          <a:blip r:embed="rId2"/>
          <a:stretch/>
        </p:blipFill>
        <p:spPr>
          <a:xfrm>
            <a:off x="0" y="3240"/>
            <a:ext cx="9144000" cy="59929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4" descr="年份条"/>
          <p:cNvPicPr/>
          <p:nvPr/>
        </p:nvPicPr>
        <p:blipFill>
          <a:blip r:embed="rId3"/>
          <a:stretch/>
        </p:blipFill>
        <p:spPr>
          <a:xfrm>
            <a:off x="0" y="6161040"/>
            <a:ext cx="9140760" cy="29844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5"/>
          <p:cNvSpPr/>
          <p:nvPr/>
        </p:nvSpPr>
        <p:spPr>
          <a:xfrm>
            <a:off x="2931840" y="2854440"/>
            <a:ext cx="3437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1601"/>
                </a:solidFill>
                <a:latin typeface="幼圆"/>
                <a:ea typeface="幼圆"/>
              </a:rPr>
              <a:t>及 时 行 乐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1601"/>
                </a:solidFill>
                <a:latin typeface="Berlin Sans FB"/>
                <a:ea typeface="幼圆"/>
              </a:rPr>
              <a:t>m a k e   m e r r y   w h i l e   o n e   c a n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strips dir="r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3" descr="背景1"/>
          <p:cNvPicPr/>
          <p:nvPr/>
        </p:nvPicPr>
        <p:blipFill>
          <a:blip r:embed="rId1"/>
          <a:stretch/>
        </p:blipFill>
        <p:spPr>
          <a:xfrm>
            <a:off x="1440" y="1440"/>
            <a:ext cx="9141120" cy="685512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4" descr="小钟"/>
          <p:cNvPicPr/>
          <p:nvPr/>
        </p:nvPicPr>
        <p:blipFill>
          <a:blip r:embed="rId2"/>
          <a:stretch/>
        </p:blipFill>
        <p:spPr>
          <a:xfrm>
            <a:off x="0" y="0"/>
            <a:ext cx="1341360" cy="15937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5" descr="虚线框"/>
          <p:cNvPicPr/>
          <p:nvPr/>
        </p:nvPicPr>
        <p:blipFill>
          <a:blip r:embed="rId3"/>
          <a:stretch/>
        </p:blipFill>
        <p:spPr>
          <a:xfrm>
            <a:off x="1117440" y="1492200"/>
            <a:ext cx="6910560" cy="43848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6" descr="年份条"/>
          <p:cNvPicPr/>
          <p:nvPr/>
        </p:nvPicPr>
        <p:blipFill>
          <a:blip r:embed="rId4"/>
          <a:stretch/>
        </p:blipFill>
        <p:spPr>
          <a:xfrm>
            <a:off x="3240" y="6310440"/>
            <a:ext cx="9140760" cy="29988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7"/>
          <p:cNvSpPr/>
          <p:nvPr/>
        </p:nvSpPr>
        <p:spPr>
          <a:xfrm>
            <a:off x="1386360" y="6206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1601"/>
                </a:solidFill>
                <a:latin typeface="幼圆"/>
                <a:ea typeface="幼圆"/>
              </a:rPr>
              <a:t>及 时 行 乐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8"/>
          <p:cNvSpPr/>
          <p:nvPr/>
        </p:nvSpPr>
        <p:spPr>
          <a:xfrm>
            <a:off x="1222200" y="1557360"/>
            <a:ext cx="2484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3300"/>
                </a:solidFill>
                <a:latin typeface="华文细黑"/>
                <a:ea typeface="华文细黑"/>
              </a:rPr>
              <a:t>昼短苦夜长，何不秉烛游！为乐当及时，何能待来兹？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3300"/>
                </a:solidFill>
                <a:latin typeface="华文细黑"/>
                <a:ea typeface="华文细黑"/>
              </a:rPr>
              <a:t>------</a:t>
            </a:r>
            <a:r>
              <a:rPr b="1" lang="zh-CN" sz="1800" spc="-1" strike="noStrike">
                <a:solidFill>
                  <a:srgbClr val="993300"/>
                </a:solidFill>
                <a:latin typeface="华文细黑"/>
                <a:ea typeface="华文细黑"/>
              </a:rPr>
              <a:t>《生年不满百》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9"/>
          <p:cNvSpPr/>
          <p:nvPr/>
        </p:nvSpPr>
        <p:spPr>
          <a:xfrm>
            <a:off x="3132000" y="2408400"/>
            <a:ext cx="48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1601"/>
                </a:solidFill>
                <a:latin typeface="Arial"/>
                <a:ea typeface="华文细黑"/>
              </a:rPr>
              <a:t>                </a:t>
            </a:r>
            <a:r>
              <a:rPr b="0" lang="zh-CN" sz="1600" spc="-1" strike="noStrike">
                <a:solidFill>
                  <a:srgbClr val="5b1601"/>
                </a:solidFill>
                <a:latin typeface="Arial"/>
                <a:ea typeface="华文细黑"/>
              </a:rPr>
              <a:t>在短暂的生命里，我们将大部分时间       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1601"/>
                </a:solidFill>
                <a:latin typeface="Arial"/>
                <a:ea typeface="华文细黑"/>
              </a:rPr>
              <a:t>        </a:t>
            </a:r>
            <a:r>
              <a:rPr b="0" lang="zh-CN" sz="1800" spc="-1" strike="noStrike">
                <a:solidFill>
                  <a:srgbClr val="5b1601"/>
                </a:solidFill>
                <a:latin typeface="Arial"/>
                <a:ea typeface="华文细黑"/>
              </a:rPr>
              <a:t>用在事业和工作上。如果工作中不及时行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1601"/>
                </a:solidFill>
                <a:latin typeface="Arial"/>
                <a:ea typeface="华文细黑"/>
              </a:rPr>
              <a:t>        </a:t>
            </a:r>
            <a:r>
              <a:rPr b="0" lang="zh-CN" sz="1800" spc="-1" strike="noStrike">
                <a:solidFill>
                  <a:srgbClr val="5b1601"/>
                </a:solidFill>
                <a:latin typeface="Arial"/>
                <a:ea typeface="华文细黑"/>
              </a:rPr>
              <a:t>乐，那么必然不会是一个快乐的人。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1601"/>
                </a:solidFill>
                <a:latin typeface="Arial"/>
                <a:ea typeface="华文细黑"/>
              </a:rPr>
              <a:t>              </a:t>
            </a:r>
            <a:r>
              <a:rPr b="0" lang="zh-CN" sz="1800" spc="-1" strike="noStrike">
                <a:solidFill>
                  <a:srgbClr val="5b1601"/>
                </a:solidFill>
                <a:latin typeface="Arial"/>
                <a:ea typeface="华文细黑"/>
              </a:rPr>
              <a:t>我们不能改变整个世界，但是我们可以改变自己；我们不能改变时间，但却可以改变心态。热爱自己的工作，用感恩的心去对待自己的工作，你会觉得幸福、充实，感到生活温暖，并迸发出干劲和活力，其主动性、积极性的一面也会发挥到极致。这就是用快乐诠释工作。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strips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2" descr="背景2"/>
          <p:cNvPicPr/>
          <p:nvPr/>
        </p:nvPicPr>
        <p:blipFill>
          <a:blip r:embed="rId1"/>
          <a:stretch/>
        </p:blipFill>
        <p:spPr>
          <a:xfrm>
            <a:off x="3240" y="3240"/>
            <a:ext cx="9137520" cy="685152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3" descr="过度页"/>
          <p:cNvPicPr/>
          <p:nvPr/>
        </p:nvPicPr>
        <p:blipFill>
          <a:blip r:embed="rId2"/>
          <a:stretch/>
        </p:blipFill>
        <p:spPr>
          <a:xfrm>
            <a:off x="0" y="3240"/>
            <a:ext cx="9144000" cy="599292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4" descr="年份条"/>
          <p:cNvPicPr/>
          <p:nvPr/>
        </p:nvPicPr>
        <p:blipFill>
          <a:blip r:embed="rId3"/>
          <a:stretch/>
        </p:blipFill>
        <p:spPr>
          <a:xfrm>
            <a:off x="0" y="6161040"/>
            <a:ext cx="9140760" cy="298440"/>
          </a:xfrm>
          <a:prstGeom prst="rect">
            <a:avLst/>
          </a:prstGeom>
          <a:ln w="0">
            <a:noFill/>
          </a:ln>
        </p:spPr>
      </p:pic>
      <p:sp>
        <p:nvSpPr>
          <p:cNvPr id="600" name="Text Box 5"/>
          <p:cNvSpPr/>
          <p:nvPr/>
        </p:nvSpPr>
        <p:spPr>
          <a:xfrm>
            <a:off x="3444480" y="2854440"/>
            <a:ext cx="2412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1601"/>
                </a:solidFill>
                <a:latin typeface="幼圆"/>
                <a:ea typeface="幼圆"/>
              </a:rPr>
              <a:t>乐 在 其 中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1601"/>
                </a:solidFill>
                <a:latin typeface="Berlin Sans FB"/>
                <a:ea typeface="幼圆"/>
              </a:rPr>
              <a:t>f i n d  p l e a s u r e   i n   i t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strips dir="r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3" descr="背景1"/>
          <p:cNvPicPr/>
          <p:nvPr/>
        </p:nvPicPr>
        <p:blipFill>
          <a:blip r:embed="rId1"/>
          <a:stretch/>
        </p:blipFill>
        <p:spPr>
          <a:xfrm>
            <a:off x="1440" y="1440"/>
            <a:ext cx="9141120" cy="68551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4" descr="小钟"/>
          <p:cNvPicPr/>
          <p:nvPr/>
        </p:nvPicPr>
        <p:blipFill>
          <a:blip r:embed="rId2"/>
          <a:stretch/>
        </p:blipFill>
        <p:spPr>
          <a:xfrm>
            <a:off x="0" y="0"/>
            <a:ext cx="1341360" cy="15937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5" descr="虚线框"/>
          <p:cNvPicPr/>
          <p:nvPr/>
        </p:nvPicPr>
        <p:blipFill>
          <a:blip r:embed="rId3"/>
          <a:stretch/>
        </p:blipFill>
        <p:spPr>
          <a:xfrm>
            <a:off x="1117440" y="1492200"/>
            <a:ext cx="6910560" cy="438480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6" descr="年份条"/>
          <p:cNvPicPr/>
          <p:nvPr/>
        </p:nvPicPr>
        <p:blipFill>
          <a:blip r:embed="rId4"/>
          <a:stretch/>
        </p:blipFill>
        <p:spPr>
          <a:xfrm>
            <a:off x="3240" y="6310440"/>
            <a:ext cx="9140760" cy="299880"/>
          </a:xfrm>
          <a:prstGeom prst="rect">
            <a:avLst/>
          </a:prstGeom>
          <a:ln w="0">
            <a:noFill/>
          </a:ln>
        </p:spPr>
      </p:pic>
      <p:sp>
        <p:nvSpPr>
          <p:cNvPr id="606" name="Text Box 7"/>
          <p:cNvSpPr/>
          <p:nvPr/>
        </p:nvSpPr>
        <p:spPr>
          <a:xfrm>
            <a:off x="1386360" y="6206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1601"/>
                </a:solidFill>
                <a:latin typeface="幼圆"/>
                <a:ea typeface="幼圆"/>
              </a:rPr>
              <a:t>乐 在 其 中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8"/>
          <p:cNvSpPr/>
          <p:nvPr/>
        </p:nvSpPr>
        <p:spPr>
          <a:xfrm>
            <a:off x="1187280" y="1557360"/>
            <a:ext cx="2486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3300"/>
                </a:solidFill>
                <a:latin typeface="华文细黑"/>
                <a:ea typeface="华文细黑"/>
              </a:rPr>
              <a:t>子曰：“知之者不如好之者，好之者不如乐之者。”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3300"/>
                </a:solidFill>
                <a:latin typeface="华文细黑"/>
                <a:ea typeface="华文细黑"/>
              </a:rPr>
              <a:t>------</a:t>
            </a:r>
            <a:r>
              <a:rPr b="1" lang="zh-CN" sz="1800" spc="-1" strike="noStrike">
                <a:solidFill>
                  <a:srgbClr val="993300"/>
                </a:solidFill>
                <a:latin typeface="华文细黑"/>
                <a:ea typeface="华文细黑"/>
              </a:rPr>
              <a:t>《论语 </a:t>
            </a:r>
            <a:r>
              <a:rPr b="1" lang="zh-CN" sz="1800" spc="-1" strike="noStrike">
                <a:solidFill>
                  <a:srgbClr val="993300"/>
                </a:solidFill>
                <a:latin typeface="华文细黑"/>
                <a:ea typeface="华文细黑"/>
              </a:rPr>
              <a:t>·</a:t>
            </a:r>
            <a:r>
              <a:rPr b="1" lang="zh-CN" sz="1800" spc="-1" strike="noStrike">
                <a:solidFill>
                  <a:srgbClr val="993300"/>
                </a:solidFill>
                <a:latin typeface="华文细黑"/>
                <a:ea typeface="华文细黑"/>
              </a:rPr>
              <a:t>雍也第六》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9"/>
          <p:cNvSpPr/>
          <p:nvPr/>
        </p:nvSpPr>
        <p:spPr>
          <a:xfrm>
            <a:off x="3132000" y="2928960"/>
            <a:ext cx="48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1601"/>
                </a:solidFill>
                <a:latin typeface="华文细黑"/>
                <a:ea typeface="华文细黑"/>
              </a:rPr>
              <a:t>               </a:t>
            </a:r>
            <a:r>
              <a:rPr b="0" lang="zh-CN" sz="1800" spc="-1" strike="noStrike">
                <a:solidFill>
                  <a:srgbClr val="5b1601"/>
                </a:solidFill>
                <a:latin typeface="华文细黑"/>
                <a:ea typeface="华文细黑"/>
              </a:rPr>
              <a:t>如果把工作当成是一种负担，视工作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1601"/>
                </a:solidFill>
                <a:latin typeface="华文细黑"/>
                <a:ea typeface="华文细黑"/>
              </a:rPr>
              <a:t>          </a:t>
            </a:r>
            <a:r>
              <a:rPr b="0" lang="zh-CN" sz="1800" spc="-1" strike="noStrike">
                <a:solidFill>
                  <a:srgbClr val="5b1601"/>
                </a:solidFill>
                <a:latin typeface="华文细黑"/>
                <a:ea typeface="华文细黑"/>
              </a:rPr>
              <a:t>如鸡肋，那么，什么时候都不会有工作  的乐趣，逐渐就会变成工作的奴隶，更谈不上干好工作了。一个对工作充满积极态度的人，不论遇到多少艰难险阻，都会像希尔顿一样：哪怕是洗一辈子马桶，也要做个洗马桶最优秀的人！ 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strips dir="rd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5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2" descr="背景2"/>
          <p:cNvPicPr/>
          <p:nvPr/>
        </p:nvPicPr>
        <p:blipFill>
          <a:blip r:embed="rId1"/>
          <a:stretch/>
        </p:blipFill>
        <p:spPr>
          <a:xfrm>
            <a:off x="3240" y="3240"/>
            <a:ext cx="9142200" cy="685476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3" descr="虚线2"/>
          <p:cNvPicPr/>
          <p:nvPr/>
        </p:nvPicPr>
        <p:blipFill>
          <a:blip r:embed="rId2"/>
          <a:stretch/>
        </p:blipFill>
        <p:spPr>
          <a:xfrm>
            <a:off x="395280" y="0"/>
            <a:ext cx="4195800" cy="68580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4" descr="漏沙"/>
          <p:cNvPicPr/>
          <p:nvPr/>
        </p:nvPicPr>
        <p:blipFill>
          <a:blip r:embed="rId3"/>
          <a:stretch/>
        </p:blipFill>
        <p:spPr>
          <a:xfrm>
            <a:off x="4067280" y="1484280"/>
            <a:ext cx="4306680" cy="4057560"/>
          </a:xfrm>
          <a:prstGeom prst="rect">
            <a:avLst/>
          </a:prstGeom>
          <a:ln w="0">
            <a:noFill/>
          </a:ln>
        </p:spPr>
      </p:pic>
      <p:sp>
        <p:nvSpPr>
          <p:cNvPr id="612" name="Text Box 5"/>
          <p:cNvSpPr/>
          <p:nvPr/>
        </p:nvSpPr>
        <p:spPr>
          <a:xfrm>
            <a:off x="757080" y="2708280"/>
            <a:ext cx="38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b1601"/>
                </a:solidFill>
                <a:latin typeface="Arial"/>
                <a:ea typeface="华文细黑"/>
              </a:rPr>
              <a:t>虽然我们的工作可能是最平凡最普通的，但记住这样一句话：把每件简单的事做好就是不简单；把每件平凡的事做好就是不平凡。每天给工作一张笑脸，工作才会给你一份惊喜与精彩！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strips dir="r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4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2" descr="背景2"/>
          <p:cNvPicPr/>
          <p:nvPr/>
        </p:nvPicPr>
        <p:blipFill>
          <a:blip r:embed="rId1"/>
          <a:stretch/>
        </p:blipFill>
        <p:spPr>
          <a:xfrm>
            <a:off x="3240" y="3240"/>
            <a:ext cx="9142200" cy="685476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3"/>
          <p:cNvSpPr/>
          <p:nvPr/>
        </p:nvSpPr>
        <p:spPr>
          <a:xfrm>
            <a:off x="3691800" y="2768760"/>
            <a:ext cx="24955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1601"/>
                </a:solidFill>
                <a:latin typeface="幼圆"/>
                <a:ea typeface="幼圆"/>
              </a:rPr>
              <a:t>感 谢 聆 听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1601"/>
                </a:solidFill>
                <a:latin typeface="Berlin Sans FB"/>
                <a:ea typeface="幼圆"/>
              </a:rPr>
              <a:t> </a:t>
            </a:r>
            <a:r>
              <a:rPr b="0" lang="zh-CN" sz="1400" spc="-1" strike="noStrike">
                <a:solidFill>
                  <a:srgbClr val="5b1601"/>
                </a:solidFill>
                <a:latin typeface="Berlin Sans FB"/>
                <a:ea typeface="幼圆"/>
              </a:rPr>
              <a:t>T h a n k  y o u  t o  l i s t e n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4" descr="漏沙"/>
          <p:cNvPicPr/>
          <p:nvPr/>
        </p:nvPicPr>
        <p:blipFill>
          <a:blip r:embed="rId2"/>
          <a:stretch/>
        </p:blipFill>
        <p:spPr>
          <a:xfrm>
            <a:off x="3203640" y="2871720"/>
            <a:ext cx="577800" cy="542880"/>
          </a:xfrm>
          <a:prstGeom prst="rect">
            <a:avLst/>
          </a:prstGeom>
          <a:ln w="0">
            <a:noFill/>
          </a:ln>
        </p:spPr>
      </p:pic>
    </p:spTree>
  </p:cSld>
  <p:transition advTm="5000">
    <p:strips dir="rd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1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8-05T06:25:17Z</dcterms:modified>
  <cp:revision>1</cp:revision>
  <dc:subject/>
  <dc:title>PowerPoint 演示文稿</dc:title>
</cp:coreProperties>
</file>