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6F9-5FD9-4B1B-B915-AC168CFB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78F-C161-4BC4-B200-AF108B47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021-7618-49B9-81A7-F01217E59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753-36A9-48DD-B219-D0299564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ACD5-D037-4399-A5D9-345A1111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32B3-B5C9-43B8-A856-04FA43AC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43A2-C116-4B49-8A5E-BC0D7EC6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1659-A4E7-45C6-91F7-831A54F6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23C3-CC91-48EC-B962-27D982BC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EBBD-59AC-470D-BFE6-54996787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679A-4252-43F8-8E0E-4F7BC04C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A97-B6F1-4B4A-98E6-F20A74CA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5FC3-8B0C-4134-8858-0FBF49E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6D76-383E-4CF3-8FA5-6881891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D17C-CE47-4488-95A2-B6675602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3151-2D04-4408-BA3D-5424238D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537-36E1-4E9C-842F-CE0146AB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7ED-5011-480F-8606-3F606810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4B9-28B7-41CB-A0B5-55EB32F4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C0E-F15D-47B1-B5EF-08E9720D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99D-881D-45F2-B27D-EA415807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571-736F-48F1-BB44-79BDBBD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17A-F473-4EF8-A2B5-C28C86D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7D7-D171-4F63-BEB0-205AF17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24E7-EA27-462A-A031-3A353CC94A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5100-67BB-4914-89F2-9C70866996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9202-8CFC-48BA-B9CD-9E66201E1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未标题-1"/>
          <p:cNvPicPr/>
          <p:nvPr/>
        </p:nvPicPr>
        <p:blipFill>
          <a:blip r:embed="rId1"/>
          <a:srcRect l="4110" t="45693" r="1910" b="0"/>
          <a:stretch/>
        </p:blipFill>
        <p:spPr>
          <a:xfrm>
            <a:off x="-326880" y="4405320"/>
            <a:ext cx="9599400" cy="2787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2"/>
          <p:cNvPicPr/>
          <p:nvPr/>
        </p:nvPicPr>
        <p:blipFill>
          <a:blip r:embed="rId2"/>
          <a:srcRect l="3340" t="23966" r="4370" b="25125"/>
          <a:stretch/>
        </p:blipFill>
        <p:spPr>
          <a:xfrm>
            <a:off x="-28440" y="981000"/>
            <a:ext cx="9134280" cy="374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未标题-1"/>
          <p:cNvPicPr/>
          <p:nvPr/>
        </p:nvPicPr>
        <p:blipFill>
          <a:blip r:embed="rId3"/>
          <a:srcRect l="10081" t="0" r="41994" b="24865"/>
          <a:stretch/>
        </p:blipFill>
        <p:spPr>
          <a:xfrm>
            <a:off x="1116000" y="1579680"/>
            <a:ext cx="3317760" cy="260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未标题-3"/>
          <p:cNvPicPr/>
          <p:nvPr/>
        </p:nvPicPr>
        <p:blipFill>
          <a:blip r:embed="rId4"/>
          <a:srcRect l="16482" t="6516" r="13871" b="0"/>
          <a:stretch/>
        </p:blipFill>
        <p:spPr>
          <a:xfrm>
            <a:off x="6599160" y="1197000"/>
            <a:ext cx="2506680" cy="1684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3"/>
          <p:cNvPicPr/>
          <p:nvPr/>
        </p:nvPicPr>
        <p:blipFill>
          <a:blip r:embed="rId5"/>
          <a:stretch/>
        </p:blipFill>
        <p:spPr>
          <a:xfrm>
            <a:off x="4067280" y="2421000"/>
            <a:ext cx="3600360" cy="1801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622680" y="4878360"/>
            <a:ext cx="18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隶书"/>
                <a:ea typeface="华文隶书"/>
              </a:rPr>
              <a:t>福       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pic>
        <p:nvPicPr>
          <p:cNvPr id="92" name="Picture 5" descr="未标题-3"/>
          <p:cNvPicPr/>
          <p:nvPr/>
        </p:nvPicPr>
        <p:blipFill>
          <a:blip r:embed="rId1"/>
          <a:srcRect l="16482" t="6516" r="13871" b="0"/>
          <a:stretch/>
        </p:blipFill>
        <p:spPr>
          <a:xfrm>
            <a:off x="6635880" y="4870440"/>
            <a:ext cx="25081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-20520"/>
            <a:ext cx="9144000" cy="68515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未标题-3"/>
          <p:cNvPicPr/>
          <p:nvPr/>
        </p:nvPicPr>
        <p:blipFill>
          <a:blip r:embed="rId1"/>
          <a:srcRect l="16482" t="6516" r="13871" b="0"/>
          <a:stretch/>
        </p:blipFill>
        <p:spPr>
          <a:xfrm>
            <a:off x="6372360" y="4870440"/>
            <a:ext cx="2508120" cy="1682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995640" y="254952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聆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997440" y="2549520"/>
            <a:ext cx="1152360" cy="1189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6237360"/>
            <a:ext cx="2087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0:04:21Z</dcterms:created>
  <dc:creator>ks13434</dc:creator>
  <dc:description/>
  <dc:language>en-US</dc:language>
  <cp:lastModifiedBy>a</cp:lastModifiedBy>
  <dcterms:modified xsi:type="dcterms:W3CDTF">2015-01-14T06:16:5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