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5B2-E293-4A2C-9A22-E29C0BC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12A-1CD6-4EF4-B168-7EE28E0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88EA-F2E3-4BD8-AD8E-CDE3815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ED121-1BB9-439E-A1F8-D5D359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ED0A0-795A-4609-B540-9F540C8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0C981-E4C6-4909-9337-E3D6F0D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02ACB-8C92-40B9-B871-764962C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FBD3-58C6-45C5-87EB-532DFE40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9696-B0AA-4E04-BCF4-52BF8F59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D00B-74A1-40B6-97B0-0E77ACD7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736D-9E25-4472-BA95-9B9B6F0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45C71-0CFE-4932-B079-2E9DEA71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5FE-6BB7-4778-B49F-11A13A4A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1641-12E2-4E8D-A07E-2D7BEB2B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9B536-A23B-4C1A-A281-B8C49C8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A3C0A-0C7D-44FF-ADB9-B3E53B16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B8B56-F934-4946-A17A-5B9265E4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0725A-3B30-46C0-9036-A666E140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F64EE-6876-4795-8F2A-21F5C7A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65895-0262-46B9-93AE-DC975E5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AB0BB-F446-4543-83A2-E63E836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3B2EB-7D91-4F2F-95D0-9B9701C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1C800-7CD5-4173-B8C6-2DE7ADE0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118-E91F-4863-8C65-73683B79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02D5-A38F-4E20-AB56-56F3177D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D8DE9-1095-4B8A-B63B-6A4EF7A9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43E84-E66F-4618-BC36-C64BE1C2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21242-8600-4C16-94D9-9D90D469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ADC87-EB1A-4963-B34A-137F5F0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7340-EE8A-4070-87E3-CFD10FB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79BF3-EDE0-4F47-A3B3-9F410E7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AF776-6EA7-4076-8156-F378FBF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55566-1FEC-4C18-8617-D71F8015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CE47D-9A1A-4658-A443-1065CFB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A592-7970-4DEC-888F-79D9BB89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E5812-A250-472D-A387-B25A4AF1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5B9E-09EB-4DD5-92C2-D574776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E309B-6154-43D4-B006-DF0E1365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CD40A-DBE9-4C0F-A3DD-7D2FB0F9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4C766-8DFB-4A5A-B973-90681815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D27BB-1E04-4F38-BB75-F1B69A55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E822A-4A4D-4671-B09F-0F622300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27C96-F97E-480B-9CBD-E3A64E00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A77B8-C03A-4AB2-AD9D-C10DB369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D1518-D5CD-43A0-8600-F532469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1D15-8050-4139-90E5-C3C58BD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20B41-6FF4-435F-BE61-888E4B57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08B95-49D1-472B-ADBD-36FFB74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9038E-4763-4743-AE75-1FC7A471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80298-3CF6-4CDC-8052-86F37386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01F06-2188-4F1C-9014-D65A1FB2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1BE4D-9410-4AA5-9791-C037659C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FE54B-917C-4758-B689-6C717D06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82B51-660A-4F8A-BE2B-1429CB8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5D29B-5BD3-465B-B764-476C6A0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13D6E-73F0-4594-9B07-C373C25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0D95-13E7-4CFE-A584-61455ABC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B2410-A2B8-4E4F-A27C-74508DF0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A6F99-1ABB-4628-85FA-3C06D17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A480E-E7ED-4229-ABD9-AC247B9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61D2F-A1F9-4AB8-AAB1-81FAFD3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A120A-A8C8-4667-A7D6-B8EB11F9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92DF6-D2ED-4407-85DE-5C3FF3F3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6C73E-073D-42D4-A4E3-D3614F93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8EFB1-453B-47CC-8487-22919F1A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BECF6-75F4-425D-B49C-A9D3A119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E201A-7705-44FA-89BB-3B418C0D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508-84A5-4E5C-8410-BE269CA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516A7-2F74-48CD-9B73-3A093EF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79BC1-ECAE-42B1-9DBB-3009241D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8181A-5DA0-4243-96BB-7EAFB7DB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65DFA-6069-4A13-BB23-DF673DB6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C0694-82D9-4ABC-B7EE-F1224A63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B7F97-8A15-41A0-8834-F00BE8C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5ED3C-08BE-4B21-826B-82DB986D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8119C-1C93-4933-919B-BE25F23E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2EB8A-4800-4F8D-96F7-BE91203C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8C0-6676-4AD6-A58D-2C5AB82C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7C1-751B-430B-B61A-C15DBD5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5F27-F822-4D5D-BE82-C372CF7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3EC-9E62-4629-8061-C1DC3DC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3686-821B-4790-BCD1-5C22FA6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C05-D4E7-4D26-9ACE-F9D3A16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776C-A80F-4A1F-949F-FFAE7A03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4EE1-0C25-4883-A8FE-396DEB96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9D79-7731-45FC-866E-20A0FDFF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F18E-3C08-41D1-914A-D2B9A85D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FA10-E34E-4B12-AB13-DCD3E85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9685-F0C0-4937-B2A2-48403977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B03C-7E80-4E6C-8509-3C8A081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483E-726F-4869-A06B-811383E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B75-4BBC-46B4-8AEB-AF659A3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3047-3244-483C-A090-D0375F5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520D-48AC-48B6-968C-EFB2A8D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401A-926F-48B7-9A82-14826BC0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1C28-1AA4-438F-988E-4E2BACB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4A6B-80E2-48A5-82A7-9E43266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C01B-B46A-4332-82E7-20D7A5F6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5CF9-054B-4BD5-AFC7-4AAEB162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7689-B664-49B6-844D-9B74C36BD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EC12-6F60-415B-B267-83F57639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BF83-2E74-40ED-A024-29022A4D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C22-5919-435D-8923-92AF1ACE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8D4C-89D8-4820-A9E1-30CE7341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172F-52F0-4B26-B7D7-DCA9C222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A6F1-0A8E-435D-A742-C92EA9E7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4F58-360B-4A56-B751-D76E56B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72F7-38F4-4360-A6B0-385D3CE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88694-82E6-4E97-B658-65579A2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C377-ADEC-4981-90AF-41E7297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FB959-0710-4419-BECE-075DE910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68392-A6EE-46E2-9B83-C84A29FD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863E-98FB-44BD-9DA7-43F2F082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2BB-7323-406C-8217-33802401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3308-BD71-4259-8CD1-A003779F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C92E-2597-40C9-BAD2-9C36FDBE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D11E-099C-49B1-9642-7A11AD98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79E38-0396-417D-86F5-71DB882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25AD5-505B-47E9-B681-499A3800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2350-C5BF-4DA2-B517-14BB815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403F-EB5D-4F4E-A779-5578523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CD4F-2431-4E0F-95CB-59997957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77FD-62E1-493F-BE86-450A2A56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6FF0A-34EC-4202-BB41-3B31D17F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4B4-642E-4076-8D74-A90E523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D918B-AAFD-4DB4-BEFE-EC242373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F93A-FF00-4BDB-B0BC-822A364F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97B8-01F8-4184-BB3C-02BA9D9E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3EFE-F2A0-437A-B5EE-C5FEC5D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8B7A-7258-4D4E-9C3A-431529B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27E9-8B7E-4CF2-8F80-7103F08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D3AAD-7F5B-446B-9D65-5C18EAC1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810DB-7629-4874-B5B1-EB1B1F0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285F5-1A13-4E95-BB12-0EE05D0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4176-A125-4166-9955-3E978C02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7CC-99D7-4015-AF69-950C7B0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86872-EFC8-48B2-9B6A-0EADFA47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86729-3B45-4F0C-9006-CED6823C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CB38-7B77-4BBD-B4AF-6F35A2E6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41EF-7D52-4189-8F34-DD481076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A44D-560B-42A2-87B8-CC214207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08C3-FD70-44B5-8BC5-3D3D69B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7521-D032-4FCD-B602-74CB9834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3E097-4923-4226-AC55-696334C7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5EEA-9B53-4812-9F74-A59BD2A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1A3E0-20EC-4C0E-9A42-A668DFC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C69-4262-42F1-9427-EA7F1F5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27978-761C-4ADD-B828-C5C7D61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1DF7-4B05-421B-B60C-7DAA9C2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0946-44F8-4882-92A4-6067DBF7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D99A-12FA-4BB8-BA52-CF59F9CB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94BD-F0C5-49D2-90B2-182B6E72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C20E-F441-49F2-9A79-0A707893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4C3E-FCC9-4DD7-99C9-3C7EE2FA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E472E-AF1F-40C1-AF27-3DF9158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F6C24-B76B-47CE-9B2D-00DFE00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7D85-DBC6-4057-8A8F-E48C2EF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A26-6E4C-4B62-B87D-0ED9A54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0DA2A-392F-467D-9869-DF6D27B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11DC6-1DFB-4EF4-AFED-B432549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CF03-C07B-4B68-9306-1A581F8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D0FEB-09D5-4878-95A0-7E5DBF5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AD4A-7DEC-46AC-9791-EA74028C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A677-F5A7-448C-9862-216BEF5D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9D7C-C2CB-4CAA-BF12-4BB3CFBE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EF774-6698-4A46-9AFE-0891726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D174E-873C-4409-A506-F7112E36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C8547-3584-4AC3-BC7C-A03B16F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F0C-C739-4131-9197-1E0EC01E1410}" type="slidenum">
              <a:rPr b="0" lang="en-US" sz="10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8EE6-F6F5-42F1-8E5E-76CFCAD14A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9858-50C4-437A-B047-49C84C3CC5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515-8F27-4108-867D-CE6541D8BE6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0F4B-ED12-4231-BD73-4AD5F05968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162-C340-4B06-8B5E-6B1C79BE50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73A7-5ABD-4903-8C82-769010A5D6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3C1E-6D2E-4111-8D04-7B4DFF8ADAB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E35E-2317-4FCA-A458-E5F0328B83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C29B-4222-4FBD-8AD5-F870B717DCF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8AB-148E-4B69-8CA6-8BBAD347AC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D42D-F039-4AB8-8AE5-25A638E3E3A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63C-AB1E-445F-AF72-3BED2B7221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Z:\newtek\_backgrounds_1.02\Greg\Microscope\lens_anim.gif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5AB4-BA74-43EB-AC22-8F6004A47D29}" type="slidenum">
              <a:rPr b="0" lang="en-US" sz="10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F41C-04DE-4D7A-9120-26F972C37A6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E4D-D761-447D-A0C8-52A97114D7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7EA0-3B95-4448-8915-DB9B5241029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129A-82DD-4ED7-9A91-0EAE456FD5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E4EE-F41B-4927-A01C-B54ADF1FB3F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50BC-00A7-4355-9168-0927BA3121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C531-7A30-4C1A-9DA4-D25E46941A8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AD33-4D7F-46FE-A21D-CE2094F5A4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6549-CBEF-4A50-A101-FE2D2FA549B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F69-0516-48F3-A4EF-657DDD00BE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C5C3-B7F7-4497-B008-1586EF4256F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554-557B-48ED-A5DF-E67ABE7B39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42840" y="1752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Microscop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2742840" y="35812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Add subtitle her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Microscop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Points of interes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Printable Pag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Points of interes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Z:\newtek\_backgrounds_1.02\Greg\Microscope\amoebas_focus.jpg"/>
          <p:cNvPicPr/>
          <p:nvPr/>
        </p:nvPicPr>
        <p:blipFill>
          <a:blip r:embed="rId1"/>
          <a:stretch/>
        </p:blipFill>
        <p:spPr>
          <a:xfrm>
            <a:off x="152280" y="228600"/>
            <a:ext cx="2895840" cy="23162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Z:\newtek\_backgrounds_1.02\Greg\Microscope\lens_anim.gif"/>
          <p:cNvPicPr/>
          <p:nvPr/>
        </p:nvPicPr>
        <p:blipFill>
          <a:blip r:embed="rId2"/>
          <a:stretch/>
        </p:blipFill>
        <p:spPr>
          <a:xfrm>
            <a:off x="6629400" y="25909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Z:\newtek\_backgrounds_1.02\Greg\Microscope\microscope_print.jpg"/>
          <p:cNvPicPr/>
          <p:nvPr/>
        </p:nvPicPr>
        <p:blipFill>
          <a:blip r:embed="rId3"/>
          <a:stretch/>
        </p:blipFill>
        <p:spPr>
          <a:xfrm>
            <a:off x="152280" y="2590920"/>
            <a:ext cx="2895840" cy="2317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Z:\newtek\_backgrounds_1.02\Greg\Microscope\microscope_title.jpg"/>
          <p:cNvPicPr/>
          <p:nvPr/>
        </p:nvPicPr>
        <p:blipFill>
          <a:blip r:embed="rId4"/>
          <a:stretch/>
        </p:blipFill>
        <p:spPr>
          <a:xfrm>
            <a:off x="3124080" y="228600"/>
            <a:ext cx="2895840" cy="2316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Z:\newtek\_backgrounds_1.02\Greg\Microscope\amoebas_in_focus.jpg"/>
          <p:cNvPicPr/>
          <p:nvPr/>
        </p:nvPicPr>
        <p:blipFill>
          <a:blip r:embed="rId5"/>
          <a:stretch/>
        </p:blipFill>
        <p:spPr>
          <a:xfrm>
            <a:off x="6095880" y="228600"/>
            <a:ext cx="2895840" cy="23162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19160" y="4343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Rounded MT Bold"/>
                <a:ea typeface="宋体"/>
              </a:rPr>
              <a:t>Elements Page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587240" y="541008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Delete this page when templat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4:49:53Z</dcterms:created>
  <dc:creator>eclipse</dc:creator>
  <dc:description/>
  <cp:keywords/>
  <dc:language>en-US</dc:language>
  <cp:lastModifiedBy>a</cp:lastModifiedBy>
  <dcterms:modified xsi:type="dcterms:W3CDTF">2014-07-22T02:58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