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6DF8F-DD9E-4540-8118-51FD2E48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A020F-919C-4EA7-9B22-FAAC10CD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2C27C-6B03-445A-A6D7-5B5707EF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6C2C2-CBED-4F5A-8AF5-496901A9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8FA58-CA65-4E22-9950-C1729107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A3202-ABD7-479E-AB5D-F0E75B90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57046-651D-4396-9A49-46146332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A9857-A67F-4F11-A8D2-71C9B15B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99E46-1BAC-4573-B2F8-A00D1D3C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E0F33-D96C-498A-8D28-84D69904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D1DF6-1715-418E-98D7-301BCA18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AAB18-F133-4DBF-80F1-788354E5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B85DF-CEE7-4F21-B15A-C5017671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54BF7-A436-4231-9B22-45F4A613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43AB3-DC89-4F62-A203-E81D198F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AFDC1-692A-4525-BF46-0DDDA5E5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FEE90-342A-49A7-B834-121469C8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67054-AA0C-4E51-A642-CF246BF8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FD5F8-C487-49A1-B5A2-640646D8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72BEE-77E2-4A51-BC7E-E5273910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37828-A124-4792-A94C-F99915FF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0E0D0-307A-4E2D-B6DC-27E59E93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C3728-D3C6-4942-9750-B7CC537B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E9287-49BC-4E66-BA45-0DFB1F1B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C06C5-0536-4C08-B7BF-A3042A86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CADA1-8BAF-444E-BC17-B282D303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45BBF-4A05-4AF3-9782-8F4B4AA5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0F9A3-05D5-48F7-8EB7-184B730F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0A91C-8EF2-4A76-92DB-D9E995AA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1A20E-AE51-4654-AD04-903A8882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58EAB-F7C8-4411-AB17-6094CEAD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C3C4D-3455-430A-9FDA-26571531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000A9-7E33-4F56-A4E0-5A582331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22748-2ED2-4371-992F-33626CC1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F44AB-10BB-41EA-A315-4A085A11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DA765-4714-49C9-A68D-47EFE81C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C65F4-9B43-4826-95D2-399FDB98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40DE6-C8C0-4F7B-949F-06A32A31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46E82-ADDC-4596-8209-DF7814F4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63F25-E1B3-4818-B5D8-5E05C95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F70DA-1B23-4AD1-9A03-10EDBD56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14935-0738-431F-8280-58E3B6B1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2866C-89F6-4AE4-8B2A-80DA46D2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5D04E-7022-43B3-9E7E-BD5CFC2E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AF0BE-0F1A-4C01-8175-BE8CC234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59A02-94A9-43A9-BD01-4B1A0189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2E3FE-0407-4C56-ACAA-C5DD838B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34F6A-D93D-4ADC-B59D-7E115B67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474B6-2140-404C-A0A1-715A0D9F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B15F7-D550-4439-817E-04E8C29A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0749C-19AF-4EE8-9FFE-9FC4765F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33384-EEDE-4A77-B8EB-14E0F798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29435-156E-4700-97E8-192C4DE0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12DFC-5910-4181-B687-BF11C4C2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1D2FF-78CD-405E-AE69-5D7F9625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6553B-81A4-43F6-9294-28CA7B4C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C6965-83D7-4CBC-AA07-3F38D791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452CD-967C-4BD8-BE2A-ADEC78D8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09A21-BE19-415D-A5F6-57E7D168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2AFE1-10E0-44DC-B62B-8062B085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354EB-D3B3-4748-B150-1864F911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42AD6-B092-4B65-BFE7-0C50E751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1A158-1D46-425A-90A6-FB41F402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7E9A7-0CDF-483E-B454-E281E5D6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19D97-13E9-4376-BBA8-2F0C558C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22FDE-83B4-4D01-983C-6FD0B677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CE4C2-26BA-451B-B458-22845228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0EA0E-2C7E-437E-80D0-419D6537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3E1E2-8252-412C-B7F5-08CE343C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545-3E79-409D-93CB-48CB39FE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75D-1F5D-4C90-804F-EACF7CB8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617-CEFA-4AD9-92EE-8E4681FF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499-CD70-4030-80F6-7C2F0A3E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EB7-9A52-4B52-8475-42B016BA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B74-DBE8-4676-8C38-EEAE4475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1CC-BD0E-469C-9208-DCF8B313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831-5157-42EA-ACCD-4B14C1C8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20E-E5BB-4A50-8FE0-D3749641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6A1-44C3-40F1-96FA-29E434D0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BD8-0821-4E17-87D6-92D38439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A87-B9A6-4841-8F9F-B3E5D53D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C564-477C-4C86-BE95-D87E9A09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5704-D3FD-48DC-B98B-AED33139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EC2B-03BC-4D30-8E0A-B5F61B58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6644-8843-4755-9DFB-90B975AF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0CA1-7EEC-4737-9AC1-3B6799BF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BF75-EC6E-4129-863C-36C25C62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6E23-7358-4239-94AB-F623957F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5A39-F30A-408B-9701-15916C7B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9CE0-C03D-423A-8A16-7CB73C58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F35C-165F-452B-B58F-4DC51B02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454D-83A3-4C29-A6A9-47BE5541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063F-93C0-4440-A90C-99265383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C408-B137-4CC5-B89B-B4D99C42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0BCD-D662-4EF2-A66F-220EC932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FEAC8-E07B-4CD0-BEFF-C8F629EE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ACA2-99C9-4BB3-B1D0-F1416D7F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B4242-3145-4484-8AED-71882001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F0B44-B5DF-492D-A071-A50BD63A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8408-3133-4AB1-B928-135FF5BA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5D02-3402-4923-8FB3-68ADA33D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2D2C7-6149-4009-90EB-C7014390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770B-3481-40A3-893C-55D7A668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96ED1-0CD3-40EB-A124-FB51FE76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1BE4-98EC-4DEF-BE5F-4C08AF32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B5D1D-72EF-4D1C-804B-108CECC2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6A513-9DC7-4F35-9E80-1777FA8E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11135-797E-4232-A804-11DF4A19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BC46-05DF-4851-AE22-C609601D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ADE2A-7183-4509-A102-96D38343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281D0-3BA0-41E6-8ABE-F2587620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6833F-D073-4036-83A1-DC28403E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3ADBD-E833-46AD-B435-D29D46A2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1E6A1-3636-494D-B2CC-E70A653B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40C56-3317-4FF0-BAF2-14E05758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15BC0-F15E-4DB2-98C8-DC75AED2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71405-E23A-4B9A-86BC-7299A201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CB854-E824-491C-9E20-362F4175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5CE27-E46B-41B5-9A9B-56975CE7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1DCB5-668F-4358-8BA1-84D0169C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B4FBA-5CDE-439E-9562-C67CEBA4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E4401-2C84-4EF2-9C23-FA078345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730B1-55E6-48D2-80D3-B5442F5D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82208-31A9-4847-943E-AA7E6FF3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27D9D-3C58-45B3-B749-2C75480E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49D61-0B2E-4E79-B3D5-83747E89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CCED2-DD9B-4DDC-8DAB-F6732D0E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C3ECF-6339-4DB3-8A50-7868E3B1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FE768-910F-48C2-A560-7D090A9F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02808-3A27-44E8-981B-38DACD40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10587-9046-4B1B-BDB5-8AE436A5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67AE2-0E52-46B8-B09D-43D7B06C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80FEB-14DF-4575-AA69-0772198C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70A41-9B88-4B91-8C0C-155EEBA8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70A2C-12E7-4C0A-87C9-CE86D42C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7567B-EE60-4B05-9A12-BC736965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BD8D4-AD4A-4191-ADB2-A6D84B03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F71A6-B368-4B1B-970A-C699E8A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DF527-E318-4448-A73F-46F225D3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DFB1C-26A7-40E6-8797-E70B0104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EE2B0-5B04-41A6-8064-CBD32FC2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E39D1-AB1F-428A-BA39-DCA6C0F1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95937-8B3A-45CF-8071-8C14072D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8D5F4-37B9-40CE-99AB-C6E5F6B6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99656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51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06FE-81E6-4A08-A3B2-505D8861D8B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8AAA-7C7A-4079-A184-4E946E4967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EEA3-5FE8-4D54-ADAA-C8AFBA67EFA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CEDE-8088-44E7-9F26-A9CCAA5569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9A71-BEBF-4D00-A46B-70D393C0352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1C27-9D4D-4406-A9BC-7D11D6D42D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4FD3-012E-40E9-8753-04E60B5C714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5134-7912-4666-AFE9-EE0DF94E5A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45A8-E67B-4CBB-9BB9-53BFCC3593C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1532-5B5F-4853-BA4B-28DE8DFDBB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9656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51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1495-88D7-474C-8DCC-17AC91AEA42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BE93-B11B-485F-9AD0-07F1FE34F9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4158-D69B-474E-85E1-42028158609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CB25-D7B1-4CD0-A6C1-340C29E7DD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8C94-2852-4835-A02D-B0FC4BE32BC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0676-D658-497C-AB38-4E5C18928B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80B7-E7FF-46F9-B301-C924222E380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93A5-717F-429F-9E6C-CF0CD03EF3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3B73-D2A5-4B43-8CAC-C62F91D35F7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D427-8756-4FF1-819A-547E90459E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8C17-687D-4E57-861F-B3F13427A78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767A-E02F-47B3-BD8F-0B165D2596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3D08-440E-4BB9-A93A-38AD56F6E00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9D6F-711A-411E-9F09-44EB101476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18960" y="202680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51f"/>
                </a:solidFill>
                <a:latin typeface="Microsoft Sans Serif"/>
                <a:ea typeface="宋体"/>
              </a:rPr>
              <a:t>单击此处添加标题</a:t>
            </a: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42640" y="3271320"/>
            <a:ext cx="670572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d4d4d"/>
              </a:solidFill>
              <a:latin typeface="Microsoft Sans Serif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81080" y="76212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51f"/>
                </a:solidFill>
                <a:latin typeface="Microsoft Sans Serif"/>
                <a:ea typeface="宋体"/>
              </a:rPr>
              <a:t>单击此处添加标题</a:t>
            </a:r>
            <a:endParaRPr b="0" lang="en-US" sz="40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文本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57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SmileTemplates.com</dc:creator>
  <dc:description/>
  <cp:keywords/>
  <dc:language>en-US</dc:language>
  <cp:lastModifiedBy>a</cp:lastModifiedBy>
  <dcterms:modified xsi:type="dcterms:W3CDTF">2014-07-19T09:06:01Z</dcterms:modified>
  <cp:revision>21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