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FE95-B599-42D4-B75C-A67058E4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DC1-736F-4887-B0E4-DA8E9667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6086-0540-4C5D-B36D-1C2752DF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87-3586-4664-B92D-239B9639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A1E-7DD4-4C84-AE57-3442E6E6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094-3DCB-4037-991D-B0363484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C868-5151-4420-8D1A-C184783B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EF1-AFB6-48FC-A3B2-5EBDFED8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409-4D0D-4C8F-A501-C793B45A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1D1-CB42-4950-8E5B-091B28A1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B25D-3147-4DA6-B821-3580E3D2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C89-FD2D-4963-A6C0-57DE892B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A24D-97A8-44D6-8A86-1F791216FB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3E70-60BA-49FF-B36C-DAF5F0E74A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098800" y="1341360"/>
            <a:ext cx="333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窗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201010106%20%287%29[1]"/>
          <p:cNvPicPr/>
          <p:nvPr/>
        </p:nvPicPr>
        <p:blipFill>
          <a:blip r:embed="rId1"/>
          <a:srcRect l="13722" t="0" r="9089" b="0"/>
          <a:stretch/>
        </p:blipFill>
        <p:spPr>
          <a:xfrm>
            <a:off x="0" y="0"/>
            <a:ext cx="176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bizhi-1211-76602[1]"/>
          <p:cNvPicPr/>
          <p:nvPr/>
        </p:nvPicPr>
        <p:blipFill>
          <a:blip r:embed="rId1"/>
          <a:stretch/>
        </p:blipFill>
        <p:spPr>
          <a:xfrm>
            <a:off x="-30240" y="0"/>
            <a:ext cx="173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e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53944" t="0" r="26568" b="0"/>
          <a:stretch/>
        </p:blipFill>
        <p:spPr>
          <a:xfrm>
            <a:off x="-30240" y="0"/>
            <a:ext cx="177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7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ung_sam_park-022[1]"/>
          <p:cNvPicPr/>
          <p:nvPr/>
        </p:nvPicPr>
        <p:blipFill>
          <a:blip r:embed="rId1"/>
          <a:srcRect l="33249" t="0" r="46224" b="0"/>
          <a:stretch/>
        </p:blipFill>
        <p:spPr>
          <a:xfrm>
            <a:off x="-30240" y="1440"/>
            <a:ext cx="18702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叶菲</dc:creator>
  <dc:description/>
  <cp:keywords/>
  <dc:language>en-US</dc:language>
  <cp:lastModifiedBy>a</cp:lastModifiedBy>
  <dcterms:modified xsi:type="dcterms:W3CDTF">2014-07-19T09:05:46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