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093-F051-4F5C-98D6-97CB3EA3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AE2-907E-49D5-9789-5EAB29FB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D41-1A36-4589-8B97-20624D1C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E0A-5E6B-4E65-A9BC-CF299A6A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62EC-B4FF-4217-A5B0-12F0D021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1E3B-5275-4BAF-9DE9-6D116FD9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8CC7-7417-4B59-A423-F18D31CD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E8D0-5705-4D42-98AB-18CE9D40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B3EF-B1BE-4EC9-972D-989FAEA5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819A-AE69-4882-A3FC-FE0495D6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56BC-8A32-4FD3-8DE9-30FC9B3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B91-F6B0-4756-AE4F-838B0F66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1402-2E0B-416F-841D-40B86CF0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EE9B-13C6-4CFE-AF58-FCFEB0D2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A1FE-5C6F-4FE2-AE11-86D1A91D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9A8F-FAEC-410E-81A8-155DE49E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0D2F-5506-4783-99E1-AD1A7A8B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DD0A-BDDE-4B3E-A1FB-8E61BA97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5630E-52E5-448E-AEA4-4D86B73D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9F49-5CEC-4838-B443-BE1A0AAE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FD43-C01B-4C19-B16D-C39F182D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0F25B-CEB8-4EF5-8FB8-EAD4B9AA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C7C-873B-4A0C-8521-41F418BF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037E-EB34-4837-BAE0-A4A5D3CA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A7FD-E7B9-486D-B7F7-DB983CAA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9AB0A-643F-4D34-90B7-AD646301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2F1C-2D7B-4D22-9489-116CA6BF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7DA6-6427-49E2-B373-1439DCB2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74A63-5B6D-42D8-A0BE-F321805D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EDC2F-1ED3-420E-A94B-7F180692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E46-1A58-4855-AA3F-D1BAB1AB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852-B260-4D3E-8B44-5BBA0306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2DC-1125-4D48-BBFB-1DF640B5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40B-688C-4DFA-A25C-D7F8871F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381-D6BB-407F-8B44-25F7C4A6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D77-F31C-4099-98EA-24F90E9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BAE9-1791-458A-9C38-E79E9219F13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148F-F7B8-4C61-9DEF-1FC39E860B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DB47-58BE-49E0-84C7-4D348DC52F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9194-B7C7-4981-937E-8372E320AA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1440" y="0"/>
            <a:ext cx="930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"/>
          <p:cNvPicPr/>
          <p:nvPr/>
        </p:nvPicPr>
        <p:blipFill>
          <a:blip r:embed="rId1"/>
          <a:stretch/>
        </p:blipFill>
        <p:spPr>
          <a:xfrm>
            <a:off x="1440" y="0"/>
            <a:ext cx="930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3"/>
          <p:cNvPicPr/>
          <p:nvPr/>
        </p:nvPicPr>
        <p:blipFill>
          <a:blip r:embed="rId1"/>
          <a:stretch/>
        </p:blipFill>
        <p:spPr>
          <a:xfrm>
            <a:off x="-84240" y="-17640"/>
            <a:ext cx="93362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4"/>
          <p:cNvPicPr/>
          <p:nvPr/>
        </p:nvPicPr>
        <p:blipFill>
          <a:blip r:embed="rId1"/>
          <a:stretch/>
        </p:blipFill>
        <p:spPr>
          <a:xfrm>
            <a:off x="-28440" y="1440"/>
            <a:ext cx="93376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"/>
          <p:cNvPicPr/>
          <p:nvPr/>
        </p:nvPicPr>
        <p:blipFill>
          <a:blip r:embed="rId1"/>
          <a:stretch/>
        </p:blipFill>
        <p:spPr>
          <a:xfrm>
            <a:off x="-28440" y="4680"/>
            <a:ext cx="93153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6"/>
          <p:cNvPicPr/>
          <p:nvPr/>
        </p:nvPicPr>
        <p:blipFill>
          <a:blip r:embed="rId1"/>
          <a:stretch/>
        </p:blipFill>
        <p:spPr>
          <a:xfrm>
            <a:off x="1440" y="1440"/>
            <a:ext cx="93456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6:14:21Z</dcterms:created>
  <dc:creator>sg</dc:creator>
  <dc:description/>
  <dc:language>en-US</dc:language>
  <cp:lastModifiedBy>a</cp:lastModifiedBy>
  <dcterms:modified xsi:type="dcterms:W3CDTF">2015-01-14T16:14:3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