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0F4A-245A-4C39-9EA1-E6C78A7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CDAB5-C849-4360-82E8-B96AEE04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FF52-86BF-4F7A-B4BD-A866BA7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66EB-263E-4A8F-B586-04CF58A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8EFE-9682-4973-A335-E1F149D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B44AD-7BB4-45B2-8243-D308FD8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00D12-CAC3-4AE3-A00A-AFECBF0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5D0D9-C1CA-49E7-BDE2-0F799B24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30716-A811-4270-A1AB-B8659A6A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73364-9D19-4C5C-AF59-6DC479C7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4BD8-A51D-4010-A71B-38C56261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D15E9-F06E-42ED-A65A-A00AA0B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E6DD5-2969-429F-BB70-C95BED8F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20156-38FC-4CE9-BA4B-446EB16C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2DE2-DCD9-4576-A1CE-43199BF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64E3-3542-499E-8079-4F39446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6117D-25F4-4297-A691-4977FDE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AADC5-C39A-4F8E-AF0C-94D52CF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4D40-CF43-4FF9-AB6F-0FBD25BF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5350-1F43-4C03-B5BA-C7364572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34DB5-ABBD-459F-AB5D-07C558DB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254F-1F0C-4D0A-80EF-C24DD710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D14DD-4E27-4E24-89E9-0B43435C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48C86-8602-4FAE-A423-840AE680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3F62B-A734-46A7-8EDD-A7BD2C36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A57E7-7BDE-4777-8DEF-9C71A6F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D8519-CF75-4186-B1B9-97C72B84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5496F-737C-4E92-933B-638AFD1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BF86F-3141-47EF-8C7A-1DEC2E2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C819-533D-4741-9A44-77A6180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52EE-6391-4127-A63A-ED662499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A9DA-6D47-4926-B0B2-25C16050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79A94-E220-4425-A89C-AA17CBD4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7CE98-2B13-4F24-857F-152610D7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60EB-CE08-421C-A4C3-D4AF874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BDE87-AB1B-4D95-8155-3BD966F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A550C-96B2-4F04-BD7F-B3EBD625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1448F-99F5-48B8-A0BC-06629F30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5A04E-9CF6-4F17-94FE-6A4F6D1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090CE-958D-4BD6-8C33-198A552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1631C-1591-445A-8052-3A7FF1E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BDF30-F37F-4A2E-8AEC-4B848FD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F1CD4-1D83-4518-9E87-15DB9123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2549A-4A28-49D0-9930-C22F65A7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01285-4538-42C4-B7DF-4E0FEF55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9D405-900D-4FE0-958A-1748E423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575CB-2775-457A-AD4F-F03A614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AB2BB-D208-42A1-8F5B-BD17D99F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48A0F-E6D6-49BA-BED7-290ECB19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5BAFC-708E-4872-94C0-8407C5E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3BCD7-A7FA-45DC-A440-D20BBBB5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44C95-38C3-4020-8A2E-6F752FD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4D849-1310-400B-931A-B8698DC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94BBF-CE9C-4549-9EC2-E661DC2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1FEF0-038C-43A4-95C1-B1708C6A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67CCA-4DBB-4541-88AB-D3B5EA2A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D90CE-C615-4AEC-AAB2-F56B1939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DD585-FC0F-4EC0-B0C6-A02D31D1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494F7-8AC5-433F-B121-D40F28BC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FA5E5-3532-4C86-AFBB-8A503235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F0D5-E8D7-4C87-AB3D-1855FF8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ADC3C-DADC-4D7F-A4E6-A50D51E0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2AD25-E85A-4A8B-BF57-1A730CC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A26B7-8912-4AB2-AB68-14DE0A6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C5B7D-8318-4E6C-AB40-F82E7BB5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E59ED-E7F8-41E3-AA00-1C91A08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BD602-7718-4026-8EFE-558EB347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963C8-4C73-43D3-8291-1DE2C5D9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2D675-159B-4110-A736-97FF24D5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3B38E-57DE-4637-A94E-10EA27EE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0C739-9F5D-45FB-ACE4-24AAB2A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BB4DB-78FF-4AAE-81AE-9B17A26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89628-F26C-4C5D-96C7-293B3AF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B5A62-E3CA-472D-87AD-D7698790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EDBBF-3A8F-4999-893F-7044DA8B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769D1-BC81-4B05-B9FA-2288AFC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6840F-B3EA-44D1-9B55-BBDDE235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10E6D-0AE0-4BEB-84E1-6E0EC5B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15237-907A-477A-95C2-C423212E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4FA4D-800C-4C08-AC41-331BB107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184FA-F4DC-4C45-98EB-CABCFD70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1AB-5CC8-44D4-95B2-6047FEA2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D57-A37D-4437-9222-F42E9777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135-1C7D-4E63-8391-66D4F025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C50-F3C9-4DEF-B371-DD5A8CC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E34-4B30-4F10-9F1F-68F1B9C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C2F-2CCC-4801-9FC6-69094C5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459-5304-426D-A697-E57FC2CD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832-6E1D-4A85-A628-D84D0C5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80B-7053-45D4-A0DD-D47DA34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BA3-3867-450F-BB3D-AB84270C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AE8-20A2-433E-B259-508BFDFB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9E1-492C-43D1-A4F2-FC84954F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EE26-8E4E-4A04-852A-9D291752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D5B-9AED-42D5-A8B5-217735FC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96CB-F1F4-46DF-98EB-2B91584F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CAA8-5213-4837-82CA-6B2C5E4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66F3-DE6C-43E2-A71F-6477784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F1D-AC0B-4D5C-AD47-C3FE8CD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94E-55F4-4C24-A24F-800D6921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C2F6-A494-4FE9-89AA-DC9F0F09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238D-AB58-4269-96DF-B5C7419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E837-F9F5-4E0A-B721-F2749D7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82B1-CCAA-40FD-89F1-058F822B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F87D-054B-4AD7-9145-7CBB3495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2585-3A26-4C1F-8BB1-2750CBF9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EA46-189B-4164-BCCA-2FEE7693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584D-A41D-4FCE-88B5-A95C23F4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7789-9B6F-42CD-99DF-CE863D6C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4A41-C886-47A6-BBC6-5414C143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A639-463A-4A6A-A632-6B19856A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76C0-1252-4DE9-997B-41FA88F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1C08-827D-42F4-949B-9452BB7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5FCF-8B22-4FBC-A598-13EDD14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3B6A-42D2-4A37-B526-3022A4F8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81BD-6CF5-48C1-B155-A1DE25BB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BD5A-764D-4A2E-9271-94196DB5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33B0-69E4-4E25-A3DB-E1CE27E1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8B46-9B4F-4067-B6A2-7BE19C76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3861-0FA6-4A79-B894-9841B6DE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90B1-DC81-4390-AC4C-C1696009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8CCD-A519-48F1-BD06-442D89BF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DB73-86DC-4C44-9961-D805DF68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4A14-55A3-47A1-8100-4C1A6E9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A9DC-38F0-4054-A9E2-CF90D3F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D6FF-49A4-46FC-8820-B0BA707D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B3F1-C084-4292-B614-760C038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FA79-E172-45C4-B54F-FCAC4613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0342-5C27-45D4-83A0-B333A5E6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1FA8-A4C7-4C78-8710-91112506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4CD51-E3B6-414D-A579-18860ED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E908-4358-42EA-8C96-99E21A5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4731-F7B1-4C8B-9CD3-6048ACE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E572-B9DE-4420-916E-E7A4A677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8EE17-64E4-40DC-BFC8-66E87CF6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56E5-DCC1-45FD-9722-71B50FF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9C6B-E5E4-4A07-A0D9-1402C8A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1034D-2FB5-49B7-83DA-176F83D4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716EB-2EE2-4014-A6D8-BBD19327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22F4-AACE-4CFE-907D-44690B15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54C3-3CA3-4066-A839-841B704E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4AEB6-2E09-4FF0-BDA2-D2AA1199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FA1B-9557-4299-A12F-2A774D93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50EA-068F-44D5-B421-0EED2BD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2560" cy="3495600"/>
          </a:xfrm>
          <a:prstGeom prst="rect">
            <a:avLst/>
          </a:prstGeom>
          <a:ln w="0">
            <a:noFill/>
          </a:ln>
        </p:spPr>
      </p:pic>
      <p:pic>
        <p:nvPicPr>
          <p:cNvPr id="1" name="그림 4" descr="Untitled-4.png"/>
          <p:cNvPicPr/>
          <p:nvPr/>
        </p:nvPicPr>
        <p:blipFill>
          <a:blip r:embed="rId3"/>
          <a:stretch/>
        </p:blipFill>
        <p:spPr>
          <a:xfrm>
            <a:off x="539640" y="4076640"/>
            <a:ext cx="3219480" cy="1990800"/>
          </a:xfrm>
          <a:prstGeom prst="rect">
            <a:avLst/>
          </a:prstGeom>
          <a:ln w="0">
            <a:noFill/>
          </a:ln>
        </p:spPr>
      </p:pic>
      <p:pic>
        <p:nvPicPr>
          <p:cNvPr id="2" name="그림 5" descr="Untitled-5.png"/>
          <p:cNvPicPr/>
          <p:nvPr/>
        </p:nvPicPr>
        <p:blipFill>
          <a:blip r:embed="rId4"/>
          <a:stretch/>
        </p:blipFill>
        <p:spPr>
          <a:xfrm>
            <a:off x="5300640" y="1071720"/>
            <a:ext cx="3424320" cy="37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C332-2FB6-44C2-BCF2-3C104075B7BD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8DB8-C6F4-4589-89C0-AF41F14AC536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C91D-CBE4-4D55-8FCB-FDE41927A0B8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F757-BEE9-4AF5-B252-F7D4983BCB78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F8C4-5DFA-4327-9FAA-020F41C97B47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2DB4-F6BA-4519-B46D-747F06C0A058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76F3-E7CF-4B85-9385-E956C97C75E6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2207-C92A-402F-92BD-95F5C42A6AF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D0E0-01F7-4E76-8002-10306B19B4D3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664D-AF39-4D2A-9926-B8B34438DAE3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E3A-0C01-4D01-B07F-EA5CCE78C51C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29F-5F01-42F4-9BD0-BBD07CFF47E5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0" name="Group 3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41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4" name="그림 10" descr="Untitled-6.png"/>
          <p:cNvPicPr/>
          <p:nvPr/>
        </p:nvPicPr>
        <p:blipFill>
          <a:blip r:embed="rId3"/>
          <a:stretch/>
        </p:blipFill>
        <p:spPr>
          <a:xfrm>
            <a:off x="250920" y="4292640"/>
            <a:ext cx="1685880" cy="1562040"/>
          </a:xfrm>
          <a:prstGeom prst="rect">
            <a:avLst/>
          </a:prstGeom>
          <a:ln w="0">
            <a:noFill/>
          </a:ln>
        </p:spPr>
      </p:pic>
      <p:pic>
        <p:nvPicPr>
          <p:cNvPr id="45" name="그림 11" descr="Untitled-7.png"/>
          <p:cNvPicPr/>
          <p:nvPr/>
        </p:nvPicPr>
        <p:blipFill>
          <a:blip r:embed="rId4"/>
          <a:stretch/>
        </p:blipFill>
        <p:spPr>
          <a:xfrm>
            <a:off x="7162920" y="4724280"/>
            <a:ext cx="19810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84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6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7" name="그림 37" descr="Untitled-8.png"/>
          <p:cNvPicPr/>
          <p:nvPr/>
        </p:nvPicPr>
        <p:blipFill>
          <a:blip r:embed="rId3"/>
          <a:stretch/>
        </p:blipFill>
        <p:spPr>
          <a:xfrm>
            <a:off x="0" y="4124160"/>
            <a:ext cx="1095480" cy="1752840"/>
          </a:xfrm>
          <a:prstGeom prst="rect">
            <a:avLst/>
          </a:prstGeom>
          <a:ln w="0">
            <a:noFill/>
          </a:ln>
        </p:spPr>
      </p:pic>
      <p:pic>
        <p:nvPicPr>
          <p:cNvPr id="88" name="그림 38" descr="Untitled-9.png"/>
          <p:cNvPicPr/>
          <p:nvPr/>
        </p:nvPicPr>
        <p:blipFill>
          <a:blip r:embed="rId4"/>
          <a:stretch/>
        </p:blipFill>
        <p:spPr>
          <a:xfrm>
            <a:off x="6724800" y="3933720"/>
            <a:ext cx="2419200" cy="189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607-4D90-4DC2-B5B6-3BF753D4B46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A78B-3F71-4906-A67C-7697E887E1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2BFC-DD1E-486F-A878-018057B3CF6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4586-5786-4A5A-B3DF-8DB0373B70A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770D-EFD1-4413-B2EF-79F2E1EF3CEB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EDB7-411D-48EE-837F-8DE1C432495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0EB-4812-43B2-9417-7E1B3DFFE957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F9E1-43EF-4A6A-A263-93074076408A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29D4-5831-42B9-A3DA-F28888AE6997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2FF3-4D6D-43AA-817B-0FFA29A88370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83A1-D8AD-4D69-A986-B56586A54B8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3812-B864-4256-87D8-445EA2FD560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5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59"/>
          <p:cNvSpPr/>
          <p:nvPr/>
        </p:nvSpPr>
        <p:spPr>
          <a:xfrm>
            <a:off x="7669800" y="9018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 LT 45 Light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18" name="직사각형 5" descr=""/>
          <p:cNvPicPr/>
          <p:nvPr/>
        </p:nvPicPr>
        <p:blipFill>
          <a:blip r:embed="rId1"/>
          <a:stretch/>
        </p:blipFill>
        <p:spPr>
          <a:xfrm>
            <a:off x="152280" y="1609560"/>
            <a:ext cx="6559560" cy="743040"/>
          </a:xfrm>
          <a:prstGeom prst="rect">
            <a:avLst/>
          </a:prstGeom>
          <a:ln w="0">
            <a:noFill/>
          </a:ln>
        </p:spPr>
      </p:pic>
      <p:pic>
        <p:nvPicPr>
          <p:cNvPr id="619" name="직사각형 6" descr=""/>
          <p:cNvPicPr/>
          <p:nvPr/>
        </p:nvPicPr>
        <p:blipFill>
          <a:blip r:embed="rId2"/>
          <a:stretch/>
        </p:blipFill>
        <p:spPr>
          <a:xfrm>
            <a:off x="0" y="2225520"/>
            <a:ext cx="5473800" cy="1084320"/>
          </a:xfrm>
          <a:prstGeom prst="rect">
            <a:avLst/>
          </a:prstGeom>
          <a:ln w="0">
            <a:noFill/>
          </a:ln>
        </p:spPr>
      </p:pic>
      <p:sp>
        <p:nvSpPr>
          <p:cNvPr id="620" name="직사각형 7"/>
          <p:cNvSpPr/>
          <p:nvPr/>
        </p:nvSpPr>
        <p:spPr>
          <a:xfrm>
            <a:off x="3995640" y="5013360"/>
            <a:ext cx="48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Franklin Gothic Book"/>
              </a:rPr>
              <a:t>Our company respects everybody is doing a best. Thinks the customer first of all. Loves the customer. Will increase in the customer and thanks. Will become the company which endeavors always. Thanks. 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그림 34" descr="Untitled-12.png"/>
          <p:cNvPicPr/>
          <p:nvPr/>
        </p:nvPicPr>
        <p:blipFill>
          <a:blip r:embed="rId1"/>
          <a:stretch/>
        </p:blipFill>
        <p:spPr>
          <a:xfrm>
            <a:off x="1427040" y="2773440"/>
            <a:ext cx="792360" cy="2408040"/>
          </a:xfrm>
          <a:prstGeom prst="rect">
            <a:avLst/>
          </a:prstGeom>
          <a:ln w="0">
            <a:noFill/>
          </a:ln>
        </p:spPr>
      </p:pic>
      <p:pic>
        <p:nvPicPr>
          <p:cNvPr id="622" name="그림 27" descr="Untitled-10.png"/>
          <p:cNvPicPr/>
          <p:nvPr/>
        </p:nvPicPr>
        <p:blipFill>
          <a:blip r:embed="rId2"/>
          <a:stretch/>
        </p:blipFill>
        <p:spPr>
          <a:xfrm>
            <a:off x="993600" y="1779480"/>
            <a:ext cx="2097360" cy="1427400"/>
          </a:xfrm>
          <a:prstGeom prst="rect">
            <a:avLst/>
          </a:prstGeom>
          <a:ln w="0">
            <a:noFill/>
          </a:ln>
        </p:spPr>
      </p:pic>
      <p:pic>
        <p:nvPicPr>
          <p:cNvPr id="623" name="그림 28" descr="Untitled-11.png"/>
          <p:cNvPicPr/>
          <p:nvPr/>
        </p:nvPicPr>
        <p:blipFill>
          <a:blip r:embed="rId3"/>
          <a:stretch/>
        </p:blipFill>
        <p:spPr>
          <a:xfrm>
            <a:off x="1700280" y="3213000"/>
            <a:ext cx="1774800" cy="1273320"/>
          </a:xfrm>
          <a:prstGeom prst="rect">
            <a:avLst/>
          </a:prstGeom>
          <a:ln w="0">
            <a:noFill/>
          </a:ln>
        </p:spPr>
      </p:pic>
      <p:pic>
        <p:nvPicPr>
          <p:cNvPr id="624" name="그림 35" descr="Untitled-11.png"/>
          <p:cNvPicPr/>
          <p:nvPr/>
        </p:nvPicPr>
        <p:blipFill>
          <a:blip r:embed="rId4"/>
          <a:stretch/>
        </p:blipFill>
        <p:spPr>
          <a:xfrm>
            <a:off x="1627200" y="4395960"/>
            <a:ext cx="2255760" cy="140148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82"/>
          <p:cNvSpPr/>
          <p:nvPr/>
        </p:nvSpPr>
        <p:spPr>
          <a:xfrm>
            <a:off x="39528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Rectangle 84"/>
          <p:cNvSpPr/>
          <p:nvPr/>
        </p:nvSpPr>
        <p:spPr>
          <a:xfrm>
            <a:off x="39528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27" name="Rectangle 82" descr=""/>
          <p:cNvPicPr/>
          <p:nvPr/>
        </p:nvPicPr>
        <p:blipFill>
          <a:blip r:embed="rId5"/>
          <a:stretch/>
        </p:blipFill>
        <p:spPr>
          <a:xfrm>
            <a:off x="145728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82" descr=""/>
          <p:cNvPicPr/>
          <p:nvPr/>
        </p:nvPicPr>
        <p:blipFill>
          <a:blip r:embed="rId6"/>
          <a:stretch/>
        </p:blipFill>
        <p:spPr>
          <a:xfrm>
            <a:off x="2114640" y="3571920"/>
            <a:ext cx="1317600" cy="603360"/>
          </a:xfrm>
          <a:prstGeom prst="rect">
            <a:avLst/>
          </a:prstGeom>
          <a:ln w="0">
            <a:noFill/>
          </a:ln>
        </p:spPr>
      </p:pic>
      <p:pic>
        <p:nvPicPr>
          <p:cNvPr id="629" name="Rectangle 82" descr=""/>
          <p:cNvPicPr/>
          <p:nvPr/>
        </p:nvPicPr>
        <p:blipFill>
          <a:blip r:embed="rId7"/>
          <a:stretch/>
        </p:blipFill>
        <p:spPr>
          <a:xfrm>
            <a:off x="2114640" y="4730760"/>
            <a:ext cx="1317600" cy="609480"/>
          </a:xfrm>
          <a:prstGeom prst="rect">
            <a:avLst/>
          </a:prstGeom>
          <a:ln w="0">
            <a:noFill/>
          </a:ln>
        </p:spPr>
      </p:pic>
      <p:pic>
        <p:nvPicPr>
          <p:cNvPr id="630" name="그림 51" descr="Untitled-13.png"/>
          <p:cNvPicPr/>
          <p:nvPr/>
        </p:nvPicPr>
        <p:blipFill>
          <a:blip r:embed="rId8"/>
          <a:stretch/>
        </p:blipFill>
        <p:spPr>
          <a:xfrm>
            <a:off x="5651640" y="1879560"/>
            <a:ext cx="2381040" cy="248616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82"/>
          <p:cNvSpPr/>
          <p:nvPr/>
        </p:nvSpPr>
        <p:spPr>
          <a:xfrm>
            <a:off x="5940360" y="228924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b61"/>
                </a:solidFill>
                <a:latin typeface="Georgia"/>
              </a:rPr>
              <a:t>Noti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Rectangle 84"/>
          <p:cNvSpPr/>
          <p:nvPr/>
        </p:nvSpPr>
        <p:spPr>
          <a:xfrm>
            <a:off x="5961240" y="2577960"/>
            <a:ext cx="1152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33" name="그림 57" descr="Untitled-12.png"/>
          <p:cNvPicPr/>
          <p:nvPr/>
        </p:nvPicPr>
        <p:blipFill>
          <a:blip r:embed="rId9"/>
          <a:stretch/>
        </p:blipFill>
        <p:spPr>
          <a:xfrm>
            <a:off x="3657600" y="2773440"/>
            <a:ext cx="792000" cy="2408040"/>
          </a:xfrm>
          <a:prstGeom prst="rect">
            <a:avLst/>
          </a:prstGeom>
          <a:ln w="0">
            <a:noFill/>
          </a:ln>
        </p:spPr>
      </p:pic>
      <p:pic>
        <p:nvPicPr>
          <p:cNvPr id="634" name="그림 58" descr="Untitled-10.png"/>
          <p:cNvPicPr/>
          <p:nvPr/>
        </p:nvPicPr>
        <p:blipFill>
          <a:blip r:embed="rId10"/>
          <a:stretch/>
        </p:blipFill>
        <p:spPr>
          <a:xfrm>
            <a:off x="3224160" y="1779480"/>
            <a:ext cx="2097000" cy="1427400"/>
          </a:xfrm>
          <a:prstGeom prst="rect">
            <a:avLst/>
          </a:prstGeom>
          <a:ln w="0">
            <a:noFill/>
          </a:ln>
        </p:spPr>
      </p:pic>
      <p:pic>
        <p:nvPicPr>
          <p:cNvPr id="635" name="그림 59" descr="Untitled-11.png"/>
          <p:cNvPicPr/>
          <p:nvPr/>
        </p:nvPicPr>
        <p:blipFill>
          <a:blip r:embed="rId11"/>
          <a:stretch/>
        </p:blipFill>
        <p:spPr>
          <a:xfrm>
            <a:off x="3932280" y="3213000"/>
            <a:ext cx="1779480" cy="1273320"/>
          </a:xfrm>
          <a:prstGeom prst="rect">
            <a:avLst/>
          </a:prstGeom>
          <a:ln w="0">
            <a:noFill/>
          </a:ln>
        </p:spPr>
      </p:pic>
      <p:pic>
        <p:nvPicPr>
          <p:cNvPr id="636" name="그림 60" descr="Untitled-11.png"/>
          <p:cNvPicPr/>
          <p:nvPr/>
        </p:nvPicPr>
        <p:blipFill>
          <a:blip r:embed="rId12"/>
          <a:stretch/>
        </p:blipFill>
        <p:spPr>
          <a:xfrm>
            <a:off x="3865680" y="4395960"/>
            <a:ext cx="2249280" cy="1401480"/>
          </a:xfrm>
          <a:prstGeom prst="rect">
            <a:avLst/>
          </a:prstGeom>
          <a:ln w="0">
            <a:noFill/>
          </a:ln>
        </p:spPr>
      </p:pic>
      <p:pic>
        <p:nvPicPr>
          <p:cNvPr id="637" name="Rectangle 82" descr=""/>
          <p:cNvPicPr/>
          <p:nvPr/>
        </p:nvPicPr>
        <p:blipFill>
          <a:blip r:embed="rId13"/>
          <a:stretch/>
        </p:blipFill>
        <p:spPr>
          <a:xfrm>
            <a:off x="368784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638" name="Rectangle 82" descr=""/>
          <p:cNvPicPr/>
          <p:nvPr/>
        </p:nvPicPr>
        <p:blipFill>
          <a:blip r:embed="rId14"/>
          <a:stretch/>
        </p:blipFill>
        <p:spPr>
          <a:xfrm>
            <a:off x="4352760" y="3571920"/>
            <a:ext cx="1309680" cy="603360"/>
          </a:xfrm>
          <a:prstGeom prst="rect">
            <a:avLst/>
          </a:prstGeom>
          <a:ln w="0">
            <a:noFill/>
          </a:ln>
        </p:spPr>
      </p:pic>
      <p:pic>
        <p:nvPicPr>
          <p:cNvPr id="639" name="Rectangle 82" descr=""/>
          <p:cNvPicPr/>
          <p:nvPr/>
        </p:nvPicPr>
        <p:blipFill>
          <a:blip r:embed="rId15"/>
          <a:stretch/>
        </p:blipFill>
        <p:spPr>
          <a:xfrm>
            <a:off x="4352760" y="4730760"/>
            <a:ext cx="1309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그림 65" descr="Untitled-14.png"/>
          <p:cNvPicPr/>
          <p:nvPr/>
        </p:nvPicPr>
        <p:blipFill>
          <a:blip r:embed="rId1"/>
          <a:stretch/>
        </p:blipFill>
        <p:spPr>
          <a:xfrm>
            <a:off x="1339920" y="21337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641" name="그림 66" descr="Untitled-15.png"/>
          <p:cNvPicPr/>
          <p:nvPr/>
        </p:nvPicPr>
        <p:blipFill>
          <a:blip r:embed="rId2"/>
          <a:stretch/>
        </p:blipFill>
        <p:spPr>
          <a:xfrm>
            <a:off x="5730840" y="20620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642" name="그림 68" descr="Untitled-17.png"/>
          <p:cNvPicPr/>
          <p:nvPr/>
        </p:nvPicPr>
        <p:blipFill>
          <a:blip r:embed="rId3"/>
          <a:stretch/>
        </p:blipFill>
        <p:spPr>
          <a:xfrm>
            <a:off x="2057400" y="1989000"/>
            <a:ext cx="4943520" cy="4248360"/>
          </a:xfrm>
          <a:prstGeom prst="rect">
            <a:avLst/>
          </a:prstGeom>
          <a:ln w="0">
            <a:noFill/>
          </a:ln>
        </p:spPr>
      </p:pic>
      <p:pic>
        <p:nvPicPr>
          <p:cNvPr id="643" name="Rectangle 82" descr=""/>
          <p:cNvPicPr/>
          <p:nvPr/>
        </p:nvPicPr>
        <p:blipFill>
          <a:blip r:embed="rId4"/>
          <a:stretch/>
        </p:blipFill>
        <p:spPr>
          <a:xfrm>
            <a:off x="3895560" y="2743200"/>
            <a:ext cx="1114560" cy="536400"/>
          </a:xfrm>
          <a:prstGeom prst="rect">
            <a:avLst/>
          </a:prstGeom>
          <a:ln w="0">
            <a:noFill/>
          </a:ln>
        </p:spPr>
      </p:pic>
      <p:pic>
        <p:nvPicPr>
          <p:cNvPr id="644" name="Rectangle 82" descr=""/>
          <p:cNvPicPr/>
          <p:nvPr/>
        </p:nvPicPr>
        <p:blipFill>
          <a:blip r:embed="rId5"/>
          <a:stretch/>
        </p:blipFill>
        <p:spPr>
          <a:xfrm>
            <a:off x="3828960" y="3444840"/>
            <a:ext cx="1060560" cy="566640"/>
          </a:xfrm>
          <a:prstGeom prst="rect">
            <a:avLst/>
          </a:prstGeom>
          <a:ln w="0">
            <a:noFill/>
          </a:ln>
        </p:spPr>
      </p:pic>
      <p:pic>
        <p:nvPicPr>
          <p:cNvPr id="645" name="Rectangle 82" descr=""/>
          <p:cNvPicPr/>
          <p:nvPr/>
        </p:nvPicPr>
        <p:blipFill>
          <a:blip r:embed="rId6"/>
          <a:stretch/>
        </p:blipFill>
        <p:spPr>
          <a:xfrm>
            <a:off x="3760920" y="4175280"/>
            <a:ext cx="1055520" cy="568080"/>
          </a:xfrm>
          <a:prstGeom prst="rect">
            <a:avLst/>
          </a:prstGeom>
          <a:ln w="0">
            <a:noFill/>
          </a:ln>
        </p:spPr>
      </p:pic>
      <p:pic>
        <p:nvPicPr>
          <p:cNvPr id="646" name="Rectangle 82" descr=""/>
          <p:cNvPicPr/>
          <p:nvPr/>
        </p:nvPicPr>
        <p:blipFill>
          <a:blip r:embed="rId7"/>
          <a:stretch/>
        </p:blipFill>
        <p:spPr>
          <a:xfrm>
            <a:off x="3760920" y="5029200"/>
            <a:ext cx="1055520" cy="5666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82"/>
          <p:cNvSpPr/>
          <p:nvPr/>
        </p:nvSpPr>
        <p:spPr>
          <a:xfrm>
            <a:off x="1835280" y="3286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Rectangle 82"/>
          <p:cNvSpPr/>
          <p:nvPr/>
        </p:nvSpPr>
        <p:spPr>
          <a:xfrm>
            <a:off x="615636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Rectangle 82"/>
          <p:cNvSpPr/>
          <p:nvPr/>
        </p:nvSpPr>
        <p:spPr>
          <a:xfrm>
            <a:off x="6588000" y="24224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Rectangle 82"/>
          <p:cNvSpPr/>
          <p:nvPr/>
        </p:nvSpPr>
        <p:spPr>
          <a:xfrm rot="16200000">
            <a:off x="1737720" y="2159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Rectangle 82"/>
          <p:cNvSpPr/>
          <p:nvPr/>
        </p:nvSpPr>
        <p:spPr>
          <a:xfrm rot="1305000">
            <a:off x="1456920" y="2755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Rectangle 82"/>
          <p:cNvSpPr/>
          <p:nvPr/>
        </p:nvSpPr>
        <p:spPr>
          <a:xfrm>
            <a:off x="46836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Rectangle 84"/>
          <p:cNvSpPr/>
          <p:nvPr/>
        </p:nvSpPr>
        <p:spPr>
          <a:xfrm>
            <a:off x="46836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5T01:48:53Z</dcterms:modified>
  <cp:revision>1</cp:revision>
  <dc:subject/>
  <dc:title>PowerPoint 演示文稿</dc:title>
</cp:coreProperties>
</file>