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119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8C88-5F84-4003-A5FD-0E8016BD5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B901-E6A4-4D65-804C-26AEFC4E4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07B0-D76F-4654-B697-1C83F2769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6618-C51A-4CF6-90DA-A0988F852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19E7A-5FD0-458C-B200-F25DBA7A0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BE06F-4B41-4A1E-9A54-C1946A5AB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4A063-E818-4F4E-80D4-998856DAA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4090E-7F50-4726-BF52-F57FFFFC5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A6714-D760-4FFC-8C92-5220E8BA5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3BE6D-2D7A-476E-AD9F-96A0F8C8B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CCF15-62B8-48B2-B452-FD06B90E8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9128-3593-4A29-84FA-465E3C2DA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85BFF-E50F-4BDB-A25C-32DD8B8B4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B01FD-0DF8-4829-A5E8-F3B69ABA1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81592-9AB8-457A-BB2D-7B7E63DED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2F01E-FBC3-4427-9A63-3EBABBBDF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07E4A-B3CB-4AE6-B035-78696ABC5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46867-2EEE-49DD-933F-952904264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64FCD-D0FD-4924-B3A0-C59AFC0C1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AC4E8-8A8C-4256-B15D-36E6E3C4F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D4310-941B-4236-83E6-84FFAC703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F96BE-889A-4354-BE99-75395A7C7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42AA-5992-4856-A780-B3A444ED2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16E5B-8675-4DC7-B487-4B79418E9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CB771-E0A0-4B36-8044-15C6F80A2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FAEAE-2423-43DB-933C-BEA67C564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B9612-1A87-445F-A7C6-379BB59D6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56591-503B-4AAB-8BD5-9097FDF83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B261F-69F6-4302-B1C2-A0056E1E4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B7402-4A8A-45B8-AC32-DA807FE9F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6FE0-6772-4BD5-8BD9-C60E6D2BD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29A5-41F1-432A-AEA7-9F6F142E3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4AD0-8A66-4B6F-801A-A060AA2ED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646B-7401-44A9-BCC7-88D469AC3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53C1-54CF-4CA1-B083-BE6028EB0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4675-4761-4B40-A916-ECEC615B6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ctr">
            <a:noAutofit/>
          </a:bodyPr>
          <a:p>
            <a:pPr indent="0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70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rmAutofit/>
          </a:bodyPr>
          <a:p>
            <a:pPr marL="325440" indent="-3254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03440" indent="-27000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082520" indent="-2156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515960" indent="-2174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4" marL="1949400" indent="-21744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5" marL="1949400" indent="-21744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6" marL="1949400" indent="-21744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572080"/>
            <a:ext cx="2133720" cy="4255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572080"/>
            <a:ext cx="2895840" cy="4255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572080"/>
            <a:ext cx="2133720" cy="4255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6888A-72F0-4190-B708-53DE1447D76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204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19160" indent="-203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27040" indent="-203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35280" indent="-203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35280" indent="-203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35280" indent="-203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5573520"/>
            <a:ext cx="213372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58BA4-F45C-48DA-A7E2-C8221F77A2BD}" type="datetime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573520"/>
            <a:ext cx="289584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5573520"/>
            <a:ext cx="213372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747B0-E79C-4EAB-B3A5-B11D3437027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ctr">
            <a:noAutofit/>
          </a:bodyPr>
          <a:p>
            <a:pPr indent="0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70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rmAutofit/>
          </a:bodyPr>
          <a:p>
            <a:pPr marL="325440" indent="-3254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03440" indent="-27000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082520" indent="-2156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515960" indent="-2174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4" marL="1949400" indent="-21744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5" marL="1949400" indent="-21744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6" marL="1949400" indent="-21744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5572080"/>
            <a:ext cx="2133720" cy="4255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5572080"/>
            <a:ext cx="2895840" cy="4255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5572080"/>
            <a:ext cx="2133720" cy="4255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5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B8E64-D89B-4AA8-9990-380F2AC83ED4}" type="slidenum">
              <a:rPr b="0" lang="zh-CN" sz="15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 rot="660000">
            <a:off x="1911240" y="829080"/>
            <a:ext cx="118584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Arial"/>
                <a:ea typeface="微软雅黑"/>
              </a:rPr>
              <a:t>一路向北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箭头 67"/>
          <p:cNvSpPr/>
          <p:nvPr/>
        </p:nvSpPr>
        <p:spPr>
          <a:xfrm flipV="1">
            <a:off x="1981080" y="4392360"/>
            <a:ext cx="142920" cy="647640"/>
          </a:xfrm>
          <a:prstGeom prst="line">
            <a:avLst/>
          </a:prstGeom>
          <a:ln w="127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ctr">
            <a:noAutofit/>
          </a:bodyPr>
          <a:p>
            <a:pPr indent="0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zh-CN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70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zh-CN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ctr">
            <a:noAutofit/>
          </a:bodyPr>
          <a:p>
            <a:pPr indent="0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zh-CN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70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zh-CN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ctr">
            <a:noAutofit/>
          </a:bodyPr>
          <a:p>
            <a:pPr indent="0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zh-CN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70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zh-CN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2"/>
          <p:cNvGrpSpPr/>
          <p:nvPr/>
        </p:nvGrpSpPr>
        <p:grpSpPr>
          <a:xfrm>
            <a:off x="492120" y="0"/>
            <a:ext cx="7554960" cy="6119280"/>
            <a:chOff x="492120" y="0"/>
            <a:chExt cx="7554960" cy="6119280"/>
          </a:xfrm>
        </p:grpSpPr>
        <p:sp>
          <p:nvSpPr>
            <p:cNvPr id="132" name="矩形 4"/>
            <p:cNvSpPr/>
            <p:nvPr/>
          </p:nvSpPr>
          <p:spPr>
            <a:xfrm>
              <a:off x="1100520" y="0"/>
              <a:ext cx="5930640" cy="62748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5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35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5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35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3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492120" y="1529640"/>
              <a:ext cx="7554960" cy="458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Box 7"/>
            <p:cNvSpPr/>
            <p:nvPr/>
          </p:nvSpPr>
          <p:spPr>
            <a:xfrm rot="20926800">
              <a:off x="2192040" y="3179160"/>
              <a:ext cx="41648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2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2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8T07:18:09Z</dcterms:created>
  <dc:creator>Administrator</dc:creator>
  <dc:description/>
  <cp:keywords/>
  <dc:language>en-US</dc:language>
  <cp:lastModifiedBy>a</cp:lastModifiedBy>
  <dcterms:modified xsi:type="dcterms:W3CDTF">2014-08-03T07:51:12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