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1F6A8-697A-44DE-8447-586B96BF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4856D-8996-4067-98E3-99592AEA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96788-89BC-42FE-B55B-6240FAA0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CCCA5-E537-44D4-9FBA-C0F7BF4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48603-E3C5-4586-B87E-063D88D6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9D87F-7753-4AEC-89AE-170BDE7C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6C465-32C5-4173-BD5F-ECB1112F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5830-2A32-4AEF-9342-4D809480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9D5B-C1F2-4A9A-837E-C3F9B774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208BB-20F8-4A5F-9024-4753939D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984D6-5EC0-459B-A913-20657DE7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D058A-B25F-4B04-9857-B115FAC8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5843F-FC1E-426A-BB8B-F36A96CE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16FDA-06C1-46FF-96F2-2CCB8DB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EFE9F-4EE0-4893-AD15-65F6039E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D133D-7713-4097-9E3B-D912425C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23F4E-8D84-4139-BAB1-E7D57042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D9245-B8AB-460C-AA99-EAC9148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70142-8773-4979-9719-95997F87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00126-DA7D-4559-A000-508A6118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C84F5-0418-40BF-8600-8D7B8B73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A8512-DCDC-4E73-807A-A80C683C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E961A-D0F0-4050-9A5C-C3F2DF87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C5E73-4805-452E-9A4D-8765DDA8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631CB-EBAC-4A5F-BFCC-D2755DDC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DA881-EE7F-4175-9166-01CE1A1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8747D-47EF-4918-A591-DA72359D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99A52-99A6-42D7-A771-7DD00644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5163-64CD-49C3-BD58-F4B5125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D4D2A-DE4E-448E-85C5-26AD14DC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D15-0ACC-4767-9226-53B2EDB5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0F949-87A0-491D-A2D6-4EABB6FD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93382-B5A4-4A15-8F76-DCCB34E4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8752F-3266-4C87-A0B1-E0B517FA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EE73C-C48D-4589-84E2-172B1D48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0850-150A-4B64-B8FE-691DA363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5F4C8-655A-4B08-9170-B4BC881F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E0045-AECB-463A-816C-6BF7C635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65686-9207-45B7-84BC-60457D95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8811A-F22D-4001-83A3-D3B3B213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F7E3A-07F9-4CC6-BB5F-594CCCEF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D12-4C00-4B2F-81B6-A7C1BDB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5AA9B-BE2E-438F-8413-8870B213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EB78D-70A3-4B34-9E1E-3CBF945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E5AC5-1569-4F18-BD43-AABD2FB9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B5C6-0915-4CE2-9D67-A6154BF9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81AC-12B2-4759-8D24-E7128C7F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051F4-919C-4ED4-BD2E-CB240C2D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F041A-A74A-4A8C-8B4E-99AE494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ADAAB-72E9-47E4-BA45-65E28F67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55B37-1671-41AA-96D9-BDCD85FC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0C640-5D03-4F18-B70E-1C59CB11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8C03-EA09-4AE7-94D0-A2DC0C87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960A5-ED8B-4B70-83F1-2B7AB64A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BC967-F43C-4F52-8461-74BA23CB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4AA3F-4E66-4695-934F-A69C048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E561F-8A76-49D6-B10E-5A70851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B0F3D-0CE3-4030-870C-34BF17E9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29724-5CAF-4A2E-B4BC-992ADDD8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02B6F-2FA7-421B-ABEF-C98B9B8E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82C-1D84-49B4-9FB9-CBE10099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A48-FFA5-4EAA-B9A9-29835FBC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239-E011-4ED3-98C7-72D6ADB5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F2C-DF81-4ECA-8C84-3D3FD955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0645-B20D-42D0-B5DF-CADDDA6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D41-FFDC-4CC6-A49A-4230AE41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964-A811-4529-A537-3A0C06F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D737-19D7-4364-BAE5-275BF5F9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D0A-657B-4AB2-B303-AB16B046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E896-F07D-480D-839D-DA0BFDA2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B1A-BC86-40AE-9818-EB0521EA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CDB5-BD33-491D-89A8-5D99C3C0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6B89-B79D-4B1E-8292-08BC4817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B62A-2CD9-4F52-B3AD-32CB3C35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34AE-C90C-4270-9338-0BB05158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937C-F63C-43A2-8360-9BDC04C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085-E62E-4730-8D62-C18AF68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BB31-3BA7-4B65-9B27-32975B2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0886-A4D7-4AF9-A2DE-9E680CA1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F73-BAD3-48DD-8FCA-C2E37B2A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B6A2-3B8C-442E-B6BA-1793ED60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48D0-7DF7-41D3-A7F8-7B24BA32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A2FD9-835D-494E-BB23-9DA880F0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297A-1237-4732-BF53-08D1582E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4F3D-DE3B-4D32-877A-33514ED8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F1D33-C55F-4EF7-939E-45BD738D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54EA-13BA-4BAF-8A05-842E97C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4C90-C201-4AE6-A22C-A8C65AE1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CEE5-083D-4D92-B737-7697A8DB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5320-3D6D-4492-A054-197D77D3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4961-7800-4650-809A-6BE5793D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DE5F-350E-41F3-B431-CCC18258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6EBF-FE12-4E10-A624-9086E0B8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DA55-2A5F-48C1-A2F7-7AA19D4C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C6FB7-0692-4F3B-9D8B-4AAED9B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E13C-1546-47D1-92BC-22E3016F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56B8-D753-43E6-9989-9676603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5FAE-1BE3-4148-88DB-F3909C23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80B3-F3A0-460A-9CE9-D0EB1F57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3D68-0BA7-4D89-B013-D39F124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BAC7-948D-4A28-A138-DAE09A21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188C-39E0-4354-9393-E3FA0A4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C50C-AEBE-4322-B197-8F52DDD2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73B1-83E4-4B2B-91C2-9BBDB99E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31501-3848-46AC-B761-E80B2CAD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4BBF-7757-4FC6-9846-4FA54CBF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8E0B1-0449-4D57-9E78-D986719C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20EB-C83A-4EB8-AB3A-6756002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82E80-3378-4151-9ABA-23634FA4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A2A2-0FC0-43A6-A406-35F19F9F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2A10-4161-4AE1-B8C4-82864C1F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0556-6AAC-48B4-9F9A-9471005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AB37D-BB59-44CB-8FC3-5AC0096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C6A34-CDD1-4030-BA15-BE5A4CE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EF462-DF5E-4506-8BC0-E8FCD4D3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24526-34B6-4513-9A93-8E51535C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47AB-4CEC-4121-8D03-DAFAF1A2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DF100-B6B1-474D-AFDE-9482ECDE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10CD6-C50C-46CD-9D0F-B084534D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819B-1CC1-4BC7-9552-495D6BF4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94EB3-5B3A-4FDA-A666-760FC38E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0E9DF-6119-490B-9C0B-4393CD15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084CB-67BF-4CE5-8207-DEEE86C1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5DBB-606E-4C6F-8587-58049E8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3F1E-1ADF-49B1-AA12-795AC6F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C3146-4DC7-4C30-9549-96DF58F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CE90B-BABB-4057-A7DD-48DAF653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8928A-C77F-47CB-B3D8-15B6F948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BC80E-1B0A-45D9-A663-AAC038F9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EF4FD-2551-46AE-8D45-61F0435C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B3CBA-062C-4AF6-B1AE-C3972D42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5A7C3-7563-4E6E-8AE9-B091F4AE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01AF-89FA-439E-AAE8-3B61358B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43AE-23ED-40A8-A6CC-0F59C9C6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29F99-37A2-424D-A29D-2564E54F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BCDD6-BE27-49DF-A3ED-F9E4BA11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11AA8-43CA-4464-A7CA-87ED3E0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1FC95-4C46-465C-B18A-BC8D8C5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9306C-8CC1-436D-84C4-D0B20654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66FBF-975C-46D1-B5D2-7006839B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F542-C6CA-4EFE-B95D-51361EFE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4C70-ACE2-4E1D-A017-F6135C98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BD2E7-C794-4F86-BD6C-F9C5F50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AE6EC-A4AD-4550-BDF7-BD999C4F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cbcb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d9d9d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2C4F-BE06-4270-8089-D02E36DCD0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2B5B-8E21-4F28-B9CB-68387BF67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7D4-F920-4035-B5B7-2959053E8F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C424-BA5E-4B6A-8DEA-75AF55D92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BDC5-C6CB-4C85-B155-566660ECBC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45A7-BE5C-4750-87C9-0A1D2D07FA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28FE-7B8E-4EF8-AF4E-B164E6B4E2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7110-D910-4CEA-8F94-FCFC274D4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5784-050B-4E17-939F-88DDED25B2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1D67-750A-4511-BA02-D71D3C03A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4121-D18A-4E1B-B848-32D8B68B94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E0C2-7B61-4C3E-A773-C3E7A4ECE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8C37-3C08-46EE-A841-8167A71671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246-AA9F-48CC-9283-E99A4A3783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507B-E69A-48BD-8FA6-CA77D8694D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45EC-6226-4D67-B289-30BA0DAA4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5C99-BD54-4570-AF1A-4AA9E2EA35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3528-8D2B-405D-B333-CDA62FF6D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494E-CB0B-40A3-B180-DF027A4991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F727-DB78-4ACD-ACD8-7A45B337C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533E-AE1D-4C8F-B5F7-57B4FBA2E3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F0D-41E0-437F-9FDE-00DAF3142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B81-BBD9-438D-9248-F79BE3309E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208E-A4A1-4F7F-A892-054EEAEB1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28960" y="856800"/>
            <a:ext cx="5929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GIS and Higher Education</a:t>
            </a:r>
            <a:endParaRPr b="1" lang="en-US" sz="32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7640" y="1856880"/>
            <a:ext cx="207180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- Dr. Smith</a:t>
            </a:r>
            <a:endParaRPr b="0" lang="en-US" sz="24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Traditional Curriculum</a:t>
            </a:r>
            <a:endParaRPr b="1" lang="en-US" sz="44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42960" y="164304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Build GIS into Coursework</a:t>
            </a: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Incorporate GIS into Programs</a:t>
            </a: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Distance Learning and GIS</a:t>
            </a:r>
            <a:endParaRPr b="0" lang="en-US" sz="28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GIS Resources</a:t>
            </a:r>
            <a:endParaRPr b="1" lang="en-US" sz="4400" spc="-1" strike="noStrike">
              <a:solidFill>
                <a:srgbClr val="bcbcbc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ESRI – GIS for Higher Education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Status of GIS Education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Mapalytics – Tailored for the Education Community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Gulim"/>
              </a:rPr>
              <a:t>National Institute for Technology and Liberal Education</a:t>
            </a: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000080" y="2857680"/>
            <a:ext cx="468648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Gulim"/>
              </a:rPr>
              <a:t>Thank you !</a:t>
            </a:r>
            <a:endParaRPr b="0" lang="en-US" sz="4800" spc="-1" strike="noStrike">
              <a:solidFill>
                <a:srgbClr val="d9d9d9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d9d9d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45:00Z</dcterms:created>
  <dc:creator/>
  <dc:description/>
  <cp:keywords/>
  <dc:language>en-US</dc:language>
  <cp:lastModifiedBy>a</cp:lastModifiedBy>
  <dcterms:modified xsi:type="dcterms:W3CDTF">2014-07-23T08:18:22Z</dcterms:modified>
  <cp:revision>2</cp:revision>
  <dc:subject/>
  <dc:title>GIS and Higher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