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CD8-4445-42CF-9A13-A26D0D31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30A-0D90-4E19-9F74-8630907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1C702-A82D-4888-B1BF-27F38046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21E01-A666-488C-808A-015A33C2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33216-B886-4233-993B-40F1DFF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FDA64-A1EF-4E6F-A1EA-941DCE1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3BB11-E997-4794-AE77-DA7D67A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D6589-2E21-473A-B156-BD8C755C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D97F2-2550-4D58-A1D4-28803F53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4CEBD-AC48-4A1D-AFDC-3397A35A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B3DAE-06B6-45B3-9744-8ACC6F00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7A5A5-DE22-499E-BC29-AC78F370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414-95E3-492E-A2DA-001B8463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1B9DC-E4A1-42C3-84D9-EA64CEA5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2A420-6810-4C5C-B702-70A6B85A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6B1A0-2EBC-47AF-92F2-4361F2F8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248F2-E6F8-4953-A3E3-F7233A9C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5A031-86C4-4731-BB8F-3C9BEE2D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C817C-8B84-42EE-8FB1-CAC57486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DBBF3-72A4-48B3-A726-7BF83AC1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55865-7CA9-4674-9226-A76DA54F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87167-55F4-40AD-90B5-6584E7A3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81EF9-7CB7-41A7-9E65-FA46EFCE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684-D147-4E5B-A7DA-7048C28A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F6379-8A09-41F5-9E31-F3A48BB1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A66F8-CE3E-4A4D-8671-89EE3F03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3718C-0664-46F7-B39A-846FEEDD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7F6FD-DF15-480E-A8C4-97CE80FC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23D38-732C-4324-90C9-B1120B0B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3EF61-F44F-458E-9C3E-CFFB4FC9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B16B2-4B5E-4AF5-BBEE-DC659F74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74723-459A-4D04-9EC6-E084E0A7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7EDAE-F6F7-450F-84FF-5FCD265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690B7-A92D-44D2-A2DE-6A29DD05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5CB4-E85F-4B29-B2FD-1683A0A0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D88FD-C7DE-40A7-B0A6-9D3FBFF5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01D37-76D4-4B87-B5A7-B99E0B2D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34AAF-B17D-4EF7-9057-272166D5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D7DD8-711E-4E05-B54D-E947B864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66B78-10A6-468D-A86E-434D7AE2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EBF2C-1B82-4B4E-BEA7-9D47B6EC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4AF7A-C807-46CC-8329-31D91656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F6F2D-9DEB-4B27-9D81-DEBAC186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FA160-0463-4677-9AFC-35FE3178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F1B59-470C-4A50-94A2-71217B5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D970-A169-4C64-ADCA-DC23F39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B30E0-0358-4233-9657-6486AF1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72645-49B2-4CFA-8910-04BBD943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8040D-0F6B-4103-926A-FE58BA1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4A760-4447-4779-ABB8-DA83F13B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83B47-0596-4374-B805-137309E7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134BB-7FF9-4C7D-B38C-808877B2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B8264-F8A3-4777-B3D2-16F9F341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D9715-A064-44EC-8CC1-56994B6B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19EF0-4FA3-499F-999E-FFC3763E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15570-110C-4813-825C-D860CD86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5113-8D09-4649-B417-5FFCA833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824F0-5EA3-4DAE-A652-9DA7E48C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8BFA0-ACC9-4DD5-A814-D61D2866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BFCD0-9E0F-4A27-8D1C-89BD2B9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9FC72-6579-401D-A6D2-4EB9ECA4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7D71E-2B43-485E-BC63-B64D236B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39FA7-B6C1-4441-94A4-4D68D35A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71951-872D-4F79-A779-5A5013FC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A5F9-07F4-4424-853F-34443C05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F32F-5482-40F2-90E7-DD0110C0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DCE5-81D4-4616-A8DC-829AEAC9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BEC4-05E9-43EE-A38C-4289205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E84-3D47-4086-A7D0-0123316F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1BDB-E597-403A-AEB1-31D9E4E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605F-340F-446A-B46C-7A7662C1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94F8-0819-43E7-B235-4A64562B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4F3B-74DA-4494-B430-5CFEDF4C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0A66-78FD-4CBF-B5B2-C2D41CFF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D1CA-6A4A-40FE-92DA-7C6CC115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E08D-87DD-489D-BF7B-ED26252E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5F2C-9165-453A-A5A2-E1C9D2BE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89A3-D48F-43A3-85FC-72C163E4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58D7-90FB-4FFC-AE8F-486A2FCC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C74-9E17-4C1D-B5D5-5FA9DEF8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B5A1F-3198-4CA3-8EA9-115B3623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4D08-3F0C-47AA-B717-A89DD6B6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0FAE-0D1B-4EF0-A5A0-D9599156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D3CB4-B019-4FE0-A665-05A0F415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C3F2-64FA-42FB-8034-A5BECB95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EABE-1F3B-4C18-A0AA-DA95037B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F965-4558-4120-A8AD-C2683970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0882-1761-42F4-AA83-9297E115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D0B5-E4EA-44E9-ADCE-3852C508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486E-8529-4651-A86D-6F002EF3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7DA-54F1-4E6C-BFEE-DAC73F8C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AB625-6493-4CDF-959E-0E716724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D6F9-DE1B-46AA-B73C-397BDC5B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24E5-2EDB-4617-823E-33DC348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85E2-627C-49FC-882B-F18F8FAF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E578-3C4F-4422-A845-AFAD059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C0F0-606C-420F-B9B6-F0C04F1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EC6FA-7307-46CA-9DD7-69D15C01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E24F-03C8-4982-8298-E54A113C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8A714-8F66-4B41-A97B-4A15914A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1DE84-0BBD-47DF-811E-D87A72CF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0E7-3606-4FC4-88F1-79BCA4DD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6FF32-3EF6-401D-A495-3DADB6E8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6469C-F345-4981-AEA9-205A1E27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DE57-8E5C-4916-BAC8-4358EDF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0A532-2D7A-4FF9-B0E7-CA1856FA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67B3-B08D-4809-AF0F-A0E54780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B137A-D4CA-4DC7-AF37-A0C5364C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392C-BEA7-45A2-8810-4A15F5FE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B1410-108D-42FB-B26D-C1E0CB7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CBB9-970D-4275-8AFF-5CDD7930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A0A01-FDD3-469A-A7C3-44EF90A0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B94-3D42-4E4C-ACA8-4DB2DDFF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AC0C2-1ADC-481D-9299-A74D3B8E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A5C81-5E09-417D-9647-9A414F19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4C47A-529E-4407-AC75-1A7B56DA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7D044-A817-4D2D-A6C7-CB4E2FF3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71619-B8E9-4D1B-82F5-567C45A4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C7949-5E0F-46C5-AA83-805328DC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CD6B-D2FE-4C91-AD67-73C4BCD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4DBAD-616E-42D9-AF1A-BFFDA555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DC4E6-36EC-4078-81B0-DA3DA91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20F54-CF9C-4B9C-B478-8EC6A717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7BA-1ECC-47B5-8C1F-788F15C5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82A1C-074E-44D0-9BB7-38D6A87E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C03CD-1A4F-4B61-9F59-288D8F8E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A515-8785-433D-9306-F78E6352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E23A-A8E1-47BC-A6CD-DD65251A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2E961-A76C-407B-9341-C7D0382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C5372-9D76-4001-84C4-2A31BA4B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08954-6B01-4DE4-BEDC-9B383954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FE469-07A3-41FC-B12D-B52B0E65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2FD7D-C570-423B-B5E4-6A3753FC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337C-9D31-4915-AEF2-4D406F32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E45-C0F7-452F-AC9E-87ACD1C8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6A078-EAFD-44B7-9E57-19A265C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00838-B81B-4997-AC3B-7E1DBF9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C42F3-764B-427F-BE4B-4E0BD7FA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DFD4D-22A8-4D87-A608-D032AFCC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C114-96B5-45E6-A979-D40C742A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7F11A-D918-46F9-9DBC-1B6FDED1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A9BE-F066-4FA4-BDAE-03B0785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E8217-45AC-4A77-A7B2-AC242888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335F-CA8F-4C5F-BC88-22FC934D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FC900-DDC8-4706-BAD6-D5144E3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A9B-6C52-4B40-B7C7-ECC6C75D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539F6-1465-4886-A0ED-43E43C8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59A37-F6A0-4437-A247-2AA539F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2E27B-5128-4389-A933-25F4F32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550E7-D06F-4857-AD6E-A0CD5C9E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C851-3577-4D50-9F87-89944D1E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1C3BB-3635-4A22-B488-243FC668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BAF54-4F06-4EC8-873B-C581C812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16E64-ABEB-4826-8D89-73227346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FD353-04F5-4E5B-B97A-87DA0935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F68F0-868C-4D1D-BEFA-DF14B94C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3226-DF33-4943-8D53-B13866A1DC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6817-65FA-4337-BEB1-F697AD3BDF9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C1B2-8BE0-402F-99CB-172F1F08166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D19E-50CE-4206-9794-6BDC8708097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8567-6BA4-4187-8AD6-DE015F11E46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DA0D-C442-45F0-8F08-7C1A8DD362A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9B72-4F0E-4983-8F3A-C7DA6476D8A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28C8-7E57-4D8F-95DB-11787122B00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B172-9476-4102-87AA-4CD28A72F3D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D309-2ED3-4A0E-A056-7B5F27146D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F42-E6CD-432A-A916-CD894BD09F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0F4E-522A-4D6A-8CC3-95FB9FAFEA6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8552-7B2D-47EB-BB3F-3AD2886BFCD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B305-D811-4CBD-9DEB-A24C9004538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5E56-589D-4479-A0DF-FC15E3E693B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558C-552B-431F-82E4-D06654799A6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2F2C-CD6B-40D4-AE91-A2EBE59E235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710-98C7-48FC-8862-9EA5F4A26F2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ABC-1F82-409E-9EA6-2249B8278DF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D7AB-F8C5-4504-A9E8-226CA7644C8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6288-3CBB-4DA8-AD41-A178D4EF82B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F297-A4AB-4ABF-A0CE-21FD661366E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97D1-901F-410F-B210-ADBF5E10E3B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AE5B-0F9A-414F-A11E-76E46C89D36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C695-5B7B-4B3F-80A9-DE45DBDE1A3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Oval 2"/>
          <p:cNvSpPr/>
          <p:nvPr/>
        </p:nvSpPr>
        <p:spPr>
          <a:xfrm flipH="1">
            <a:off x="10988640" y="5602320"/>
            <a:ext cx="843120" cy="842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7e6e6"/>
              </a:gs>
            </a:gsLst>
            <a:lin ang="5400000"/>
          </a:gradFill>
          <a:ln w="9360">
            <a:solidFill>
              <a:srgbClr val="777777"/>
            </a:solidFill>
            <a:miter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开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5156280" y="1263600"/>
            <a:ext cx="702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Calibri"/>
                <a:ea typeface="微软雅黑"/>
              </a:rPr>
              <a:t>小世界，大不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5727600" y="2521080"/>
            <a:ext cx="346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配色基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彩设计的原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彩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设计中的色彩诱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往大师的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潘通色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254280" y="2610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43264"/>
                </a:solidFill>
                <a:latin typeface="Calibri"/>
                <a:ea typeface="微软雅黑"/>
              </a:rPr>
              <a:t>设计配色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9677880" y="220356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143264"/>
                </a:solidFill>
                <a:latin typeface="Calibri"/>
                <a:ea typeface="微软雅黑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2489040" y="336600"/>
            <a:ext cx="44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63c1"/>
                </a:solidFill>
                <a:latin typeface="Calibri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143264"/>
                </a:solidFill>
                <a:latin typeface="Calibri"/>
                <a:ea typeface="微软雅黑"/>
              </a:rPr>
              <a:t>设计配色基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349360" y="19875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配色概述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通过配色着色还可达到某种应用上的要求，如提高塑料耐光性和耐候性；赋予塑料某些特殊功能，如导电性、抗静电性；不同彩色农地膜具有除草或避虫、育秧等作用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349360" y="3270240"/>
            <a:ext cx="74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定义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配色就是在红、黄、蓝三种基本颜色基础上，配出令人喜爱、符合色卡色差要求、经济并在加工、使用中不变色的色彩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349360" y="4552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配色原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颜色的种类非常多，不同的颜色会给人不同的感觉。红，橙，黄给人感到温暖和欢乐，因此称为“暖色”；蓝，绿，紫给人感到安静和清新，因此称为“冷色”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2441520" y="2009880"/>
            <a:ext cx="555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2967"/>
                </a:solidFill>
                <a:latin typeface="Calibri"/>
                <a:ea typeface="微软雅黑"/>
              </a:rPr>
              <a:t>谢谢聆听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2276640" y="3457440"/>
            <a:ext cx="5559120" cy="8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999999"/>
                </a:solidFill>
                <a:latin typeface="Calibri"/>
                <a:ea typeface="微软雅黑"/>
              </a:rPr>
              <a:t>THANK YOU VERY MUCH!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5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Box 7"/>
            <p:cNvSpPr/>
            <p:nvPr/>
          </p:nvSpPr>
          <p:spPr>
            <a:xfrm rot="20926800">
              <a:off x="34318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3T07:54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