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112-888F-44F4-AABA-EF9A7381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0FD-3510-4EF0-AC90-0A69D49F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8D5-BCBC-47E4-85E6-00E91AB1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653-5D53-4957-93FC-87C8AD31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67A5-6216-4926-A11E-2FA458C3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3078-480A-4AD2-99BE-04A05BDD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D69B-67A9-4DE5-AA62-6144620C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AD8F-0AA6-49BF-8BF8-C2C5EE7D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ED76-1782-44CD-A183-FC07A6EB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7D9F-B6E9-4317-872D-9773CE4E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9A7D-41D9-442F-980B-E629161A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CEA-0656-4798-A10C-256ABAEE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AD7A-D2BD-4CCF-B3DA-986C96C4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05BE-ADE0-4CC7-9CE0-56B0BB87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4D51-E31D-4AB7-B8B1-A920869A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10AA-ECF7-4462-BECA-38A93A24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FD0D-B5DA-448B-BFF0-C879D2D8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1A7-B986-4879-8D2D-5F8C3F4F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C3C-A6E5-45EE-8B68-410408D8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FF1-76E2-4EA6-9785-19A9B480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E24-1883-4F02-BD8E-44A657BD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737-6DC3-4A7B-9632-964C9AFE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734-6CC0-4D9C-A5B4-8343066F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9F8B-B8F6-4070-A6D7-4514C69E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7CE8-D7DA-4DB7-BEE8-3BF1F5DBB1E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387A-209E-44BD-9870-FB22353492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3603-1B90-4BA3-8C36-95D3EC13468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2EF3-1711-4892-A8C3-68492255F9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49244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Arial Unicode MS"/>
              </a:rPr>
              <a:t>愚人节快乐！</a:t>
            </a:r>
            <a:endParaRPr b="0" lang="en-US" sz="4800" spc="-1" strike="noStrike">
              <a:solidFill>
                <a:srgbClr val="cc66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391000"/>
            <a:ext cx="640080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898989"/>
              </a:solidFill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cc6600"/>
              </a:solidFill>
              <a:latin typeface="Arial Unicode MS"/>
              <a:ea typeface="Arial Unicode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81b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42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 Unicode MS"/>
                <a:ea typeface="Arial Unicode MS"/>
              </a:rPr>
              <a:t>Thank you!</a:t>
            </a:r>
            <a:endParaRPr b="0" lang="en-US" sz="2800" spc="-1" strike="noStrike">
              <a:solidFill>
                <a:srgbClr val="cc6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1:16:00Z</dcterms:created>
  <dc:creator/>
  <dc:description/>
  <cp:keywords/>
  <dc:language>en-US</dc:language>
  <cp:lastModifiedBy>a</cp:lastModifiedBy>
  <dcterms:modified xsi:type="dcterms:W3CDTF">2014-05-31T02:24:03Z</dcterms:modified>
  <cp:revision>1</cp:revision>
  <dc:subject/>
  <dc:title>愚人节快乐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