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B0A-E811-4ED6-8D67-D653152D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D74-6240-40E2-8703-3BB86D0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23BE1-14C7-488D-AF39-4AFAF5CE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2D5A1-99EA-4C2E-8FE7-3B4BF631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D340F-0A9F-4C4A-8C33-1BF39AD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A7C8B-AE73-4CE5-AE7F-90A1B8A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67E63-5680-420B-89E2-998258D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1CA6-9302-454D-89D6-E5FA7DB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00CC-F5A5-4CCF-A316-8017F1C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3ECC2-4D36-42DE-AD38-1551920D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9E805-C155-48B1-A80B-29DA98D7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0B431-7CBF-4539-9C99-6AA6990D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08A-D55A-4355-AB69-A05782FC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A7CC0-8BE2-49C9-8DB1-B06C0012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2BF7E-72FF-4D0A-8791-B8C8926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6FE32-784C-4F47-85B4-D358A837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858F2-CF48-4A2A-80A1-8F2224F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89074-E23D-4BAB-925E-70B4F8A5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78580-27A3-4516-9A9F-91A6495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B257D-1C19-4C37-B836-5348570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F4CCA-331C-4054-A504-6CB141E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8C34F-ECC0-49E6-9A0E-76E9834C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DC8E4-EF81-4F6A-AEDB-8CCC5D0F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EB7-13A7-47B1-8036-2D1553F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D8CF8-CAE6-40FB-8FAF-451DFB0A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92FA9-C709-46F9-932E-0AABA81D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09545-087E-49E7-B11A-18006800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BF7D6-B33E-4494-A9A0-C6AC8A85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A208B-28EF-46B0-BF34-D47E3611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BD08E-AC79-42EE-8CA2-986ED08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64B8-A6FC-466C-B347-D906C5E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08414-DE07-4C62-B7B2-58B8D65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3D348-3CDE-4172-8990-F9729C0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5022-F926-4C97-A8EF-3B8CAE8B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2F8C-7DA9-4C07-855F-D71AF78A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A33CC-50C9-419B-A716-AC62CC4C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33F6E-22E3-47C5-BC36-377E0659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499B6-A70B-4354-88CB-06EDADF7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85A0-AA5E-45FE-AFAF-CDCCC56C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575B5-B7CC-4D35-926C-FA39B28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D524-2767-4A92-98BD-B14DC609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0C113-0EBF-4FDC-BB7C-BE68696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CF86A-2F26-4845-A4DF-E3932B4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0E4F-BCBE-4C9E-A278-1565916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4A7E4-4BC6-4A1D-91CD-C4AFDF6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1AFD-B5BD-4614-B3F8-0E4003B2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1295C-EEEF-4601-9AE3-6E8C5EA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80AC9-8E87-4E9C-B77A-0589E8C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BDDD0-E4DF-4E92-A7D1-2DE74E87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A4A51-DFA3-45FA-AD79-3BA08C80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EE15F-15C7-47F5-BF58-6F4D07CC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FB1A4-522E-4B16-9607-A59D4525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BE7AC-CF6D-48AA-9097-705DA4ED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05158-2974-4488-BA59-5FA4CCA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45A97-8751-4C3C-976D-9F1073D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84285-0CE3-462C-ADD5-E74FD501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1F4A-0062-4F40-B105-C2CCA57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60F07-7E9A-457C-A662-DB961A57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16DA1-8F6F-4468-B678-87468B2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6EC02-0C41-4DF7-BFF1-B3409190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BA90C-5819-4581-9B3C-E45FDF6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8D7C4-9AF5-4F21-A2F3-841F73FD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7D3C6-9DF7-4771-84DD-7832460C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D843A-17C6-4B89-A56B-D9DDFD56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6E921-04C2-4940-81D2-5A0BAFB3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CB510-BADF-4F51-B04C-4A632456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9FA0-76A1-45CA-85A4-AF232E96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C1AB-A8E0-466C-9221-E738D471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6DF12-E3A5-400C-84A5-5A05AB4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2FA6F-25F6-4987-B7B7-11CDADD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D8987-F36E-4806-B31B-72E374B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561C8-928D-431E-A145-7CAE83E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68C3D-0F79-4443-8544-E1D741E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94440-5602-4F69-9486-6ED8C24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3D3AF-8801-4DE7-961B-E24247C5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2CFCE-A756-4A20-89B5-0F75B47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1A2B7-802C-4D9D-8309-F832C744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610-0BB1-4E85-86A6-1BF2945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B668-06DA-4834-BAF3-F59040EE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9AD-93B7-48EF-AD22-1EA31030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B97-FC95-4D8D-AA58-9179019D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641-F056-4F96-BE03-9C894AA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894F-EAF8-442E-824A-3C21842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59E-3DD0-40A9-A5AF-3FE723CF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2FA8-6ACE-45F1-8E75-7D7056A4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2FDB-47D3-4311-B723-07C24666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F8677-9860-4A74-958F-3D1032F5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8C88-AE4F-4662-9679-9AC8DFC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28EE-DF74-4CA6-8092-0D6E7BC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5874-830D-43E2-94AF-90A7330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6054-C7FC-4050-9EB7-43A8EB83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0BA-EF69-4BF5-8A6B-971D101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07CE-B20D-424A-81DE-5ABEFA9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170C-BDA1-47CC-9C34-49673E0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A3DA-0148-487C-94CF-1CC2548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9E82-D68C-41E2-A553-93E66A5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3F46-700A-494B-87CD-8FDD8DD1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51D2-F69C-43BC-BD7B-DA7288D0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FFA05-2168-4F90-82E2-C1748275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E269-FAB6-4D5A-BAD6-D35A3FB4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1BF6-935C-49F9-9C14-042C70AE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1D6C-1636-4306-ACCC-EA034BAE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33B-5B9E-41E2-BCCE-1D91FE04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9917-E7BF-40DA-94B5-E3E16669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1D0D-A37D-40C0-B670-DCFD639C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CE53-7BB6-49EA-91DD-60ED70E8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7E44-4381-40C3-8319-B82473D7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BE1D-ADCD-4218-8D1D-DF480F4A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37C0-F42A-489E-AC33-7C1BB98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749B-DB31-4D73-BB1D-A8121F7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521AC-B7C1-4656-83B1-54074F7F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DF7D-5B16-42BB-A5C1-AC3DDA8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6455-E32F-4EBE-B51D-B9A061EA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007-FE38-4E33-9C77-832EC7B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AED3-1A02-4CCA-86AA-9E5D37F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B9893-29C5-4CEF-AA94-82AE7B1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28E9-00DC-4294-9CE2-331417D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E36F-6AEA-486E-82E0-7AE8D14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56BC-1B10-4E77-96F7-C509AE73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246A1-194E-4746-A07C-0AEB15B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9193-9091-491B-8BF1-BC08A48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FAD3E-26BD-4FF4-9BD7-137E47E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42390-3DFF-4749-94E4-9E1E3DF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A683F-1FB1-4B51-9A6D-FA8F4308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6EB-C6CF-4912-A295-51379D5A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F1A8-121F-4052-9BE0-FA308A53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AC09-E4A2-4BB0-8FA3-A689E4D5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F99A3-041E-4AE4-BAA5-DF74E844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A678-C50D-4C06-9FCB-29D01E35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A1218-2ED1-4451-B26D-DD9357FC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F8A13-59DA-4114-ADA3-023C6C3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B9DB6-4582-491C-8A58-064C7AF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EF5E1-F3D1-4961-83C3-30A25017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7443-4EFA-493D-9621-105CEF8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667F9-1945-4FB5-8A3D-2E9400C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DCE-7E68-4143-9534-F6AD0C73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17EE-0307-40FC-ACE1-9BB53192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1533C-0234-4BD9-9E1E-1227BEE0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F3FA-2197-4ED2-9809-AFB368F7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E9258-A898-4585-A9CA-CF97CB7C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B8F7-5D0C-4F12-A85F-D7CB073E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A94FF-1A14-4355-93D1-014C5ED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7F2D6-4CC7-4244-9B33-1F52AE41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5ACEA-9510-403B-824C-9157570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BE9B-9EB1-441D-B152-0D493D0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F1EA-DC2D-4A52-859C-969768A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A1D-F095-4AF4-BA09-FB9F572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6DC04-49E0-41E4-BED1-03D8F3F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A962-3CC3-4401-B520-BF96F41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3D80-66CD-42A6-A5B2-0A8FC7D9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1E8C-A2E9-46A4-B8F2-C1760446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42B8-E38F-4EDB-A8DC-9CD9DE15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586C-EAE6-4E33-B88B-9903D57E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7605-CA51-4251-ADB8-089E1D4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AE8F2-EA9A-4198-8653-23937701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DD32-8A6E-4E20-AA43-98B74B0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2582-0CB4-4B5A-B9A6-A789E503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FF8-896A-4636-BE20-123A1E7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2A0FA-7806-41CF-A322-D615C36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2226-310D-44F9-A3B3-7FD7FB6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1D4F-5227-4D46-9E30-4CCE597A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6B4F4-4B88-4357-AE39-9230189B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D663-9BDB-4F97-8B00-F4DD262F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470F7-4FA3-4DE8-9565-F0A0DDA5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F9294-3FBF-4614-B78A-831B40F7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39EAF-A4E2-455B-8610-6A539254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9737E-740E-4934-92A8-FB975309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0355A-67B2-4C92-9C70-C8862F89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2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859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37652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77240" y="6244920"/>
            <a:ext cx="14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AB4-C1FA-4112-98C5-D2F98DFCFF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C1C-D350-450F-89E6-44100C2F8B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55F-9C23-41D3-8342-DB834CB76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55B-9318-45A8-9039-5A8D5A40D3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93D1-CFAA-444E-8CC2-F5AD6F9A6C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250-D0BC-46F0-9EF6-2C31622E3B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7D7-C27F-4EE1-9FDB-5D5939ECA8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DD8-100D-4FE9-A0D8-12C1F47BC9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279-839D-442E-8327-3407B9BB7B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2788-0068-42C6-AF4B-D4CD139B44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CA1-4F7D-4F60-ABF1-96182E34D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3AB-C383-407F-94B8-B098E263D61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74E-F0EB-4D8E-A3C2-F3523BD3B2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1"/>
          <p:cNvPicPr/>
          <p:nvPr/>
        </p:nvPicPr>
        <p:blipFill>
          <a:blip r:embed="rId2"/>
          <a:stretch/>
        </p:blipFill>
        <p:spPr>
          <a:xfrm>
            <a:off x="0" y="-239760"/>
            <a:ext cx="9906120" cy="7097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FF4-991A-41D2-9069-5F7631B8D14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0B8D-BCA2-4E60-93F9-4F2C21E3D8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EF6E-0A34-4A1E-A19F-DD2539E32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A726-1E00-49EA-9491-E11044CC54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220-93CB-41DF-A3FB-39C794609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6B7-5B95-4031-B1C2-FA681A460B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AA24-88A9-44B6-8C5F-2DA2DF537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A2E-AAF3-4951-83C9-8BBC6C593B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ABE-61A7-4BA3-B5EC-3FDC79ED1C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54E-3376-465E-8732-8474FBEE0E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8B3-3994-460D-ABB4-0B9F29F6B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40B-E5D6-4B30-9A96-923155B88C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1D3-7A69-44A9-8AC2-444B0C73DE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800" spc="-1" strike="noStrike">
              <a:solidFill>
                <a:srgbClr val="cc6600"/>
              </a:solidFill>
              <a:latin typeface="Arial"/>
              <a:ea typeface="华文彩云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8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785960" y="1600200"/>
            <a:ext cx="762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380880" y="0"/>
            <a:ext cx="8466120" cy="6858000"/>
            <a:chOff x="380880" y="0"/>
            <a:chExt cx="8466120" cy="6858000"/>
          </a:xfrm>
        </p:grpSpPr>
        <p:sp>
          <p:nvSpPr>
            <p:cNvPr id="580" name="矩形 4"/>
            <p:cNvSpPr/>
            <p:nvPr/>
          </p:nvSpPr>
          <p:spPr>
            <a:xfrm>
              <a:off x="997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80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2301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5:50:20Z</dcterms:created>
  <dc:creator>Lemon</dc:creator>
  <dc:description/>
  <cp:keywords/>
  <dc:language>en-US</dc:language>
  <cp:lastModifiedBy>a</cp:lastModifiedBy>
  <dcterms:modified xsi:type="dcterms:W3CDTF">2014-08-13T04:33:54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_TemplateID">
    <vt:lpwstr>TC011962432052</vt:lpwstr>
  </property>
</Properties>
</file>