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projctor.wav" ContentType="audio/x-wav"/>
  <Override PartName="/ppt/media/drumroll.wav" ContentType="audio/x-wav"/>
  <Override PartName="/ppt/media/chimes.wav" ContentType="audio/x-wav"/>
  <Override PartName="/ppt/media/explode.wav" ContentType="audio/x-wav"/>
  <Override PartName="/ppt/media/camera.wav" ContentType="audio/x-wav"/>
  <Override PartName="/ppt/media/laser.wav" ContentType="audio/x-wav"/>
  <Override PartName="/ppt/media/image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7318-FEC2-4426-9152-8A78EB4B7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B378-733E-40C4-A9BB-B65B0EB0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69BB6-A674-449D-9C54-9ABBE371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0C5E50-E7CB-4182-B5E6-C99B2B43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65EA9-358A-4F9F-BBFB-184E0754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1824A4-7D2A-46B8-80BF-9586DFAD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FAD2D8-B276-4EB3-8784-2A7E0CFF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D3E6D-678C-406F-AB0E-662BD704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5219A-A2CE-430D-B877-A3533141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415199-B63B-4E36-A1FF-20D3562E3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E1EAD5-9D96-433D-84D5-20FD3AD9C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7D18CD-62C1-418F-AB48-FCDF53EF0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426E-A4C5-4647-9A29-6C03F09B2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16D361-7230-43AE-85FB-DAE43DCF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1FDE69-86D4-4797-B2BA-ADA66A6F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314A83-3C1D-4102-BD99-7BB271E1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B4AD2-6B43-4F89-A0BA-794522F4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BD9792-69D1-41FC-9B40-9428B7BD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1CEA1-E878-4A93-BFC5-B4635ECD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A326D8-6AB8-45C5-BF7B-85A1A6DB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8C1366-7FE9-47E0-8D73-5766069B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555D4-B589-4B30-87F5-FC6975AA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DB8673-8A6B-4487-85A2-E7889B5E4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9402-3992-4517-8D12-1C2942B0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2E5A23-5B46-4DD0-8F36-456E77DCB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F5BFA-D9A2-47F0-8B40-C021E50B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2180E-6BB4-46F5-B1F7-97D0DDAF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53D3D-1BE4-4D31-B47D-1FDA5789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9C9F2-AF88-4FD1-BF4B-FBED92E4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589B4-5F30-4F91-9607-57F89802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342D7-FDC0-4D7E-8937-11E7F095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D9786-2B91-4FC5-B71B-9D89D6A6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9C999-A2B5-4FBA-BA56-9F01F97A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B915B-A7AF-499E-845F-CB38C6B4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5A44-39B9-4D17-9EA7-5AAF3EF94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A1FB1-3587-44ED-A4BB-86B6C7A1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860CD-4297-45B0-BA6F-B6ABD7A3B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C2971-3F80-4F18-B446-1CDB1CC87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7FBF65-B847-45C1-9E9D-67ECE79FF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0C64EE-543F-450A-9F80-736C12EA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B0EC49-E09B-4B21-9ED1-9A4C3257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287CB-E7AE-4F30-B187-D7BB689C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3E1B3B-DCA2-4A4C-B522-AE2241A2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EC8AAF-FCBC-4C75-9982-F89FB29B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48401C-DF8C-42DF-9F35-800A82CE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43B7-EAFC-45CA-8B4B-E5DF8022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87FFAD-C524-4F6B-A6C7-C5387FE5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2ABF7-5505-4A3B-9112-2BFB16CC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86286D-E1FE-4739-95CD-602BE325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CA4973-FED8-4950-A579-B41D2BC9A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2A78B2-1499-473E-8C6A-A63F32EB3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4792CE-AD98-4C98-B2F7-2C76913C3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966398-6F6B-44CF-B102-0FC18C2E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A8CAD4-D139-42A0-A871-D46470F6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2DD454-414C-4565-8CD2-68ABB9F1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1D59C3-7EE9-4B34-AFC2-6DCAFD8F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ECC4-62D2-4C3F-86AC-83ECB91A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2991C9-15EF-49D5-86E5-F25F5166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BB1A86-8E9A-4B8A-9190-6402BEF1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DD4B06-CA36-462E-9C78-DE41DA71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151407-1E48-43CF-8F62-12D36D05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575A04-8A94-4DDC-AE99-11B1F632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B9BEAB-12DF-49DF-8538-130E93D99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DE29E1-9906-47DA-A055-D1239352E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C3A5FF-A707-47BC-8BA1-0403EFC75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AD1966-DF23-42D8-A6A2-E9696E51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1D778A-9E5E-4653-A516-ACE6C8BB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6186-4D0B-434E-A80E-EC8CAD6B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4AF0EE-C6DA-4D71-B47E-FBE5BCE4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3778F3-E29B-4F2A-9615-7CFCD304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EDA970-6FD7-428E-9374-457B68B6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5A0779-082D-4918-A2D5-92C813E1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D3002C-6C82-427C-AB69-51B1E8B8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E48DD1-9DF3-444A-BD9A-851BA4F2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D2B066-728D-4DAF-963C-8F55669F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3DE269-467B-4605-8A74-74666DDC0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10A4B2-B583-43CF-81F6-5AA2FCE2A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7E48-899B-42C0-9D83-9F0A3BCD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918A-526D-4B1F-8B06-6091CCB6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1706C-2C28-4A2A-9C8A-CCFA3148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DDA7-D16C-49F3-A946-84FF8498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9885-61E8-45A5-86E9-DD00ABAA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6EEC-F67B-4403-B872-FC943B98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44DB-E45E-468E-9DE7-16EB1154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D999-1AAF-43AC-8F77-23B9177D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6A5A-FA98-49C6-ABEA-CB95E325D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2297A-189A-4DCF-8001-1068B33BE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9DE0C-E373-4E31-BA59-40E7D1C3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68C58-A67B-41B6-9700-2ABE308B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B284B-C040-4A5D-8265-94D26A9B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31001-5470-42F2-AAF3-B6629218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929C-2C04-4854-B4B2-AE8E0098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8C8D2-D146-44AE-8228-623BD6F4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2BBBE-B658-4BBA-944B-D280B4F6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B97A2-0981-4E8D-B23E-11DCB478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6D280-237F-42BD-943B-EE170021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25FC0-C875-4BC7-A5ED-9E42A320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BA47A-5FA5-4506-8CD1-A1ED71E5C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32D1F-01CD-453A-A803-673AB7D9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5D70C-15E3-496B-A3F8-B3CA123F1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F5637-C358-4111-ABE7-38225FDE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165D6-C6AE-4DF8-BF84-5B14E32C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5E79-822B-41F1-8E58-D78C1E88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B3C54-62AC-49CE-B73C-A5190A58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17E4B-6BD5-4849-8C98-AABF3D0D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2D7F3-D43E-43DE-9247-2AA38DBA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6249D-E7AB-4F52-86DC-437F1C98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3E056-154E-47EA-9D01-5B545620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945D0-3993-4EFD-8071-6C2517C8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AE946-E454-4E41-9704-E5FC5D88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A139C-A081-4698-A807-1BD3048F6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D2DD3-DEEC-4A6E-B44A-A1BC81B11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B8D98-2185-45E1-8849-4CC6D8AC3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39A6-6B0A-4A5F-B7C5-4657C946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A0C4F-98FD-4EE3-9964-26C22721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19937-BFAA-46A8-871C-783FA7C8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9CB34-249D-449F-9753-420833C0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172E4-DEB4-492B-B336-0F7DAE1B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3EB8D-020A-41EE-A8BA-64E09728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C97E3-650A-443F-A4FA-7BA10871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FA509-7821-42D1-A500-78DA3867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C064C-565F-492F-9D40-227D1EE4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78F70-A644-4E3D-BC38-86932278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04A38-7A5B-45A3-95A1-88F5D420F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A2D6-CD2F-4F5D-B137-D27697F8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07F32-EE75-4034-985F-187DBE3D0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8139B-A0C1-43B1-BB1C-5063A8236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218BD-41A4-444E-A9F9-30D8A0BE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EABCB-D542-4E9E-AAE4-755494F6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C6060-0CEE-4A06-BE9F-72EEC015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AAC38-32CE-4A03-ABA4-E694FD2A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69C03-DA54-40CF-89CE-E29C2180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2ED33-C3B2-4306-860B-452A8ABA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4752D-338E-45DA-BBF1-A7712730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64265-0D05-4EAD-9C55-F0A1A033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8286-0E4F-491F-B84D-3D614607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6912C-1C38-4BCC-89B5-1A75CE0B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A25DC-8C5F-457C-99C6-53CF2CB7F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F6E33-331C-42A8-A28D-927D7A6AC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027E0-A3EC-413E-AA82-B500FF789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4482D-4C86-4539-9B3C-57F05663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6A60C-D9AE-4A1E-9DE7-65242B28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C5287-1F99-4A08-BE2B-17714DD1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FC9AA-DC38-4AEE-ACF8-7BA560BD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A3498-A9DC-43D8-9BFE-F5E9024A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20F6D-ADA5-400B-99E8-3CF46343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0244-B4C3-4FCA-B7FE-652AB4C5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81526-6D96-44DA-BD85-881A8F6D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67AA8-0F4B-4342-A1CA-1209B98C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4A4E5-C516-4DCA-A369-C67B5FD0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4A51C-B7EA-4637-8460-4D45B11E3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7C25D-7579-4213-9D3A-8AB929684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9DF38-2AC3-44CC-8AD4-ADF387F2D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43342-DCE8-47A9-9DCA-7E305623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4F23C-4832-4EF2-9AA7-37C2C7D3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B9FDF-1D4A-4C7C-BAD2-2E84E96A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2C2EA-695E-4508-B87F-E013089F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3432-2A06-4E8D-9D96-86BEE08F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4BB3F-2468-4B0A-9DCD-66AB2EFD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21187-6437-412B-B19C-75561853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A6A0C-C6A4-4602-82D8-C304B33A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D078A-FC8C-4912-BCF9-D2CA5F91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9EF89-6CF0-41CC-BC87-569F287A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C03B8-E8AC-433E-BCBD-CF8AE25C7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D3001-D19B-48FE-BDED-5D2F3624F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6010E-8FFC-48A2-94BD-92948E9BF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8D58E-DF7A-48DB-BA18-4FCE476C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FBF9B-7EFE-41B6-B2BA-B6262262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851D-CCD0-4BD6-B12E-D1BFBCA532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5C5B-2228-4B6F-ADF9-5240B426A22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546A-0856-4DB0-8CF3-D69EB5027E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F227-3BBB-4233-996F-95AB3C71A58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F751-0986-4603-A35B-9C989769A8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3D76-2A82-46FB-98F6-DECD9D8EF30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A4E5-5912-4AA3-9DF7-1D09AF3F3C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2552-FCFA-408D-98E6-168734FF748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37C0-DE7C-425F-B800-C0BC145439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CC4E-978C-4ABE-93E0-9F9DF574AFE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D2F4-C944-4233-BB5B-CC7456C14A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3574-EEB0-4355-8F4D-54812E7BBB1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E66D-1723-49BF-B968-34E0C55DA1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87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89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0EBB-777B-476F-BAEC-236F364713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CF15-65EE-40A2-820D-0BA0018B319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0975-50EF-44B8-B931-20F6139A4D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8370-4F48-4CA5-ADDB-0082B3FCE72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25BF-FBEB-4DB7-8678-885D9488F0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D411-BB6F-4AA0-8878-F7D8D29B29E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EFFC-F900-4E2F-ADA9-7200D2191F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487E-6C6D-436D-BFB7-5CBA2567D0F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75E6-2594-4112-8D8F-4BA3F26583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1D06-0A99-4FE8-8E97-0ECE821E211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EA09-3C57-4486-ACB1-2105AC1C7F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8A1F-EFF6-464D-B7B0-8ACC36E239E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50D4-F90C-4656-80C1-1F28B2A643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drumroll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Subjunctive Moo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I.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虚拟语气在条件主从复合句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1. I ______________  (come)too if I had time   to spar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2. I didn’t see your sister at the meeting. If  she ________________ (come), she would have met my brother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3. If the hurricane had happened during the daytime,there______________________ (be)more death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2133720" y="21337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should com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2819520" y="342900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66"/>
                </a:solidFill>
                <a:latin typeface="Times New Roman"/>
              </a:rPr>
              <a:t>had 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com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6" name="Text Box 6"/>
          <p:cNvSpPr/>
          <p:nvPr/>
        </p:nvSpPr>
        <p:spPr>
          <a:xfrm>
            <a:off x="4267080" y="48769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66"/>
                </a:solidFill>
                <a:latin typeface="Times New Roman"/>
              </a:rPr>
              <a:t>would have 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be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219320" y="5335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3)I </a:t>
            </a:r>
            <a:r>
              <a:rPr b="0" lang="zh-CN" sz="3200" spc="-1" strike="noStrike" u="sng">
                <a:solidFill>
                  <a:srgbClr val="eaeaea"/>
                </a:solidFill>
                <a:uFillTx/>
                <a:latin typeface="Times New Roman"/>
              </a:rPr>
              <a:t>would love to have gone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to the party last night, but I had to work extra hours to finish a report.(97’NMET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4)She</a:t>
            </a:r>
            <a:r>
              <a:rPr b="0" lang="zh-CN" sz="3200" spc="-1" strike="noStrike" u="sng">
                <a:solidFill>
                  <a:srgbClr val="eaeaea"/>
                </a:solidFill>
                <a:uFillTx/>
                <a:latin typeface="Times New Roman"/>
              </a:rPr>
              <a:t>’d rather have stayed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at home than went to see the dull film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5" name="Text Box 4"/>
          <p:cNvSpPr/>
          <p:nvPr/>
        </p:nvSpPr>
        <p:spPr>
          <a:xfrm>
            <a:off x="1447920" y="21337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昨晚我</a:t>
            </a:r>
            <a:r>
              <a:rPr b="0" lang="zh-CN" sz="3200" spc="-1" strike="noStrike" u="sng">
                <a:solidFill>
                  <a:srgbClr val="eeb00b"/>
                </a:solidFill>
                <a:uFillTx/>
                <a:latin typeface="Times New Roman"/>
              </a:rPr>
              <a:t>本想去参加</a:t>
            </a: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聚会来的，可我得额外加几个小时的班赶完一篇报告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6" name="Text Box 5"/>
          <p:cNvSpPr/>
          <p:nvPr/>
        </p:nvSpPr>
        <p:spPr>
          <a:xfrm>
            <a:off x="1600200" y="44956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她</a:t>
            </a:r>
            <a:r>
              <a:rPr b="0" lang="zh-CN" sz="3200" spc="-1" strike="noStrike" u="sng">
                <a:solidFill>
                  <a:srgbClr val="eeb00b"/>
                </a:solidFill>
                <a:uFillTx/>
                <a:latin typeface="Times New Roman"/>
              </a:rPr>
              <a:t>真该呆</a:t>
            </a: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在家里而不去看那部乏味的电影的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371600" y="45720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4.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英译汉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I </a:t>
            </a:r>
            <a:r>
              <a:rPr b="0" lang="zh-CN" sz="3200" spc="-1" strike="noStrike" u="sng">
                <a:solidFill>
                  <a:srgbClr val="eaeaea"/>
                </a:solidFill>
                <a:uFillTx/>
                <a:latin typeface="Times New Roman"/>
              </a:rPr>
              <a:t>intend to have written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a letter of thanks to him, but I didn’t know his addres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2) The plane </a:t>
            </a:r>
            <a:r>
              <a:rPr b="0" lang="zh-CN" sz="3200" spc="-1" strike="noStrike" u="sng">
                <a:solidFill>
                  <a:srgbClr val="eaeaea"/>
                </a:solidFill>
                <a:uFillTx/>
                <a:latin typeface="Times New Roman"/>
              </a:rPr>
              <a:t>was to have taken off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at eight this morning,but a heavy rain poured dow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9" name="Text Box 4"/>
          <p:cNvSpPr/>
          <p:nvPr/>
        </p:nvSpPr>
        <p:spPr>
          <a:xfrm>
            <a:off x="1752480" y="21337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我</a:t>
            </a:r>
            <a:r>
              <a:rPr b="0" lang="zh-CN" sz="3200" spc="-1" strike="noStrike" u="sng">
                <a:solidFill>
                  <a:srgbClr val="eeb00b"/>
                </a:solidFill>
                <a:uFillTx/>
                <a:latin typeface="Times New Roman"/>
              </a:rPr>
              <a:t>本打算写</a:t>
            </a: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封信给他，但不知道他的地址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752480" y="44956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飞机</a:t>
            </a:r>
            <a:r>
              <a:rPr b="0" lang="zh-CN" sz="3200" spc="-1" strike="noStrike" u="sng">
                <a:solidFill>
                  <a:srgbClr val="eeb00b"/>
                </a:solidFill>
                <a:uFillTx/>
                <a:latin typeface="Times New Roman"/>
              </a:rPr>
              <a:t>本要</a:t>
            </a: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今早八点</a:t>
            </a:r>
            <a:r>
              <a:rPr b="0" lang="zh-CN" sz="3200" spc="-1" strike="noStrike" u="sng">
                <a:solidFill>
                  <a:srgbClr val="eeb00b"/>
                </a:solidFill>
                <a:uFillTx/>
                <a:latin typeface="Times New Roman"/>
              </a:rPr>
              <a:t>起飞</a:t>
            </a: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，但下起了一场倾盆大雨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23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4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64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4.If it ___________________________(rain) tomorrow,we ________________(not go out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5.______(be) I in good health, I __________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(go) with you tomorrow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i="1" lang="zh-CN" sz="3200" spc="-1" strike="noStrike">
                <a:solidFill>
                  <a:srgbClr val="eaeaea"/>
                </a:solidFill>
                <a:latin typeface="Times New Roman"/>
              </a:rPr>
              <a:t>eg. Had you told me earlier, I could have done somethin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0" i="1" lang="zh-CN" sz="3200" spc="-1" strike="noStrike">
                <a:solidFill>
                  <a:srgbClr val="eaeaea"/>
                </a:solidFill>
                <a:latin typeface="Times New Roman"/>
              </a:rPr>
              <a:t>Should anyone call, tell him to call in the afterno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2438280" y="1447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rained/should rain/were to rai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0" name="Text Box 5"/>
          <p:cNvSpPr/>
          <p:nvPr/>
        </p:nvSpPr>
        <p:spPr>
          <a:xfrm flipH="1">
            <a:off x="4038480" y="20574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should not go ou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1828800" y="3048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We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2" name="Text Box 7"/>
          <p:cNvSpPr/>
          <p:nvPr/>
        </p:nvSpPr>
        <p:spPr>
          <a:xfrm>
            <a:off x="6705720" y="297180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would g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II.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在宾语从句中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He is not a pilot, but he wishes  he______ (be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I wish I ___________(meet)him yesterda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I wish it __________(be) fine tomorrow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He ordered the work _________________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(start) at onc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.   I’d rather you _________(stay) at home all day today.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5" name="Text Box 4"/>
          <p:cNvSpPr/>
          <p:nvPr/>
        </p:nvSpPr>
        <p:spPr>
          <a:xfrm>
            <a:off x="7543800" y="1600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we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3276720" y="26668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had  me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7" name="Text Box 6"/>
          <p:cNvSpPr/>
          <p:nvPr/>
        </p:nvSpPr>
        <p:spPr>
          <a:xfrm>
            <a:off x="3276720" y="32767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would b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8" name="Text Box 7"/>
          <p:cNvSpPr/>
          <p:nvPr/>
        </p:nvSpPr>
        <p:spPr>
          <a:xfrm>
            <a:off x="5410080" y="3886200"/>
            <a:ext cx="33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9" name="Text Box 8"/>
          <p:cNvSpPr/>
          <p:nvPr/>
        </p:nvSpPr>
        <p:spPr>
          <a:xfrm>
            <a:off x="5257800" y="38098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(should ) be star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0" name="Text Box 9"/>
          <p:cNvSpPr/>
          <p:nvPr/>
        </p:nvSpPr>
        <p:spPr>
          <a:xfrm>
            <a:off x="4267080" y="5029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stay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III.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在主语从句中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1. It is 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strange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that he _____________(mak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such a mistake. That’s unexpecte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(necessary,important,impossible,natural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surprising,a pity etc.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2. It was 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required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that each student ________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(bring) enough food on the trip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(ordered,suggested,demanded,desired, etc.)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4876920" y="16002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(should)  make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7238880" y="3962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eb00b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br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IV.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在表语从句或方式状从中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1. My demand is that you _______________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(get up)at six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2. He speaks as if he ________(be) an Englishma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3. They talked as if they _____________(b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good friends for years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7" name="Text Box 4"/>
          <p:cNvSpPr/>
          <p:nvPr/>
        </p:nvSpPr>
        <p:spPr>
          <a:xfrm>
            <a:off x="5486400" y="16002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(should)    get u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4800600" y="27432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we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9" name="Text Box 6"/>
          <p:cNvSpPr/>
          <p:nvPr/>
        </p:nvSpPr>
        <p:spPr>
          <a:xfrm>
            <a:off x="5334120" y="388620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had be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V.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在同位语从句中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Presently he made the suggestion that the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________________(carry on)their conver-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sation in French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1295280" y="220968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(should) carry 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VI.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在其他句型中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Even if he _______(be) here, he couldn’t solve the problem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Without air, there __________(be) no living thing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But for your help, I __________________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(not, do) i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If only I ____________(take) his advice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but I didn’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3733920" y="1600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3657600" y="16002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we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7" name="Text Box 6"/>
          <p:cNvSpPr/>
          <p:nvPr/>
        </p:nvSpPr>
        <p:spPr>
          <a:xfrm>
            <a:off x="4952880" y="2666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8" name="Text Box 7"/>
          <p:cNvSpPr/>
          <p:nvPr/>
        </p:nvSpPr>
        <p:spPr>
          <a:xfrm>
            <a:off x="4876920" y="26668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would b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9" name="Text Box 8"/>
          <p:cNvSpPr/>
          <p:nvPr/>
        </p:nvSpPr>
        <p:spPr>
          <a:xfrm>
            <a:off x="5257800" y="37339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couldn’t have do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0" name="Text Box 9"/>
          <p:cNvSpPr/>
          <p:nvPr/>
        </p:nvSpPr>
        <p:spPr>
          <a:xfrm>
            <a:off x="3429000" y="4952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had tak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5. I was very busy yesterday, otherwise I _________________(come) to the meetin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6. Look at the clock! It’s(high) time we _______________(go) hom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1676520" y="2133720"/>
            <a:ext cx="132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4" name="Text Box 5"/>
          <p:cNvSpPr/>
          <p:nvPr/>
        </p:nvSpPr>
        <p:spPr>
          <a:xfrm>
            <a:off x="1523880" y="21337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5" name="Text Box 6"/>
          <p:cNvSpPr/>
          <p:nvPr/>
        </p:nvSpPr>
        <p:spPr>
          <a:xfrm>
            <a:off x="1600200" y="21337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would have com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6" name="Text Box 7"/>
          <p:cNvSpPr/>
          <p:nvPr/>
        </p:nvSpPr>
        <p:spPr>
          <a:xfrm>
            <a:off x="6858000" y="2666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7" name="Text Box 8"/>
          <p:cNvSpPr/>
          <p:nvPr/>
        </p:nvSpPr>
        <p:spPr>
          <a:xfrm>
            <a:off x="1600200" y="32004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went/should g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VII.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复杂句型或惯用结构中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1.If she hadn’t trained so hard, she _________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(not,be) able to run so fast toda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2.They ____________(want) to help bu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couldn’t get here in tim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3.I _______________(be going to)travel b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train but then we decided to go by ai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6934320" y="15238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wouldn’t b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2514600" y="2743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had wan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2" name="Text Box 6"/>
          <p:cNvSpPr/>
          <p:nvPr/>
        </p:nvSpPr>
        <p:spPr>
          <a:xfrm>
            <a:off x="1905120" y="38098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was going t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07:36:22Z</dcterms:created>
  <dc:creator>xyyz</dc:creator>
  <dc:description/>
  <cp:keywords/>
  <dc:language>en-US</dc:language>
  <cp:lastModifiedBy>a</cp:lastModifiedBy>
  <dcterms:modified xsi:type="dcterms:W3CDTF">2014-08-06T07:40:50Z</dcterms:modified>
  <cp:revision>11</cp:revision>
  <dc:subject/>
  <dc:title>Subjunctive Moo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