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4B2-A93B-4C6F-8BE2-41025A8A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7B5-67D5-4DC1-A649-4FFB67AC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9F1-ABA4-4248-A76B-73E1ADEA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F98-B6AE-4800-A983-9770C15E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E974-8696-4BC1-AFB0-A14906A0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CBEC-4B4E-45A8-89C4-6BC96E72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1C6D-0F8B-40AD-BB7A-B83F7AA7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CDFC-34FF-4D21-A230-622BC331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A4D4-1309-4BEE-8537-38B693CA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EF8B-29C4-4A5C-9B28-8EA59F56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9E4B-93AC-498A-BAA8-AF7FC0E0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7A7-0683-4ADB-8785-FB8B8191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9FD1-CB73-45DB-AFDE-9F2D7606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529F-2758-4919-B351-2CFAE618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2632-7D96-4582-B518-A94BA541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E73C-B1AE-49F9-8B68-7E6F42C0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A953-9D2E-4E84-A85D-A82B9162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C100C-FD1F-4605-8030-35D61BB1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B4AF-A709-4DBA-8588-E0C160B8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1F1A6-4368-4CA2-990E-34E08CD8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2795-FD02-4F4A-9FF3-E21DFCFB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A9734-26CE-4121-A290-27EDC685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2EF-F4D5-4F78-99E1-101AF5B6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4070C-924D-4634-8683-9FC76D79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3AC61-6D95-461E-9B8B-3A4EA1B6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8803-2BD4-4E15-8FBC-D627C087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EDCE2-ED09-48D6-8C1E-F7B66108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7BD61-C82B-4F05-B806-B4A24BBE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5FB2-F554-49E5-8151-CEAB0052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884E-E9E7-4DA8-89FF-7C152995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D8E-BFAA-46CA-AD8C-142B5DA2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968-8891-4AD5-A852-C536589C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926-369D-4491-8FC5-3120A58C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843-931D-4B12-969E-BFBEFC10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93B-599D-4D11-A5FD-95A15D3E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94C-7BD0-46ED-8E57-5BA0FB58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天地人和1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36A3-6467-4719-97B7-A4FBFF8447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2EC2-73DC-435E-9B9A-AA35C184EF4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1E5B-E2D4-4C1E-BA31-F020820B15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天地人和1-1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91C4-6DD2-40DE-A340-B0B06C0147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03280" y="2852640"/>
            <a:ext cx="6337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8:50:14Z</dcterms:created>
  <dc:creator>sunlilymm</dc:creator>
  <dc:description/>
  <cp:keywords/>
  <dc:language>en-US</dc:language>
  <cp:lastModifiedBy>a</cp:lastModifiedBy>
  <dcterms:modified xsi:type="dcterms:W3CDTF">2014-07-22T02:53:4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