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123-DE5C-48D9-B5B5-99A1A01C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D03-43CA-4CC7-A894-AEA70431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ED6-2DD2-4C43-B6F6-DD9049B4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1A6-3CDF-447B-A4B0-C14F7E29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2604-AF4E-4B23-B5FD-950A6855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E5C2-17A5-4FAF-91FD-16E7FEA7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C7F-0886-472C-A49E-B8B5D275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BCC-12D0-4BD2-A301-3098DC98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B7CE-7B05-467E-8ACB-751C05D5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879C-64B5-42D9-AD40-4B830838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6A1C-6D4E-4604-8231-721EA50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BB0-6092-42BC-8AC3-41A862B6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9C87-F511-415A-A12D-4C10B5B8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1DB7-6987-48C5-ABA3-B69A5475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EE54-9796-4CFE-AAEB-0C304F86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8391-02EB-41BC-9581-A3EF6873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B59C-AABD-4639-815F-8BC3B70C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A377-7A50-41A1-BCE9-79076857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E8B7-E9B0-4093-B767-EA8492B8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8D4E-2FC6-490E-95E6-EF5F6AC1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0785-D25A-4189-BC21-A428FFC6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AE5D1-87B8-4753-9C0B-85BB87E3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1D7-FC1F-4636-88F9-1F7347E1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49B2-D5D5-4240-A8AE-F8C28BDF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F752-4F7F-4E8D-A665-271BE5F9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9800-46E5-4660-BBC8-244282BF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D3A0-5ACC-4D05-AC78-70386C0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9C4D-307F-41BD-8D81-0A1DBE15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5A24-BE85-4D22-9A85-DBBC40C8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9CA2-7C6F-40BF-818A-C3B0FF49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FDD-8CDE-46BB-8D36-36E1CB0B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844-E1AD-4110-8632-386B5B83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175-7DEF-4449-92EA-BF816874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307-7B5B-413F-B7B3-24F53A9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C63-F1C0-4882-909E-CE13E378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992-FEE8-406D-BDB9-0AC0F509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天地人和4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6AA4-CFA6-46B1-BC21-C2DE3E61FD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EC69-E023-4526-ACCB-E92AD6A243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81C0-5CAB-45A6-AE6B-BF4660B55B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天地人和4-1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470D-6EE8-4123-958A-57048BCAB5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9:52:52Z</dcterms:created>
  <dc:creator>sunlilymm</dc:creator>
  <dc:description/>
  <cp:keywords/>
  <dc:language>en-US</dc:language>
  <cp:lastModifiedBy>a</cp:lastModifiedBy>
  <dcterms:modified xsi:type="dcterms:W3CDTF">2014-07-22T02:54:1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