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9.jpeg" ContentType="image/jpe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7249-6A9A-480F-AFA8-A2137CD2E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CE3E-C5DC-44E5-89BA-1086A910A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8237B7-D780-444A-BCB4-0BCAB327D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FD7F65-CC04-4458-893E-C410D7B6C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E8AEDF-BB44-4D81-ADD5-443C091E9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1ADD5A-1F31-4A8D-8B32-7D5052B44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3CE1D7-D43B-44AA-A0A8-DAA1D3DD0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57AEE6-1C40-4559-A076-4BCE47FBB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7F175C-2E5C-446D-88BA-BA56C5DA9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85D83D-8287-466B-A37B-0BCE6A1F8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71FAEC-8B52-4274-9033-885237FCF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2E6681-2E72-4B95-B188-43B4D5A78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A117-8300-4F6D-95DE-8CB9F3805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7A3800-ECFE-43C0-89C7-8C33C3ECD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8E9B8D-85E9-405B-B039-CAE7AC98D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41989D-D0B5-4847-8220-9401F0A64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05B709-0596-443D-BBF6-E197D852B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EEC7DA-3B17-446F-801F-8CE4E76E8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1B7013-A536-48A6-B858-379F4B594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3E75D2-5C70-429B-AB68-BDB4DDFF0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3378A4-92FC-4427-87BB-1B964169F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8F6EC9-3A12-4896-BFFC-60FFF28E1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AA5B60-12FB-4DF1-B21F-D72846A7D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0B63-1AFE-4511-8FED-9D620A5B7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9BFF14-5930-4D3A-8DF3-FCD2995CC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AAE228-B97C-4C7D-9E81-A20BC86B0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C1AFD0-AE67-4D0D-B59A-72206A390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413912-BD04-4600-9D90-FEE07AFCD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A8A28D-B64D-40F8-B5EE-449C96C40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43AACF-A471-4BD4-8390-69F25E87D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15873A-136D-4A5B-BC45-CB2921AB8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EF11C4-0E2A-484C-B19E-ADE305028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621EC2-E36C-4A04-98A1-6D5505931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4B9249-E68F-41E6-B96F-A28D58FF4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8AF5C-4267-4C22-9481-39BA5280C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A65B37-5B2E-4AD3-A323-C312DECFC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7B6A8C-7AB4-491F-B5AF-632A1EECD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920FC0-BE8E-4191-AB95-C82A31621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9FDB56-8E78-4B9A-AF5D-5C37DE238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BFF515-D4C5-4D46-A359-AE11F53F5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524345-1B43-42F1-B83C-CBFA83D31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4E8AD4-D221-48C7-B96A-CDDF85D40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271D13-B0E3-41D0-AA4F-60BDD8D41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6D64FC-D316-4762-B4E9-41CEDC783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80F1F6-10E5-4E18-9509-570BE684E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8337A-5535-487A-986A-31E345982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EE1AD8-4F50-41F1-86EF-BE47FDA08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94D3AA-5554-437D-87AA-BC8DEC405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D9E25A-3EE7-4E43-94C3-B54F92952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884F45-CD67-45A0-9BA1-DACEAD1C5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2967FF-F541-476C-BE62-62E44127E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853D59-97E3-4031-AB64-5707CE1FB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B1A7B6-1776-49B6-818E-C4DC043BD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C6A62B-8A2A-4F9C-8B93-8291FA53B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54F5BB-46D8-4775-8B91-D80396955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FD2E4C-F635-4FC7-8D32-6A542BDCD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35B77-161B-4464-B652-4AD1ACA44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D68AE6-1C5A-44C0-B525-740FF6EF6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0B7990-E551-4DA9-A0E5-43BC0C025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CCB95C-FC59-4678-BBD5-6E7FFBB20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7C63E3-0430-4ECE-B1C5-B3C883D5C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DBA726-10DB-445A-90F8-2ADFFBFCE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0ACC5E-68A3-4A33-97DD-6EB03BC12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F580CD-EF81-4270-B780-A632C2C39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8320F-9512-4E8C-9DD8-76D68290A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7C657-F137-4261-A31A-AFEA84DCB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A4C0B-2608-492D-AB01-D6EC6AF60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522E9-A171-4AD1-BC9F-A8A172E7B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D91E-4E50-45F1-BD7F-5E8341CFD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37EF5-6CE1-4C51-A203-3489A5921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B2E68-455B-49DD-ABA3-1B6B50E71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E6B5D-3C2E-44C7-860F-19CEA9C46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8061B-86C3-4986-9CFF-A3D2B9682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E13E9-5FDB-4C52-BACB-0DD6439FF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E6ACDE-07CC-4AAD-AE2A-743358559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DCE743-B405-43F6-AB11-70AF88811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183091-9664-433C-94DD-9E62E5698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BB2399-5045-4FBF-B515-76D59451A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1F4580-FDEC-4EF4-B093-856A08414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DA26-4789-4A25-9425-91AB7F6A8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6C2AC6-91B7-40CC-9C17-68FDEFD50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8A0CDD-E6B6-435F-B725-9EAFD559A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471BD8-8AFE-4070-8FEB-EE7EF9EDB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9361EA-1E99-4459-A876-82CA08357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1CE08F-07CD-413C-9DA2-7F7BF390B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D454DE-19EA-42EE-92D1-A2DFB51C3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D93711-C0FA-4500-AF42-9A3118EAC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D84D4B-E8AC-4727-8DC2-900424392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82D320-BCA5-4410-B311-ECD36A72F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A67A81-6A6C-448C-87B5-BE5F47FBF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EBA1-15BA-4640-A8A9-029960E21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506086-1A23-4547-A7B3-5DC2651C9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13FD19-31BD-4F84-99BD-31999BB1E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D1875B-125D-4453-AF85-4B07FF590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7AAE12-77EB-4F8B-8514-FE34E57DD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30AA28-9117-4903-8B4C-89B83708F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3BDE53-6D0E-4E19-A0D4-480A46DAC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599C10-DE49-4E64-B428-83546B6ED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C95E02-AFDB-4B73-9583-A68CC7EA5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4C778D-C676-46F8-8F97-0334923F9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7B49CA-A328-4325-9D4A-5F040FD4C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8A3E-E679-4091-A23E-198443DBC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940D3E-2AC8-4063-A7D2-74EEA8074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CB666B-390A-47BE-98A8-41C6CAEA2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2267E1-F61E-4789-91A6-62A88D406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1EA65F-80CA-416C-B1D3-41E3B468E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DAA251-8449-40E4-AB82-84D4A9E9E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703D9E-6DD5-47F8-9586-759EE1BF3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C17525-B484-480D-B76F-62D88DFD7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3D71F5-D01A-4070-BB47-A7C250181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D5A2C2-221F-4DAF-9BE8-AA916E577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53BEE9-3A69-4BCC-AF17-793785869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D846-E34A-4EE9-9989-7F7C408CE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8C7ED5-90B5-4561-BD28-4BEBE6277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7BF979-7ED7-46F4-AFC8-CEBCFEC1B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081810-794E-4250-8370-6764F128A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9579DD-BEFE-4959-ACE7-CE42F7919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9885BF-D379-4A1E-966D-19D82CE9F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8926AF-F443-4F84-AE51-82D8F31EF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961A06-B8C6-4E32-865A-D26CB2EE2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80266C-7EAE-47A7-A572-75CE9FBDB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581C75-F7FA-4DF5-B948-B1D76A622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F166D8-18C8-4E2D-B9DC-F5A3005C8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2324-B6B1-48CD-A1BF-3594ECA4F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F3FCDD-6052-4A6F-AE07-2115A3CC8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403EDA-1008-411E-83DD-C00BDB127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71C38B-E25A-4294-B533-B674CDE22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F002C9-985C-40B7-BF68-529FD64EA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933091-33CA-4A27-B0D4-B71078C03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ECBFE9-5518-4408-9AE7-4CEA941E7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2B15A5-CA3D-4A33-91F7-C463B809A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4D6D94-12C2-4019-A65B-AC42178DF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94F6F8-9216-454B-B71E-AC1667BAE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E4AEDA-ECEF-4041-92E7-B50FE9892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1EF8-C045-4D47-9656-4D004BDB1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25DBA5-2698-4055-9525-12D22CA2B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3261E3-41CA-475C-9C7B-5EF21D6A2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B1FB8C-3B5C-407C-B237-F3342108D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087863-F366-4967-BDC9-40C0CB2B1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EF0DF6-0737-4ED1-95EA-B43578467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C020FB-764D-485A-96CA-E8B4041AE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F51ACC-BB39-47C0-BAF7-16D012EDB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59382C-36FF-4635-8153-2D465AD2F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EC78DD-F6D4-4876-8AA7-D918C7256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512F54-13E8-4097-BCF9-509539EC9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D662-921D-468C-AF6C-FE9E60F0F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2EC115-F448-4FE2-BE3A-D203048F0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1AE23C-C3D0-4FB6-B101-D0EB99033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7A88F2-F379-47EC-9E11-22A1850BF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96F5E6-20C6-4228-A0CA-A50294844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71F3F0-8470-4501-BA46-423AE59AD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B036E4-0B00-4B2E-B0CF-3D4E4FB80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E113C2-1532-48B2-AA68-573877E34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781AE6-4066-4A6D-9153-CED4A7ABD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31EC75-D513-4DCF-AA16-F4C0866F2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19143E-25CB-4BA9-A23D-5491A72AF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786A3-0630-44C5-8E0D-A43691A6C145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A3880-69A3-4296-B367-5F94776107E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52F27-8C3D-42CC-890F-D9EE5B1F910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72380-A702-44C9-BA53-665B9EF33F67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A6C5B-7E6E-4ACE-ADDD-DFBDE443690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99D30-1C6D-4C9B-9504-EA0FFFE6AB2C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46E25-97CB-4D07-8D73-21303C0DE18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89167-9BB4-4E74-AD33-488E3E42644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1C201-37B2-4D22-B842-25AA941F9EC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FBDF5-E66F-4475-83ED-76751DD009D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DCD82-859F-430C-AABE-A6AEF50B3EF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0AE1C-FA4E-450D-A868-F6F742917B5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4A141-2899-4AA7-80F4-E7A7581E299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88BA2-631A-4666-80B5-9770729B746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210ED-8971-4750-A452-A0CDB22E710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E55CF-E13C-40DD-9F18-B25489CB60B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9DAEB-44DC-4F17-9D72-13B2F008206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69A03-18A7-44AA-989E-34948739421E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A2293-A9F2-4B2F-9767-D76A604446B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D568D-888E-444F-BBC5-F9B609ACBC6E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28710-77BA-45CC-AA89-BBEFE9DD1D6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8732E-201D-456E-A5EB-C56F818C52AD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475CA-3146-481C-A173-951FDE5F6AD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69CE1-7370-4651-B84F-44FBBDF24B1C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2BF21-57CF-4598-A1F7-566F080B3C0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9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3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2" descr="标题框-3"/>
          <p:cNvPicPr/>
          <p:nvPr/>
        </p:nvPicPr>
        <p:blipFill>
          <a:blip r:embed="rId2">
            <a:lum bright="-24000"/>
          </a:blip>
          <a:stretch/>
        </p:blipFill>
        <p:spPr>
          <a:xfrm>
            <a:off x="3279600" y="2347920"/>
            <a:ext cx="1508400" cy="144144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3" descr="标题框-3"/>
          <p:cNvPicPr/>
          <p:nvPr/>
        </p:nvPicPr>
        <p:blipFill>
          <a:blip r:embed="rId3">
            <a:lum bright="-24000"/>
          </a:blip>
          <a:stretch/>
        </p:blipFill>
        <p:spPr>
          <a:xfrm>
            <a:off x="7604280" y="2637000"/>
            <a:ext cx="1506240" cy="1439640"/>
          </a:xfrm>
          <a:prstGeom prst="rect">
            <a:avLst/>
          </a:prstGeom>
          <a:ln w="0">
            <a:noFill/>
          </a:ln>
        </p:spPr>
      </p:pic>
      <p:sp>
        <p:nvSpPr>
          <p:cNvPr id="535" name="Text Box 4"/>
          <p:cNvSpPr/>
          <p:nvPr/>
        </p:nvSpPr>
        <p:spPr>
          <a:xfrm>
            <a:off x="3924360" y="2708280"/>
            <a:ext cx="4394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c80000"/>
                </a:solidFill>
                <a:latin typeface="黑体"/>
                <a:ea typeface="黑体"/>
              </a:rPr>
              <a:t>中国结•</a:t>
            </a:r>
            <a:r>
              <a:rPr b="0" lang="zh-CN" sz="4800" spc="-1" strike="noStrike">
                <a:solidFill>
                  <a:srgbClr val="c80000"/>
                </a:solidFill>
                <a:latin typeface="黑体"/>
                <a:ea typeface="黑体"/>
              </a:rPr>
              <a:t>系列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5" descr="中国红-3"/>
          <p:cNvPicPr/>
          <p:nvPr/>
        </p:nvPicPr>
        <p:blipFill>
          <a:blip r:embed="rId4">
            <a:lum bright="-24000"/>
          </a:blip>
          <a:srcRect l="40149" t="31914" r="39348" b="33559"/>
          <a:stretch/>
        </p:blipFill>
        <p:spPr>
          <a:xfrm>
            <a:off x="34920" y="1414440"/>
            <a:ext cx="3044880" cy="345924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6" descr="云纹-8"/>
          <p:cNvPicPr/>
          <p:nvPr/>
        </p:nvPicPr>
        <p:blipFill>
          <a:blip r:embed="rId5">
            <a:lum bright="-12000"/>
          </a:blip>
          <a:srcRect l="0" t="48218" r="16203" b="28419"/>
          <a:stretch/>
        </p:blipFill>
        <p:spPr>
          <a:xfrm>
            <a:off x="2560680" y="5884920"/>
            <a:ext cx="6592680" cy="100152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7" descr="云纹-8"/>
          <p:cNvPicPr/>
          <p:nvPr/>
        </p:nvPicPr>
        <p:blipFill>
          <a:blip r:embed="rId6">
            <a:lum bright="-12000"/>
          </a:blip>
          <a:srcRect l="0" t="28418" r="16205" b="48221"/>
          <a:stretch/>
        </p:blipFill>
        <p:spPr>
          <a:xfrm>
            <a:off x="-247680" y="-22320"/>
            <a:ext cx="6585120" cy="9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1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622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23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4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Picture 2" descr="中国红-3"/>
          <p:cNvPicPr/>
          <p:nvPr/>
        </p:nvPicPr>
        <p:blipFill>
          <a:blip r:embed="rId2">
            <a:lum bright="-24000"/>
          </a:blip>
          <a:srcRect l="49907" t="31914" r="36904" b="33559"/>
          <a:stretch/>
        </p:blipFill>
        <p:spPr>
          <a:xfrm>
            <a:off x="0" y="1415880"/>
            <a:ext cx="2000160" cy="346104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3" descr="中国红-3"/>
          <p:cNvPicPr/>
          <p:nvPr/>
        </p:nvPicPr>
        <p:blipFill>
          <a:blip r:embed="rId3">
            <a:lum bright="-24000"/>
          </a:blip>
          <a:srcRect l="40149" t="31914" r="49842" b="33559"/>
          <a:stretch/>
        </p:blipFill>
        <p:spPr>
          <a:xfrm>
            <a:off x="7661160" y="1415880"/>
            <a:ext cx="1521000" cy="3459240"/>
          </a:xfrm>
          <a:prstGeom prst="rect">
            <a:avLst/>
          </a:prstGeom>
          <a:ln w="0">
            <a:noFill/>
          </a:ln>
        </p:spPr>
      </p:pic>
      <p:sp>
        <p:nvSpPr>
          <p:cNvPr id="541" name="Text Box 4"/>
          <p:cNvSpPr/>
          <p:nvPr/>
        </p:nvSpPr>
        <p:spPr>
          <a:xfrm>
            <a:off x="3276720" y="69228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80000"/>
                </a:solidFill>
                <a:latin typeface="Arial"/>
                <a:ea typeface="黑体"/>
              </a:rPr>
              <a:t>情系中国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5"/>
          <p:cNvSpPr/>
          <p:nvPr/>
        </p:nvSpPr>
        <p:spPr>
          <a:xfrm>
            <a:off x="3059280" y="220356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80000"/>
                </a:solidFill>
                <a:latin typeface="Arial"/>
              </a:rPr>
              <a:t>方胜结 • 一路平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6"/>
          <p:cNvSpPr/>
          <p:nvPr/>
        </p:nvSpPr>
        <p:spPr>
          <a:xfrm>
            <a:off x="3059280" y="275436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80000"/>
                </a:solidFill>
                <a:latin typeface="Arial"/>
              </a:rPr>
              <a:t>双蝶结 • 比翼双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7"/>
          <p:cNvSpPr/>
          <p:nvPr/>
        </p:nvSpPr>
        <p:spPr>
          <a:xfrm>
            <a:off x="3060720" y="3284640"/>
            <a:ext cx="27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80000"/>
                </a:solidFill>
                <a:latin typeface="Arial"/>
              </a:rPr>
              <a:t>如意结 • 吉祥如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8"/>
          <p:cNvSpPr/>
          <p:nvPr/>
        </p:nvSpPr>
        <p:spPr>
          <a:xfrm>
            <a:off x="3059280" y="3835440"/>
            <a:ext cx="27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80000"/>
                </a:solidFill>
                <a:latin typeface="Arial"/>
              </a:rPr>
              <a:t>团锦结 • 前程似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9"/>
          <p:cNvSpPr/>
          <p:nvPr/>
        </p:nvSpPr>
        <p:spPr>
          <a:xfrm>
            <a:off x="3059280" y="4413240"/>
            <a:ext cx="27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80000"/>
                </a:solidFill>
                <a:latin typeface="Arial"/>
              </a:rPr>
              <a:t>祥云结 • 祥云绵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7" name="Picture 10" descr="标题框-2"/>
          <p:cNvPicPr/>
          <p:nvPr/>
        </p:nvPicPr>
        <p:blipFill>
          <a:blip r:embed="rId4">
            <a:lum bright="-18000"/>
          </a:blip>
          <a:srcRect l="0" t="0" r="-35411" b="-8595"/>
          <a:stretch/>
        </p:blipFill>
        <p:spPr>
          <a:xfrm>
            <a:off x="2676600" y="1565280"/>
            <a:ext cx="1101600" cy="92700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11" descr="标题框-2"/>
          <p:cNvPicPr/>
          <p:nvPr/>
        </p:nvPicPr>
        <p:blipFill>
          <a:blip r:embed="rId5">
            <a:lum bright="-18000"/>
          </a:blip>
          <a:srcRect l="-40560" t="-14852" r="0" b="0"/>
          <a:stretch/>
        </p:blipFill>
        <p:spPr>
          <a:xfrm>
            <a:off x="4861080" y="4683240"/>
            <a:ext cx="1144440" cy="97920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12" descr="标题框-1"/>
          <p:cNvPicPr/>
          <p:nvPr/>
        </p:nvPicPr>
        <p:blipFill>
          <a:blip r:embed="rId6">
            <a:lum bright="-18000"/>
          </a:blip>
          <a:srcRect l="0" t="0" r="0" b="41108"/>
          <a:stretch/>
        </p:blipFill>
        <p:spPr>
          <a:xfrm>
            <a:off x="2986200" y="662040"/>
            <a:ext cx="865080" cy="53352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13" descr="标题框-1"/>
          <p:cNvPicPr/>
          <p:nvPr/>
        </p:nvPicPr>
        <p:blipFill>
          <a:blip r:embed="rId7">
            <a:lum bright="-18000"/>
          </a:blip>
          <a:srcRect l="0" t="41108" r="0" b="0"/>
          <a:stretch/>
        </p:blipFill>
        <p:spPr>
          <a:xfrm>
            <a:off x="4861080" y="835200"/>
            <a:ext cx="865080" cy="53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Picture 2" descr="方胜结-1"/>
          <p:cNvPicPr/>
          <p:nvPr/>
        </p:nvPicPr>
        <p:blipFill>
          <a:blip r:embed="rId2">
            <a:lum bright="-18000"/>
          </a:blip>
          <a:srcRect l="35024" t="11319" r="35488" b="17307"/>
          <a:stretch/>
        </p:blipFill>
        <p:spPr>
          <a:xfrm>
            <a:off x="957240" y="2003400"/>
            <a:ext cx="2030400" cy="3238560"/>
          </a:xfrm>
          <a:prstGeom prst="rect">
            <a:avLst/>
          </a:prstGeom>
          <a:ln w="0">
            <a:noFill/>
          </a:ln>
        </p:spPr>
      </p:pic>
      <p:sp>
        <p:nvSpPr>
          <p:cNvPr id="552" name="Text Box 3"/>
          <p:cNvSpPr/>
          <p:nvPr/>
        </p:nvSpPr>
        <p:spPr>
          <a:xfrm>
            <a:off x="3492360" y="270828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80000"/>
                </a:solidFill>
                <a:latin typeface="Arial"/>
              </a:rPr>
              <a:t>方胜结 • 一路平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Picture 4" descr="标题框-1"/>
          <p:cNvPicPr/>
          <p:nvPr/>
        </p:nvPicPr>
        <p:blipFill>
          <a:blip r:embed="rId3">
            <a:lum bright="-18000"/>
          </a:blip>
          <a:stretch/>
        </p:blipFill>
        <p:spPr>
          <a:xfrm>
            <a:off x="3276720" y="2600280"/>
            <a:ext cx="717480" cy="75240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5" descr="标题框-1"/>
          <p:cNvPicPr/>
          <p:nvPr/>
        </p:nvPicPr>
        <p:blipFill>
          <a:blip r:embed="rId4">
            <a:lum bright="-18000"/>
          </a:blip>
          <a:stretch/>
        </p:blipFill>
        <p:spPr>
          <a:xfrm>
            <a:off x="6807240" y="2781360"/>
            <a:ext cx="717480" cy="75240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6" descr="云纹-2"/>
          <p:cNvPicPr/>
          <p:nvPr/>
        </p:nvPicPr>
        <p:blipFill>
          <a:blip r:embed="rId5"/>
          <a:stretch/>
        </p:blipFill>
        <p:spPr>
          <a:xfrm>
            <a:off x="7404120" y="1916280"/>
            <a:ext cx="1130400" cy="5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0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Text Box 2"/>
          <p:cNvSpPr/>
          <p:nvPr/>
        </p:nvSpPr>
        <p:spPr>
          <a:xfrm>
            <a:off x="3492360" y="270828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80000"/>
                </a:solidFill>
                <a:latin typeface="Arial"/>
              </a:rPr>
              <a:t>团锦结 • 前程似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7" name="Picture 3" descr="标题框-1"/>
          <p:cNvPicPr/>
          <p:nvPr/>
        </p:nvPicPr>
        <p:blipFill>
          <a:blip r:embed="rId2">
            <a:lum bright="-18000"/>
          </a:blip>
          <a:stretch/>
        </p:blipFill>
        <p:spPr>
          <a:xfrm>
            <a:off x="3276720" y="2600280"/>
            <a:ext cx="717480" cy="75240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4" descr="标题框-1"/>
          <p:cNvPicPr/>
          <p:nvPr/>
        </p:nvPicPr>
        <p:blipFill>
          <a:blip r:embed="rId3">
            <a:lum bright="-18000"/>
          </a:blip>
          <a:stretch/>
        </p:blipFill>
        <p:spPr>
          <a:xfrm>
            <a:off x="6807240" y="2781360"/>
            <a:ext cx="717480" cy="75240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5" descr="团锦结"/>
          <p:cNvPicPr/>
          <p:nvPr/>
        </p:nvPicPr>
        <p:blipFill>
          <a:blip r:embed="rId4">
            <a:lum bright="-18000"/>
          </a:blip>
          <a:srcRect l="17582" t="18814" r="20111" b="10908"/>
          <a:stretch/>
        </p:blipFill>
        <p:spPr>
          <a:xfrm>
            <a:off x="936720" y="1436760"/>
            <a:ext cx="2266920" cy="3833640"/>
          </a:xfrm>
          <a:prstGeom prst="rect">
            <a:avLst/>
          </a:prstGeom>
          <a:ln w="0">
            <a:noFill/>
          </a:ln>
        </p:spPr>
      </p:pic>
      <p:pic>
        <p:nvPicPr>
          <p:cNvPr id="560" name="Picture 6" descr="云纹-2"/>
          <p:cNvPicPr/>
          <p:nvPr/>
        </p:nvPicPr>
        <p:blipFill>
          <a:blip r:embed="rId5"/>
          <a:stretch/>
        </p:blipFill>
        <p:spPr>
          <a:xfrm>
            <a:off x="7404120" y="1916280"/>
            <a:ext cx="1130400" cy="5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0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3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2"/>
          <p:cNvSpPr/>
          <p:nvPr/>
        </p:nvSpPr>
        <p:spPr>
          <a:xfrm>
            <a:off x="-31680" y="547560"/>
            <a:ext cx="9285120" cy="1119240"/>
          </a:xfrm>
          <a:prstGeom prst="rect">
            <a:avLst/>
          </a:prstGeom>
          <a:solidFill>
            <a:srgbClr val="c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3"/>
          <p:cNvSpPr/>
          <p:nvPr/>
        </p:nvSpPr>
        <p:spPr>
          <a:xfrm>
            <a:off x="-174600" y="187200"/>
            <a:ext cx="9428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4"/>
          <p:cNvSpPr/>
          <p:nvPr/>
        </p:nvSpPr>
        <p:spPr>
          <a:xfrm>
            <a:off x="3443400" y="720720"/>
            <a:ext cx="5234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600"/>
                </a:solidFill>
                <a:latin typeface="Arial"/>
                <a:ea typeface="黑体"/>
              </a:rPr>
              <a:t>中有千千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5"/>
          <p:cNvSpPr/>
          <p:nvPr/>
        </p:nvSpPr>
        <p:spPr>
          <a:xfrm>
            <a:off x="901800" y="2565360"/>
            <a:ext cx="7488000" cy="270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80808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结绳记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08080"/>
                </a:solidFill>
                <a:latin typeface="宋体"/>
              </a:rPr>
              <a:t>    </a:t>
            </a:r>
            <a:r>
              <a:rPr b="0" lang="zh-CN" sz="1600" spc="-1" strike="noStrike">
                <a:solidFill>
                  <a:srgbClr val="808080"/>
                </a:solidFill>
                <a:latin typeface="宋体"/>
              </a:rPr>
              <a:t>--</a:t>
            </a:r>
            <a:r>
              <a:rPr b="0" lang="zh-CN" sz="1600" spc="-1" strike="noStrike">
                <a:solidFill>
                  <a:srgbClr val="808080"/>
                </a:solidFill>
                <a:latin typeface="宋体"/>
              </a:rPr>
              <a:t>据《易</a:t>
            </a:r>
            <a:r>
              <a:rPr b="0" lang="zh-CN" sz="1600" spc="-1" strike="noStrike">
                <a:solidFill>
                  <a:srgbClr val="808080"/>
                </a:solidFill>
                <a:latin typeface="宋体"/>
              </a:rPr>
              <a:t>·</a:t>
            </a:r>
            <a:r>
              <a:rPr b="0" lang="zh-CN" sz="1600" spc="-1" strike="noStrike">
                <a:solidFill>
                  <a:srgbClr val="808080"/>
                </a:solidFill>
                <a:latin typeface="宋体"/>
              </a:rPr>
              <a:t>系辞》载：“上古结绳而治，后世圣人易之以书目契。”可见在远古 的华夏土地，“结”被先民们赋予了“契”和“约”的法律表意功能，同时还有记载历史事件的作用，“结”因此备受人们的尊重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80808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08080"/>
                </a:solidFill>
                <a:latin typeface="宋体"/>
              </a:rPr>
              <a:t>  </a:t>
            </a:r>
            <a:r>
              <a:rPr b="0" lang="zh-CN" sz="1600" spc="-1" strike="noStrike">
                <a:solidFill>
                  <a:srgbClr val="808080"/>
                </a:solidFill>
                <a:latin typeface="宋体"/>
              </a:rPr>
              <a:t>服饰之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08080"/>
                </a:solidFill>
                <a:latin typeface="宋体"/>
              </a:rPr>
              <a:t>    </a:t>
            </a:r>
            <a:r>
              <a:rPr b="0" lang="zh-CN" sz="1600" spc="-1" strike="noStrike">
                <a:solidFill>
                  <a:srgbClr val="808080"/>
                </a:solidFill>
                <a:latin typeface="宋体"/>
              </a:rPr>
              <a:t>--</a:t>
            </a:r>
            <a:r>
              <a:rPr b="0" lang="zh-CN" sz="1600" spc="-1" strike="noStrike">
                <a:solidFill>
                  <a:srgbClr val="808080"/>
                </a:solidFill>
                <a:latin typeface="宋体"/>
              </a:rPr>
              <a:t>从先民用绳结盘曲成“</a:t>
            </a:r>
            <a:r>
              <a:rPr b="0" lang="zh-CN" sz="1600" spc="-1" strike="noStrike">
                <a:solidFill>
                  <a:srgbClr val="808080"/>
                </a:solidFill>
                <a:latin typeface="宋体"/>
              </a:rPr>
              <a:t>S”</a:t>
            </a:r>
            <a:r>
              <a:rPr b="0" lang="zh-CN" sz="1600" spc="-1" strike="noStrike">
                <a:solidFill>
                  <a:srgbClr val="808080"/>
                </a:solidFill>
                <a:latin typeface="宋体"/>
              </a:rPr>
              <a:t>形饰于腰间始，历经了周的“绶带”，南北朝的“腰间双绮带，梦为同心结”到盛唐的“披帛结绶”、宋的“玉环绶”直至明清旗袍上的“盘扣”及传世的荷包（香囊）、玉 佩、扇坠、发簪等无不显示了“结”在中国传统服饰中被应用的历时之久、包罗之广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80808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08080"/>
                </a:solidFill>
                <a:latin typeface="宋体"/>
              </a:rPr>
              <a:t>神灵之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08080"/>
                </a:solidFill>
                <a:latin typeface="宋体"/>
              </a:rPr>
              <a:t>    </a:t>
            </a:r>
            <a:r>
              <a:rPr b="0" lang="zh-CN" sz="1600" spc="-1" strike="noStrike">
                <a:solidFill>
                  <a:srgbClr val="808080"/>
                </a:solidFill>
                <a:latin typeface="宋体"/>
              </a:rPr>
              <a:t>--</a:t>
            </a:r>
            <a:r>
              <a:rPr b="0" lang="zh-CN" sz="1600" spc="-1" strike="noStrike">
                <a:solidFill>
                  <a:srgbClr val="808080"/>
                </a:solidFill>
                <a:latin typeface="宋体"/>
              </a:rPr>
              <a:t>中国结中还有一类被认为是通神灵的法物，可达到驱邪避灾、镇凶纳吉、却阴护阳等功效，如“吉祥结”、“盘长结”等，这类“结”作为凝聚着神秘宗教观念的护身符，在民间得以广泛的应用，并形成一定的传承机制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6"/>
          <p:cNvSpPr/>
          <p:nvPr/>
        </p:nvSpPr>
        <p:spPr>
          <a:xfrm flipV="1">
            <a:off x="9264600" y="1628280"/>
            <a:ext cx="17997480" cy="540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7"/>
          <p:cNvSpPr/>
          <p:nvPr/>
        </p:nvSpPr>
        <p:spPr>
          <a:xfrm flipV="1">
            <a:off x="-18111960" y="493200"/>
            <a:ext cx="17908920" cy="540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7" name="Group 8"/>
          <p:cNvGrpSpPr/>
          <p:nvPr/>
        </p:nvGrpSpPr>
        <p:grpSpPr>
          <a:xfrm>
            <a:off x="519120" y="42840"/>
            <a:ext cx="2755800" cy="2276640"/>
            <a:chOff x="519120" y="42840"/>
            <a:chExt cx="2755800" cy="2276640"/>
          </a:xfrm>
        </p:grpSpPr>
        <p:sp>
          <p:nvSpPr>
            <p:cNvPr id="568" name="Oval 9"/>
            <p:cNvSpPr/>
            <p:nvPr/>
          </p:nvSpPr>
          <p:spPr>
            <a:xfrm>
              <a:off x="735480" y="115200"/>
              <a:ext cx="2123280" cy="212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9" name="Picture 10" descr="中国红-5"/>
            <p:cNvPicPr/>
            <p:nvPr/>
          </p:nvPicPr>
          <p:blipFill>
            <a:blip r:embed="rId2"/>
            <a:srcRect l="12127" t="28222" r="47997" b="38594"/>
            <a:stretch/>
          </p:blipFill>
          <p:spPr>
            <a:xfrm>
              <a:off x="519120" y="42840"/>
              <a:ext cx="2755800" cy="2276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2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2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2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2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5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2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3" dur="1000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998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7" dur="1000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998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2"/>
          <p:cNvSpPr/>
          <p:nvPr/>
        </p:nvSpPr>
        <p:spPr>
          <a:xfrm>
            <a:off x="898560" y="-20520"/>
            <a:ext cx="1081080" cy="6910200"/>
          </a:xfrm>
          <a:prstGeom prst="rect">
            <a:avLst/>
          </a:prstGeom>
          <a:solidFill>
            <a:srgbClr val="c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3"/>
          <p:cNvSpPr/>
          <p:nvPr/>
        </p:nvSpPr>
        <p:spPr>
          <a:xfrm rot="5400000">
            <a:off x="-177480" y="191880"/>
            <a:ext cx="94280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4"/>
          <p:cNvSpPr/>
          <p:nvPr/>
        </p:nvSpPr>
        <p:spPr>
          <a:xfrm>
            <a:off x="3132000" y="990720"/>
            <a:ext cx="5619960" cy="22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80808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文字的前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08080"/>
                </a:solidFill>
                <a:latin typeface="宋体"/>
              </a:rPr>
              <a:t>    </a:t>
            </a:r>
            <a:r>
              <a:rPr b="0" lang="zh-CN" sz="1600" spc="-1" strike="noStrike">
                <a:solidFill>
                  <a:srgbClr val="808080"/>
                </a:solidFill>
                <a:latin typeface="宋体"/>
              </a:rPr>
              <a:t>--</a:t>
            </a:r>
            <a:r>
              <a:rPr b="0" lang="zh-CN" sz="1600" spc="-1" strike="noStrike">
                <a:solidFill>
                  <a:srgbClr val="808080"/>
                </a:solidFill>
                <a:latin typeface="宋体"/>
              </a:rPr>
              <a:t>易系辞载：上古结绳记事，后世圣人易之以书契。而和郑玄周易又注称；大事大结其绳，小事小结其绳。而在战国铜器上所见的数字符号上都还留有结绳的形状，由这些历史资料来看，绳结确实曾被用作辅助记忆的工具，也可说是文字的前身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80808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08080"/>
                </a:solidFill>
                <a:latin typeface="宋体"/>
              </a:rPr>
              <a:t>  </a:t>
            </a:r>
            <a:r>
              <a:rPr b="0" lang="zh-CN" sz="1600" spc="-1" strike="noStrike">
                <a:solidFill>
                  <a:srgbClr val="808080"/>
                </a:solidFill>
                <a:latin typeface="宋体"/>
              </a:rPr>
              <a:t>穿着的习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08080"/>
                </a:solidFill>
                <a:latin typeface="宋体"/>
              </a:rPr>
              <a:t>    </a:t>
            </a:r>
            <a:r>
              <a:rPr b="0" lang="zh-CN" sz="1600" spc="-1" strike="noStrike">
                <a:solidFill>
                  <a:srgbClr val="808080"/>
                </a:solidFill>
                <a:latin typeface="宋体"/>
              </a:rPr>
              <a:t>--</a:t>
            </a:r>
            <a:r>
              <a:rPr b="0" lang="zh-CN" sz="1600" spc="-1" strike="noStrike">
                <a:solidFill>
                  <a:srgbClr val="808080"/>
                </a:solidFill>
                <a:latin typeface="宋体"/>
              </a:rPr>
              <a:t>最早的衣服没有今天的钮扣，拉链等配件，所以若想把衣服系牢，就只能借助将衣带打结这个方法。中国人一向有佩玉的习惯，历代的玉佩形制如玉璜，玉珑，玉□等。在其上都钻有小圆孔，以便于穿过 线绳，将这些玉佩系在衣服上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80808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08080"/>
                </a:solidFill>
                <a:latin typeface="宋体"/>
              </a:rPr>
              <a:t>近代：结绳艺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08080"/>
                </a:solidFill>
                <a:latin typeface="宋体"/>
              </a:rPr>
              <a:t>    </a:t>
            </a:r>
            <a:r>
              <a:rPr b="0" lang="zh-CN" sz="1600" spc="-1" strike="noStrike">
                <a:solidFill>
                  <a:srgbClr val="808080"/>
                </a:solidFill>
                <a:latin typeface="宋体"/>
              </a:rPr>
              <a:t>--</a:t>
            </a:r>
            <a:r>
              <a:rPr b="0" lang="zh-CN" sz="1600" spc="-1" strike="noStrike">
                <a:solidFill>
                  <a:srgbClr val="808080"/>
                </a:solidFill>
                <a:latin typeface="宋体"/>
              </a:rPr>
              <a:t>到了清代，绳结发展至非常高妙的水准，式样既多，名称也巧，简直就把中国结这种优美的装饰品当成艺术品一般来讲究。在曹雪芹著的红楼第三十五回「白玉钏亲尝莲叶羹，黄金莺巧结梅花络」中，有一段描述宝玉与莺儿商 谈编结络子（络子就是结子的应用之一）的对白，就说明了当时结子的用途，饰物与结子颜巴的调配，以及结子的式样名称等等的问题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5"/>
          <p:cNvSpPr/>
          <p:nvPr/>
        </p:nvSpPr>
        <p:spPr>
          <a:xfrm>
            <a:off x="555840" y="2708280"/>
            <a:ext cx="127764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e600"/>
                </a:solidFill>
                <a:latin typeface="Arial"/>
              </a:rPr>
              <a:t>历史为骨</a:t>
            </a:r>
            <a:r>
              <a:rPr b="0" lang="zh-CN" sz="3600" spc="-1" strike="noStrike">
                <a:solidFill>
                  <a:srgbClr val="ffe6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ffe600"/>
                </a:solidFill>
                <a:latin typeface="Arial"/>
              </a:rPr>
              <a:t>艺术为翼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6"/>
          <p:cNvSpPr/>
          <p:nvPr/>
        </p:nvSpPr>
        <p:spPr>
          <a:xfrm flipH="1">
            <a:off x="861840" y="6894360"/>
            <a:ext cx="54000" cy="14398920"/>
          </a:xfrm>
          <a:prstGeom prst="rect">
            <a:avLst/>
          </a:prstGeom>
          <a:gradFill rotWithShape="0">
            <a:gsLst>
              <a:gs pos="0">
                <a:srgbClr val="ffe600"/>
              </a:gs>
              <a:gs pos="50000">
                <a:srgbClr val="ffffff"/>
              </a:gs>
              <a:gs pos="100000">
                <a:srgbClr val="ffe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7"/>
          <p:cNvSpPr/>
          <p:nvPr/>
        </p:nvSpPr>
        <p:spPr>
          <a:xfrm flipH="1">
            <a:off x="1977480" y="-14500080"/>
            <a:ext cx="53640" cy="14398560"/>
          </a:xfrm>
          <a:prstGeom prst="rect">
            <a:avLst/>
          </a:prstGeom>
          <a:gradFill rotWithShape="0">
            <a:gsLst>
              <a:gs pos="0">
                <a:srgbClr val="ffe600"/>
              </a:gs>
              <a:gs pos="50000">
                <a:srgbClr val="ffffff"/>
              </a:gs>
              <a:gs pos="100000">
                <a:srgbClr val="ffe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6" name="Group 8"/>
          <p:cNvGrpSpPr/>
          <p:nvPr/>
        </p:nvGrpSpPr>
        <p:grpSpPr>
          <a:xfrm>
            <a:off x="158760" y="431640"/>
            <a:ext cx="2755800" cy="2276640"/>
            <a:chOff x="158760" y="431640"/>
            <a:chExt cx="2755800" cy="2276640"/>
          </a:xfrm>
        </p:grpSpPr>
        <p:sp>
          <p:nvSpPr>
            <p:cNvPr id="577" name="Oval 9"/>
            <p:cNvSpPr/>
            <p:nvPr/>
          </p:nvSpPr>
          <p:spPr>
            <a:xfrm>
              <a:off x="394920" y="547560"/>
              <a:ext cx="2123640" cy="2018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8" name="Picture 10" descr="中国红-5"/>
            <p:cNvPicPr/>
            <p:nvPr/>
          </p:nvPicPr>
          <p:blipFill>
            <a:blip r:embed="rId2"/>
            <a:srcRect l="12127" t="28222" r="47997" b="38594"/>
            <a:stretch/>
          </p:blipFill>
          <p:spPr>
            <a:xfrm>
              <a:off x="158760" y="431640"/>
              <a:ext cx="2755800" cy="2276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2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2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2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2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9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2" nodeType="after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3" dur="1000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1000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998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7" dur="1000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1000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998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Picture 2" descr="中国红-3"/>
          <p:cNvPicPr/>
          <p:nvPr/>
        </p:nvPicPr>
        <p:blipFill>
          <a:blip r:embed="rId2">
            <a:lum bright="-24000"/>
          </a:blip>
          <a:srcRect l="40149" t="31914" r="36904" b="33559"/>
          <a:stretch/>
        </p:blipFill>
        <p:spPr>
          <a:xfrm>
            <a:off x="3274920" y="-236520"/>
            <a:ext cx="2686320" cy="2658960"/>
          </a:xfrm>
          <a:prstGeom prst="rect">
            <a:avLst/>
          </a:prstGeom>
          <a:ln w="0">
            <a:noFill/>
          </a:ln>
        </p:spPr>
      </p:pic>
      <p:sp>
        <p:nvSpPr>
          <p:cNvPr id="580" name="Rectangle 3"/>
          <p:cNvSpPr/>
          <p:nvPr/>
        </p:nvSpPr>
        <p:spPr>
          <a:xfrm>
            <a:off x="3851280" y="2565360"/>
            <a:ext cx="1297080" cy="4033800"/>
          </a:xfrm>
          <a:prstGeom prst="rect">
            <a:avLst/>
          </a:prstGeom>
          <a:solidFill>
            <a:srgbClr val="c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4"/>
          <p:cNvSpPr/>
          <p:nvPr/>
        </p:nvSpPr>
        <p:spPr>
          <a:xfrm>
            <a:off x="3482640" y="2928960"/>
            <a:ext cx="1521000" cy="30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e600"/>
                </a:solidFill>
                <a:latin typeface="Arial"/>
              </a:rPr>
              <a:t>谢谢聆听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0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2" name="Picture 2" descr="标题框-1"/>
          <p:cNvPicPr/>
          <p:nvPr/>
        </p:nvPicPr>
        <p:blipFill>
          <a:blip r:embed="rId2">
            <a:lum bright="-18000"/>
          </a:blip>
          <a:stretch/>
        </p:blipFill>
        <p:spPr>
          <a:xfrm>
            <a:off x="5194440" y="741240"/>
            <a:ext cx="1466640" cy="153540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3" descr="标题框-1"/>
          <p:cNvPicPr/>
          <p:nvPr/>
        </p:nvPicPr>
        <p:blipFill>
          <a:blip r:embed="rId3">
            <a:lum bright="-18000"/>
          </a:blip>
          <a:stretch/>
        </p:blipFill>
        <p:spPr>
          <a:xfrm>
            <a:off x="7021440" y="5064120"/>
            <a:ext cx="1468440" cy="153360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4" descr="标题框-4"/>
          <p:cNvPicPr/>
          <p:nvPr/>
        </p:nvPicPr>
        <p:blipFill>
          <a:blip r:embed="rId4">
            <a:lum bright="-12000"/>
          </a:blip>
          <a:srcRect l="0" t="2037" r="42086" b="5723"/>
          <a:stretch/>
        </p:blipFill>
        <p:spPr>
          <a:xfrm>
            <a:off x="311040" y="2378160"/>
            <a:ext cx="803520" cy="1339920"/>
          </a:xfrm>
          <a:prstGeom prst="rect">
            <a:avLst/>
          </a:prstGeom>
          <a:ln w="0">
            <a:noFill/>
          </a:ln>
        </p:spPr>
      </p:pic>
      <p:pic>
        <p:nvPicPr>
          <p:cNvPr id="585" name="Picture 5" descr="标题框-4"/>
          <p:cNvPicPr/>
          <p:nvPr/>
        </p:nvPicPr>
        <p:blipFill>
          <a:blip r:embed="rId5">
            <a:lum bright="-12000"/>
          </a:blip>
          <a:srcRect l="42086" t="2038" r="0" b="5721"/>
          <a:stretch/>
        </p:blipFill>
        <p:spPr>
          <a:xfrm>
            <a:off x="2843280" y="2378160"/>
            <a:ext cx="803160" cy="133992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6" descr="标题框-3"/>
          <p:cNvPicPr/>
          <p:nvPr/>
        </p:nvPicPr>
        <p:blipFill>
          <a:blip r:embed="rId6">
            <a:lum bright="-18000"/>
          </a:blip>
          <a:srcRect l="0" t="0" r="0" b="46666"/>
          <a:stretch/>
        </p:blipFill>
        <p:spPr>
          <a:xfrm>
            <a:off x="2263680" y="258840"/>
            <a:ext cx="1320840" cy="67464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7" descr="标题框-3"/>
          <p:cNvPicPr/>
          <p:nvPr/>
        </p:nvPicPr>
        <p:blipFill>
          <a:blip r:embed="rId7">
            <a:lum bright="-18000"/>
          </a:blip>
          <a:srcRect l="0" t="46666" r="0" b="0"/>
          <a:stretch/>
        </p:blipFill>
        <p:spPr>
          <a:xfrm>
            <a:off x="393840" y="479520"/>
            <a:ext cx="1320840" cy="672840"/>
          </a:xfrm>
          <a:prstGeom prst="rect">
            <a:avLst/>
          </a:prstGeom>
          <a:ln w="0">
            <a:noFill/>
          </a:ln>
        </p:spPr>
      </p:pic>
      <p:sp>
        <p:nvSpPr>
          <p:cNvPr id="588" name="Text Box 8"/>
          <p:cNvSpPr/>
          <p:nvPr/>
        </p:nvSpPr>
        <p:spPr>
          <a:xfrm>
            <a:off x="895320" y="304920"/>
            <a:ext cx="289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Arial"/>
                <a:ea typeface="黑体"/>
              </a:rPr>
              <a:t>文化内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9"/>
          <p:cNvSpPr/>
          <p:nvPr/>
        </p:nvSpPr>
        <p:spPr>
          <a:xfrm>
            <a:off x="812880" y="2778120"/>
            <a:ext cx="25336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08080"/>
                </a:solidFill>
                <a:latin typeface="宋体"/>
              </a:rPr>
              <a:t>    </a:t>
            </a:r>
            <a:r>
              <a:rPr b="0" lang="zh-CN" sz="1600" spc="-1" strike="noStrike">
                <a:solidFill>
                  <a:srgbClr val="808080"/>
                </a:solidFill>
                <a:latin typeface="宋体"/>
              </a:rPr>
              <a:t>中国结由于年代久远，其历史贯穿于人类史始终，漫长的文化积淀使得中国结渗透着中华民族特有的、纯粹的文化精髓，富含丰富的文化底蕴。“绳”与“神”谐音，中国文化在形成阶段，曾经崇拜过绳子。据文字记载：“ 女娲引绳在泥中，举以为人。”又因绳像蟠曲的蛇龙，中国人是龙的传人，龙神的 形象，在史前时代，是用绳结的变化来体现的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10"/>
          <p:cNvSpPr/>
          <p:nvPr/>
        </p:nvSpPr>
        <p:spPr>
          <a:xfrm>
            <a:off x="5437080" y="1281240"/>
            <a:ext cx="2737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宋体"/>
              </a:rPr>
              <a:t>    “</a:t>
            </a:r>
            <a:r>
              <a:rPr b="0" lang="zh-CN" sz="1800" spc="-1" strike="noStrike">
                <a:solidFill>
                  <a:srgbClr val="808080"/>
                </a:solidFill>
                <a:latin typeface="宋体"/>
              </a:rPr>
              <a:t>结”字也是一个表示力量、和谐， 充满情感的字眼，无论是结合、结交、结缘、团结、结果，还是结发夫妻，永结同心，“结”给人都是一种团圆、亲密、温馨的美感“结”与“吉 ”谐 音，“吉” 有着丰富多彩的内容，福、禄、寿、喜、财、安、康无一不属于吉的范畴。“吉” 就是人类永恒的追求主题，“绳结”这种具有生命力的民间技艺也就自然作为中国传统 文化的精髓，兴盛长远规划，流传至今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0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6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9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Oval 2"/>
          <p:cNvSpPr/>
          <p:nvPr/>
        </p:nvSpPr>
        <p:spPr>
          <a:xfrm>
            <a:off x="3852720" y="3502080"/>
            <a:ext cx="2087640" cy="1655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AutoShape 3"/>
          <p:cNvSpPr/>
          <p:nvPr/>
        </p:nvSpPr>
        <p:spPr>
          <a:xfrm>
            <a:off x="3419640" y="3068640"/>
            <a:ext cx="2520720" cy="13032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c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AutoShape 4"/>
          <p:cNvSpPr/>
          <p:nvPr/>
        </p:nvSpPr>
        <p:spPr>
          <a:xfrm>
            <a:off x="6445080" y="4870440"/>
            <a:ext cx="1800360" cy="1152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c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AutoShape 5"/>
          <p:cNvSpPr/>
          <p:nvPr/>
        </p:nvSpPr>
        <p:spPr>
          <a:xfrm>
            <a:off x="1041480" y="4870440"/>
            <a:ext cx="1801800" cy="1152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c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AutoShape 6"/>
          <p:cNvSpPr/>
          <p:nvPr/>
        </p:nvSpPr>
        <p:spPr>
          <a:xfrm>
            <a:off x="5508720" y="835200"/>
            <a:ext cx="1801800" cy="1152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c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7"/>
          <p:cNvSpPr/>
          <p:nvPr/>
        </p:nvSpPr>
        <p:spPr>
          <a:xfrm>
            <a:off x="1978200" y="907920"/>
            <a:ext cx="1800000" cy="11527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c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AutoShape 8"/>
          <p:cNvSpPr/>
          <p:nvPr/>
        </p:nvSpPr>
        <p:spPr>
          <a:xfrm>
            <a:off x="6950160" y="3139920"/>
            <a:ext cx="1800000" cy="11527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c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AutoShape 9"/>
          <p:cNvSpPr/>
          <p:nvPr/>
        </p:nvSpPr>
        <p:spPr>
          <a:xfrm>
            <a:off x="609480" y="3139920"/>
            <a:ext cx="1800360" cy="11527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c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9" name="AutoShape 10"/>
          <p:cNvCxnSpPr/>
          <p:nvPr/>
        </p:nvCxnSpPr>
        <p:spPr>
          <a:xfrm rot="5400000">
            <a:off x="9137880" y="6208560"/>
            <a:ext cx="3670920" cy="1278720"/>
          </a:xfrm>
          <a:prstGeom prst="bentConnector4">
            <a:avLst>
              <a:gd name="adj1" fmla="val -6482"/>
              <a:gd name="adj2" fmla="val 417262"/>
            </a:avLst>
          </a:prstGeom>
          <a:ln w="0">
            <a:noFill/>
          </a:ln>
        </p:spPr>
      </p:cxnSp>
      <p:cxnSp>
        <p:nvCxnSpPr>
          <p:cNvPr id="600" name="AutoShape 11"/>
          <p:cNvCxnSpPr>
            <a:stCxn id="595" idx="2"/>
            <a:endCxn id="592" idx="0"/>
          </p:cNvCxnSpPr>
          <p:nvPr/>
        </p:nvCxnSpPr>
        <p:spPr>
          <a:xfrm rot="5400000">
            <a:off x="5004000" y="1662840"/>
            <a:ext cx="1080360" cy="1729440"/>
          </a:xfrm>
          <a:prstGeom prst="bentConnector3">
            <a:avLst>
              <a:gd name="adj1" fmla="val 50000"/>
            </a:avLst>
          </a:prstGeom>
          <a:ln w="0">
            <a:noFill/>
          </a:ln>
        </p:spPr>
      </p:cxnSp>
      <p:cxnSp>
        <p:nvCxnSpPr>
          <p:cNvPr id="601" name="AutoShape 12"/>
          <p:cNvCxnSpPr>
            <a:stCxn id="595" idx="2"/>
          </p:cNvCxnSpPr>
          <p:nvPr/>
        </p:nvCxnSpPr>
        <p:spPr>
          <a:xfrm rot="5400000">
            <a:off x="5112000" y="1554840"/>
            <a:ext cx="865800" cy="1730880"/>
          </a:xfrm>
          <a:prstGeom prst="bentConnector2">
            <a:avLst/>
          </a:prstGeom>
          <a:ln w="0">
            <a:noFill/>
          </a:ln>
        </p:spPr>
      </p:cxnSp>
      <p:cxnSp>
        <p:nvCxnSpPr>
          <p:cNvPr id="602" name="AutoShape 13"/>
          <p:cNvCxnSpPr>
            <a:stCxn id="595" idx="2"/>
            <a:endCxn id="592" idx="0"/>
          </p:cNvCxnSpPr>
          <p:nvPr/>
        </p:nvCxnSpPr>
        <p:spPr>
          <a:xfrm rot="5400000">
            <a:off x="5004000" y="1662840"/>
            <a:ext cx="1080360" cy="1729440"/>
          </a:xfrm>
          <a:prstGeom prst="bentConnector3">
            <a:avLst>
              <a:gd name="adj1" fmla="val 50000"/>
            </a:avLst>
          </a:prstGeom>
          <a:ln w="0">
            <a:noFill/>
          </a:ln>
        </p:spPr>
      </p:cxnSp>
      <p:sp>
        <p:nvSpPr>
          <p:cNvPr id="603" name="Line 14"/>
          <p:cNvSpPr/>
          <p:nvPr/>
        </p:nvSpPr>
        <p:spPr>
          <a:xfrm>
            <a:off x="2698920" y="5446800"/>
            <a:ext cx="1298520" cy="1440"/>
          </a:xfrm>
          <a:prstGeom prst="line">
            <a:avLst/>
          </a:prstGeom>
          <a:ln w="38160">
            <a:solidFill>
              <a:srgbClr val="c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Line 15"/>
          <p:cNvSpPr/>
          <p:nvPr/>
        </p:nvSpPr>
        <p:spPr>
          <a:xfrm>
            <a:off x="5291280" y="5445000"/>
            <a:ext cx="1296720" cy="0"/>
          </a:xfrm>
          <a:prstGeom prst="line">
            <a:avLst/>
          </a:prstGeom>
          <a:ln w="38160">
            <a:solidFill>
              <a:srgbClr val="c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Line 16"/>
          <p:cNvSpPr/>
          <p:nvPr/>
        </p:nvSpPr>
        <p:spPr>
          <a:xfrm>
            <a:off x="2266920" y="3718080"/>
            <a:ext cx="1297080" cy="0"/>
          </a:xfrm>
          <a:prstGeom prst="line">
            <a:avLst/>
          </a:prstGeom>
          <a:ln w="38160">
            <a:solidFill>
              <a:srgbClr val="c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Line 17"/>
          <p:cNvSpPr/>
          <p:nvPr/>
        </p:nvSpPr>
        <p:spPr>
          <a:xfrm>
            <a:off x="5796000" y="3716280"/>
            <a:ext cx="1297080" cy="1800"/>
          </a:xfrm>
          <a:prstGeom prst="line">
            <a:avLst/>
          </a:prstGeom>
          <a:ln w="38160">
            <a:solidFill>
              <a:srgbClr val="c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Line 18"/>
          <p:cNvSpPr/>
          <p:nvPr/>
        </p:nvSpPr>
        <p:spPr>
          <a:xfrm flipH="1">
            <a:off x="3994200" y="4292640"/>
            <a:ext cx="1440" cy="1154160"/>
          </a:xfrm>
          <a:prstGeom prst="line">
            <a:avLst/>
          </a:prstGeom>
          <a:ln w="38160">
            <a:solidFill>
              <a:srgbClr val="c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Line 19"/>
          <p:cNvSpPr/>
          <p:nvPr/>
        </p:nvSpPr>
        <p:spPr>
          <a:xfrm flipH="1">
            <a:off x="5291280" y="4294080"/>
            <a:ext cx="1440" cy="1152720"/>
          </a:xfrm>
          <a:prstGeom prst="line">
            <a:avLst/>
          </a:prstGeom>
          <a:ln w="38160">
            <a:solidFill>
              <a:srgbClr val="c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Line 20"/>
          <p:cNvSpPr/>
          <p:nvPr/>
        </p:nvSpPr>
        <p:spPr>
          <a:xfrm>
            <a:off x="4714920" y="2494080"/>
            <a:ext cx="1730160" cy="1440"/>
          </a:xfrm>
          <a:prstGeom prst="line">
            <a:avLst/>
          </a:prstGeom>
          <a:ln w="38160">
            <a:solidFill>
              <a:srgbClr val="c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Line 21"/>
          <p:cNvSpPr/>
          <p:nvPr/>
        </p:nvSpPr>
        <p:spPr>
          <a:xfrm flipH="1">
            <a:off x="3057120" y="1916280"/>
            <a:ext cx="1800" cy="576000"/>
          </a:xfrm>
          <a:prstGeom prst="line">
            <a:avLst/>
          </a:prstGeom>
          <a:ln w="38160">
            <a:solidFill>
              <a:srgbClr val="c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Line 22"/>
          <p:cNvSpPr/>
          <p:nvPr/>
        </p:nvSpPr>
        <p:spPr>
          <a:xfrm>
            <a:off x="6372360" y="1916280"/>
            <a:ext cx="0" cy="576000"/>
          </a:xfrm>
          <a:prstGeom prst="line">
            <a:avLst/>
          </a:prstGeom>
          <a:ln w="38160">
            <a:solidFill>
              <a:srgbClr val="c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Line 23"/>
          <p:cNvSpPr/>
          <p:nvPr/>
        </p:nvSpPr>
        <p:spPr>
          <a:xfrm>
            <a:off x="4714920" y="2492280"/>
            <a:ext cx="1440" cy="647640"/>
          </a:xfrm>
          <a:prstGeom prst="line">
            <a:avLst/>
          </a:prstGeom>
          <a:ln w="38160">
            <a:solidFill>
              <a:srgbClr val="c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 Box 24"/>
          <p:cNvSpPr/>
          <p:nvPr/>
        </p:nvSpPr>
        <p:spPr>
          <a:xfrm>
            <a:off x="2050920" y="1073160"/>
            <a:ext cx="183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蝴蝶结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福在眼前，富运迭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 Box 25"/>
          <p:cNvSpPr/>
          <p:nvPr/>
        </p:nvSpPr>
        <p:spPr>
          <a:xfrm>
            <a:off x="5548320" y="1052640"/>
            <a:ext cx="190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福字结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福气满堂，神星高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 Box 26"/>
          <p:cNvSpPr/>
          <p:nvPr/>
        </p:nvSpPr>
        <p:spPr>
          <a:xfrm>
            <a:off x="682560" y="3352680"/>
            <a:ext cx="160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鱼结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年年富足，吉庆有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 Box 27"/>
          <p:cNvSpPr/>
          <p:nvPr/>
        </p:nvSpPr>
        <p:spPr>
          <a:xfrm>
            <a:off x="7021440" y="343692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寿字结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人寿年丰，寿比南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 Box 28"/>
          <p:cNvSpPr/>
          <p:nvPr/>
        </p:nvSpPr>
        <p:spPr>
          <a:xfrm>
            <a:off x="1042920" y="5086440"/>
            <a:ext cx="189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藻井结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方正平整，井然有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 Box 29"/>
          <p:cNvSpPr/>
          <p:nvPr/>
        </p:nvSpPr>
        <p:spPr>
          <a:xfrm>
            <a:off x="6518160" y="516564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双喜结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喜上加喜，双喜临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30"/>
          <p:cNvSpPr/>
          <p:nvPr/>
        </p:nvSpPr>
        <p:spPr>
          <a:xfrm>
            <a:off x="4074840" y="33577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Arial"/>
              </a:rPr>
              <a:t>结饰涵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Line 31"/>
          <p:cNvSpPr/>
          <p:nvPr/>
        </p:nvSpPr>
        <p:spPr>
          <a:xfrm>
            <a:off x="2987640" y="2492280"/>
            <a:ext cx="1728720" cy="0"/>
          </a:xfrm>
          <a:prstGeom prst="line">
            <a:avLst/>
          </a:prstGeom>
          <a:ln w="38160">
            <a:solidFill>
              <a:srgbClr val="c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0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6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6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0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9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0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6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0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0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1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2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6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2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3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6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4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4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5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6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3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6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36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2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7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6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3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38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6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38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0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9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4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1:22:00Z</dcterms:created>
  <dc:creator>Administrator</dc:creator>
  <dc:description/>
  <cp:keywords/>
  <dc:language>en-US</dc:language>
  <cp:lastModifiedBy>a</cp:lastModifiedBy>
  <dcterms:modified xsi:type="dcterms:W3CDTF">2014-07-23T08:22:14Z</dcterms:modified>
  <cp:revision>3</cp:revision>
  <dc:subject/>
  <dc:title>请在此处填写作品信息（此页非设计页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6</vt:lpwstr>
  </property>
</Properties>
</file>