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4A8-3F76-48C9-A259-1F81BF23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83C-3430-402E-A95A-8FC0262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EA5E7-DD99-4454-92B8-4F0D908F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9F371-EAA8-4E84-A535-BA16C2A5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E926E-2123-4B76-B1E2-767ADA71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A2C00-C9B4-49DA-8CAE-4359698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E207B-1D23-4B22-9261-076B047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CDA91-CFD9-4121-AB69-EA2FF07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03790-9DE1-40B8-8256-E5693672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DF66A-6246-41DF-A89C-72CF9FFD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3CB24-D1C0-4314-B225-58006BE4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191BC-007B-4A69-B72E-3CB74EF4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B3B-3F10-4BA5-BE43-2FFA98D6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98F62-DA14-49D4-B92E-B3DBA0F8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5F6DD-69D2-4F92-97A8-90E3F277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05CB1-945E-40EB-8E30-7B9E8F96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AB18A-4EAB-4CB7-8A5D-8257D7CF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7C95F-BC1E-40B5-9998-AA283EE6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4CAC8-061E-48F2-B170-576F84A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36B93-1933-4E09-80B2-C97ACD6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01AE5-5937-4D41-B93D-1D8FFA22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C82B9-122B-4116-98FE-ACAFCC19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8AC60-36CF-4D4A-BB35-72C81CDA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5F5-F478-4953-8792-02C27F5A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CA683-EFF9-41C6-A6BC-7B84339B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6149D-C549-4B0E-A004-ACED7CB3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D11BF-F618-4B53-B829-B8788D42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30939-5527-4080-B182-C102D1CD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0F3E2-060C-4911-B0DC-B8E09C8B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FA732-1933-4E19-9C64-79181A2A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7452D-D20E-40A3-92CD-2468DAD1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E988D-1D08-4983-8764-D32647E4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AC7EC-BE9F-46D3-BC27-1496CE8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6CC6F-6A13-42A1-85B8-5222C333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7C28-7F41-4BEE-99DA-8909B75F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2919A-37A4-4BFB-A16F-14B6E6D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E94D1-2721-4BD5-B59A-450D554B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E804D-76C3-413F-9221-A1BC8961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AA565-A81A-49AA-BE55-8019D264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DA222-586A-46A4-A01B-25E7439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09D32-AC50-4C96-ACF1-0A349792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711AA-F373-4F3D-8A6F-3758E37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4541F-69D0-40A6-B979-1EDF6263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66186-02C7-4231-B02C-8A544838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69FFB-B7F0-4B39-AA83-709B29B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C1AD-47BC-4329-983B-60E4D0DB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43903-D0DB-4FC6-9624-25A2CD9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0935F-61F8-4A2A-B5BF-3836143F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7A547-1E6B-4E3E-84B8-C47B91BC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22355-BBA2-448C-9C72-5A2BFB8C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F2518-D785-4F36-B78E-A3F8792A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AADBF-75A5-4775-8B2F-CAB8B322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04607-5816-40AD-8131-3BA32E26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F9FC4-B89F-4B88-977C-0C452D01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DEC09-3713-4F31-936B-8F4CAAB6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669DD-A04C-4975-9FAF-383EA119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0876-3433-47A2-904A-0DE8535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E101F-BC0A-4F52-904D-CFB9922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61536-1A21-4662-A989-037D15F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FB4DE-DC51-48A9-937F-CFB2408E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6C81E-8BAB-4329-A251-66B2E87F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AE170-66D4-4C0F-9051-120C1805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A1E4C-A8B1-4925-A279-CCE75AFD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6D1E7-D628-475E-8FC5-05966EC4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BD1C-DD7F-4878-B1B8-6250C7F9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A82C-111E-4D90-B9F1-A82EF86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5DD9-A268-44DD-8E72-1038F800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C39F-A21E-404C-9288-319F8990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9B1-441B-4ACC-B553-28B9F34C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0638-F2A1-46DB-A2B7-4EDC21A1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26C6-9E17-4A9A-AB4A-710ED20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5256-A27F-407C-8D1A-5C9C2C9D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B186-5C61-4F7B-A60B-D6F6BFBD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640-8DC8-4962-8424-22382B61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39BF2-B272-4197-AC7D-64438F7D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1EF9-5B38-4869-8897-DDB8D424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2FD2-F8F4-4266-8B68-92ACD54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611F-207C-4476-B8C7-BE15A866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0FA8-094A-4F2E-8321-110710A3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8A8-76F6-49DF-AFC0-B346FF60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6F0B-3BCE-48C9-90B6-F2107E32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87FF4-B70D-49E6-AE70-476A113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6B0E-48C0-41CA-BBC3-E223BA1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5B89-8141-4E03-92E9-0986350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44A1-BAF2-4483-BF42-A1668C8C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68B6-04EB-4991-BD6F-78070500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8DD81-5A41-4602-BC43-B66118B6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6541-1560-4F38-934A-CA89A77B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9DE5-0572-4D3C-8F25-CE397334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CAB6-FC8E-4983-B30B-336924CE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807-CE4C-44B0-954F-63543007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B3E65-9EB6-4EB4-9197-600A6853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1B07-9314-41E8-99D9-4BD0833F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9CF4A-ECF5-49E0-B035-B6756D05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6A214-6D2A-40BF-A72A-B376685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B5FC-B12B-4255-A12E-754E37B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9769-FF7B-421A-B47B-4BDAC48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6C3EB-A27D-41BF-9C46-CFC97F1E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B0CFF-D06D-4D0F-A1BA-461055E6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7834-07FD-4298-9151-A8FB0967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D47D4-F514-4E2D-9F7D-1241E35C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615-8FEE-40FD-AF41-EC763CB2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86BDC-2FC1-4086-AE17-143A141B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F205B-CEF4-4AFB-80A3-2237553A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27772-6AEA-44D3-8F95-C041340A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43C9C-2161-400C-BF19-9561B41C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C3B06-E369-434E-813E-72134709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9A39-9897-4A02-9213-004C85B7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20AB-09AC-4486-A6C6-5329EEA0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169EA-F6A7-4265-B52B-91CF01B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48194-FD4C-4280-8E70-8BF06772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6E41-7FCF-49E9-B749-5CD1EA26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492-03D5-4B45-A2D0-F2FDCE6B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6B43F-E620-4C93-AD1A-FA8C9E90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56A5-95B2-41FF-900B-8285A0F0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153C6-8E94-47D5-88D1-74F3809E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6BCB1-4E33-4FD9-BFF4-178143D0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1DE9-91FC-4E83-936A-78A1D385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DF005-DF9F-4EC4-98D0-A00276D6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705D8-868B-4CA9-BDC4-25F50CD7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8529-6166-418A-8D7B-227F28C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E1A52-D2D4-40EF-8DD0-F8E37553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56F4D-3800-4A60-97F9-25BC7A24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572-A3E5-49BE-A12C-B12EA154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FB785-E777-4009-A8AA-92FCC788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3A11D-A7CD-4F27-B0B8-7D782A80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3E003-20C7-4C79-8828-A431EFA7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97FC-E7F7-4953-89B3-D543E91C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B7AE8-5AF1-4A11-890A-F0A9EBFE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F75CC-9B73-4F84-BE03-BA7987A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371A3-F9D4-44C7-A316-6B6D89B7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12DF0-A276-46B6-9BEB-014096E5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6443-32E8-4289-AA2E-74909680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0FA5-DAC6-4E94-9034-CE663E91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057-DAA0-4AED-9D73-1287C51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CDC7D-2AB4-4430-988B-95E081A3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C7C0F-BDB6-4577-B530-15E459A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FF78F-5550-4FC1-B098-616777F9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8AFD3-B324-47F8-9606-CA0AC1F5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3FAA0-4CF1-4123-AF1D-2446E73E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D19AD-D00D-4E05-914A-64AAA812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23A95-3980-4772-8ED2-F821AFA6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170BD-29BA-4471-A801-6A2B3D9B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FC257-9148-410E-ADC7-6A2A6C04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F5827-D528-43F6-9B52-84A75B40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AEA-BF64-49DB-9332-FEB2AC50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9C49D-8653-4323-87EC-A739C756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D03E9-698E-41EA-A826-C81A3F2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00B4A-9439-4898-9368-86CE002F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E1609-D8E2-4100-9CF8-929DF69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8A9DD-E0D7-41FD-9D22-5D4E62E9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1ECC2-D883-43D6-9FAF-F1CFE9B7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980B6-F11E-45D2-8136-F45F745A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70D72-68ED-4EFF-A856-4F33B42F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37D51-0DB5-4641-810A-643087E7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298E0-643F-47AA-B836-2B2A2BB3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392" t="0" r="588" b="2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677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5677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6635-ACCE-4C8A-AD27-0A5E37B9AA94}" type="datetime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C4A-FE7A-4885-A66A-68A7B7C5A20E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918-E975-4B06-B22C-D827133860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BACC-CD93-4C25-B8BC-ADB7D30084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0E98-02D4-4E2D-86C2-1D528CC3A4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5CF1-29A7-44D8-98DB-6E16D19D0F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1DC7-79D4-4344-B46F-679161C543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A718-554C-46A0-8E17-07DFE44CF6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B604-E3EE-46FA-A458-CD1DE9A26B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1C0D-3CDC-4B44-928E-E1A63219FA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212-24E2-4AD2-BB78-43E762BE05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E823-E1FE-4653-93EF-081B4AF95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35D2-1882-4793-A86C-595E755636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595A-F08D-41C6-AF90-AC40C24DF5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8C0C-C7A5-47FF-91AB-A8B4312BB4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6946-73EE-4AD8-9588-1245237692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0F66-8BB3-4CCA-BB5A-55040F210A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A19-784F-4DA8-89C2-7E42DCE6F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1EB4-D3FE-4646-8590-B89108EFFE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192B-10DD-498C-B3C4-C93905DD57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AECE-0051-4D09-80E7-9A97C0C3D5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4360-696B-41E9-95F8-9843091E89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743B-E73D-4748-AB9C-3A7BFA6B1A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113B-BBA7-4F73-9159-0D5E95469C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A8DB-BE1F-411E-8935-C453D315D0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135F-E188-44ED-9696-E0DAA01E64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3" descr=""/>
          <p:cNvPicPr/>
          <p:nvPr/>
        </p:nvPicPr>
        <p:blipFill>
          <a:blip r:embed="rId1"/>
          <a:srcRect l="244" t="1711" r="1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244320" y="2940120"/>
            <a:ext cx="5829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5677"/>
                </a:solidFill>
                <a:latin typeface="Monotype Corsiva"/>
              </a:rPr>
              <a:t>PowerPoint Template</a:t>
            </a:r>
            <a:endParaRPr b="1" lang="en-US" sz="7200" spc="-1" strike="noStrike">
              <a:solidFill>
                <a:srgbClr val="005677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715D-825F-4E54-9732-371E8F0D87E3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050920" y="2204640"/>
            <a:ext cx="5400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677"/>
                </a:solidFill>
                <a:latin typeface="微软雅黑"/>
              </a:rPr>
              <a:t>Click to add title</a:t>
            </a:r>
            <a:endParaRPr b="1" lang="en-US" sz="4400" spc="-1" strike="noStrike">
              <a:solidFill>
                <a:srgbClr val="005677"/>
              </a:solidFill>
              <a:latin typeface="微软雅黑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932560" y="2965320"/>
            <a:ext cx="3423600" cy="302760"/>
          </a:xfrm>
          <a:prstGeom prst="rect">
            <a:avLst/>
          </a:prstGeom>
          <a:gradFill rotWithShape="0">
            <a:gsLst>
              <a:gs pos="0">
                <a:srgbClr val="00648b"/>
              </a:gs>
              <a:gs pos="100000">
                <a:srgbClr val="00ade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 fontScale="65000"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here to add your subtitle</a:t>
            </a:r>
            <a:endParaRPr b="0" lang="en-US" sz="14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0F5F-3DF4-4FC3-AE36-A079D459C7BB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677"/>
                </a:solidFill>
                <a:latin typeface="微软雅黑"/>
              </a:rPr>
              <a:t>Click here to add your title</a:t>
            </a:r>
            <a:endParaRPr b="1" lang="en-US" sz="2400" spc="-1" strike="noStrike">
              <a:solidFill>
                <a:srgbClr val="005677"/>
              </a:solidFill>
              <a:latin typeface="微软雅黑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26920" y="765000"/>
            <a:ext cx="8066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Click to edit Master tex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76923c"/>
                </a:solidFill>
                <a:uFillTx/>
                <a:latin typeface="楷体"/>
                <a:ea typeface="楷体"/>
                <a:hlinkClick r:id="rId1"/>
              </a:rPr>
              <a:t>免费PPT模板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76923c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5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22:51:00Z</dcterms:created>
  <dc:creator>chen.zhb;ivywang</dc:creator>
  <dc:description/>
  <dc:language>en-US</dc:language>
  <cp:lastModifiedBy>a</cp:lastModifiedBy>
  <dcterms:modified xsi:type="dcterms:W3CDTF">2015-01-14T15:58:06Z</dcterms:modified>
  <cp:revision>1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IP等级">
    <vt:lpwstr>2</vt:lpwstr>
  </property>
  <property fmtid="{D5CDD505-2E9C-101B-9397-08002B2CF9AE}" pid="4" name="价格">
    <vt:lpwstr>2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EN PPT 格式 时尚 蓝 蓝色 潮流 炫光 华丽 梦幻 线 线条 抽象 动态 动感 清新 年轻 活力 青春 渐变 背景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蓝色梦幻圆点</vt:lpwstr>
  </property>
  <property fmtid="{D5CDD505-2E9C-101B-9397-08002B2CF9AE}" pid="12" name="模板ID">
    <vt:lpwstr>A30220130608A12</vt:lpwstr>
  </property>
  <property fmtid="{D5CDD505-2E9C-101B-9397-08002B2CF9AE}" pid="13" name="模板缩略图">
    <vt:lpwstr>A30220130608A12.png</vt:lpwstr>
  </property>
  <property fmtid="{D5CDD505-2E9C-101B-9397-08002B2CF9AE}" pid="14" name="相关案例">
    <vt:lpwstr>854</vt:lpwstr>
  </property>
  <property fmtid="{D5CDD505-2E9C-101B-9397-08002B2CF9AE}" pid="15" name="缩略图标题">
    <vt:lpwstr>蓝色梦幻圆点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608A1201</vt:lpwstr>
  </property>
  <property fmtid="{D5CDD505-2E9C-101B-9397-08002B2CF9AE}" pid="18" name="附件缩略图">
    <vt:lpwstr>A30220130608A1201.png</vt:lpwstr>
  </property>
  <property fmtid="{D5CDD505-2E9C-101B-9397-08002B2CF9AE}" pid="19" name="附件路径">
    <vt:lpwstr>A30220130608A1201.pptx</vt:lpwstr>
  </property>
</Properties>
</file>