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AC5-A8FB-49AC-9EE5-76911969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7BF-1AFC-4AD0-9EDF-B74E4749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AED12-652E-4FE6-8AC4-3E1254F4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58B05-ED29-44B8-BF87-74289369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D6F8E-1E53-4815-82A0-90A38B32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30993-9450-41F0-B336-2D592332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51A69-4058-4BED-8FCB-B211E78C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291F0-7592-4966-AD59-02B5E93F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C1BD2-57F1-4376-9926-3F653C86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D6430-4B6D-4C95-BB34-E6CF3CB9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523E2-94D3-4737-BCEF-C3B2F2BA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1B662-85D0-4C44-AEED-55872224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B37-058D-4D9F-A5C5-12F50441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E63B9-C5C4-4452-B157-007D207A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6328E-AE65-48D2-A96B-376C8737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A9F53-4769-43A9-8FC2-F24EA7A7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2FEAB-C45D-41A5-B4ED-EF24CEE6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53CF2-096A-4A04-BD41-C0038087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2C16E-0904-45FB-BD8E-E204D93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719C1-5BB9-40D2-B6B6-7108C05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FC2DC-EED2-44D3-976D-8BF563A7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5481F-F7BE-454F-94CA-C55ADDD8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042B4-286C-4FC6-81E9-0B283418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490-77AA-4C57-BDB0-5021899F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7A7EB-BAD5-4E99-BD33-3BB7571D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EA933-0558-4326-BB7A-31FD9292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AEA40-78CE-4B27-8F8F-3232051A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A20F4-17DA-4473-84B6-3DA600D0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9B575-6558-4E4D-BC7C-BD0CC36A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F931B-B213-4D04-B431-3BB21887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20FCC-11E0-48E1-AD2E-E41A1580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BBA63-F587-4574-97B2-5EB64B3A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06B1F-E4A1-4695-A304-827CCFA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A7924-E3E7-480A-A07D-A46EFFAA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39CD-0EDB-45A6-8AF9-DA67ABF5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97F46-6FF0-458A-BCDE-22C491D5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EEF57-B24B-45F3-B7A0-52AC5055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D0704-2BFD-41B3-B52D-A958B265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FD9E9-E492-470A-9F26-0885A81F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48ED9-9107-419C-8BE3-99B0A6C6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6F935-053F-4D0A-A12C-B0306442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686D2-A0ED-4FB2-B71C-CB7A8C0D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93281-9CA0-4055-B80F-7D88B172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82A12-BB4C-4F6E-98FF-DA357735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6AE02-7082-4BCC-AF95-04B5D8D0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1F43-5CCD-40A1-A39A-35CB6750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70667-1FDD-45FE-84A1-7CFFB0A7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20006-3421-4CE9-A959-E7A22CC7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086F5-FEC7-4669-817D-FFA44DA4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A1978-399D-4CFA-B8A5-270C6511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F9F6A-ECED-4103-95D3-C5E4F0CC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C7642-E651-4506-A9E0-BC09963E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A46B2-F311-4E21-98B2-3E2CF65B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EF4D4-95E7-4078-8CAC-88708F9F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36155-09E0-4161-874C-4E3403DA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01D1D-25B9-4E71-BA23-21006D3D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91C8-63EE-4820-B4CE-0060B5C0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9B127-154F-44D7-8EC7-FE5D2600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BDC29-3A0D-4D48-8087-4617A3C5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B8B56-2ADB-4903-92EA-FE10DD80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AC15F-1673-4C7C-AB4A-D443E46B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2FCB6-B695-4955-B0D4-4700ED29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5EBDE-B975-4598-9EC2-B3CA4881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17CF3-91F5-4B0E-AF12-D53090FB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40DA9-337C-465D-A8A0-07B050F7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0A3EC-E46B-4CB9-B84B-E3582EC4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A4F75-7C47-4079-93B9-52389565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486F-02A7-46E7-8E0F-B191DAE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3D424-5C85-4D6D-A652-504433DF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E07E4-A8C4-4008-96EA-EA760128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FB176-52B0-4211-AAEF-947E2AFD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350E9-C121-4333-833F-F8C6517A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B1C19-3688-4A5D-98C0-A871340D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67970-B13D-440F-9FAF-619AD437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8C53F-1CE6-47D6-A504-7613ADBF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9A133-A8D6-4DEA-8850-372F5381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940D8-32E6-40B8-9137-9BC3224D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46C7-72A5-468A-8D48-D50B8E42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63D6-E177-4A3E-AD8E-365DE196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A771-5291-464F-BD42-C4E381B2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C6F-EB76-4C4F-91F4-02AAA8E3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6BD0-3C09-4E0B-92FC-4890D7A5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516A-7489-4FBD-842F-9984B7EC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DAC4-AE93-48EE-BEBC-5F1832DD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E337-1CEE-493A-A046-B2874149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B919-416E-49FA-A742-35AACC7D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69CA0-9924-4DF8-9678-9B34B43F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F226-CF56-4993-BA6A-87647145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C7396-191D-4688-9550-0EDED7BE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993C-43B5-421D-BD6B-FE6F887D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C76CC-3E02-490F-A820-65367E3C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6CF-6982-4465-B585-D12D68F2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24BB-9643-4728-BF64-50C7852D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4579-D989-4450-9A5B-730E67D6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1DBA-C0D1-4C9C-B6A1-88DC51F8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4836-D815-43A7-9493-6FF00E4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1472-69F1-4599-BE25-CA321C1A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22F78-75D7-4C99-8CC3-DDE3700C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22C9-C088-4799-8612-F8BEA492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92D86-CA91-475B-B06F-8C89628D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F7250-B2A6-4A5E-A880-79FDBD5B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9AEF-DE42-4D50-943D-F4B5CECB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FAD-D70A-4976-B60C-D5D9563D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62906-B845-4A4B-97D1-72F495CA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890EB-AA3D-4F87-9983-46DBEEA7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295C-8935-4752-9ECF-774E98AF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E3289-F310-4612-9367-63F3C77D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759AD-D9C4-4327-B116-5DD0D2D6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330B3-FB18-469D-B5C4-25A5B5B3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148B6-B257-41BD-8672-7510C354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C10C4-4F5D-4720-A6AD-091773F3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D0C7C-0AEC-4351-983F-1C8C63B7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820C1-6DC0-4716-BFE9-010AEE30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9C3-03E5-48C5-B851-5C1C2976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D5056-2602-41B3-8C8D-C75999A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B841A-3DE7-4ECD-9301-67D74315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7721A-B8BD-47CC-903D-EC069564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FB81-1D5B-4C7F-B349-CFE18E74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661A-CFF2-4108-8047-D517622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8DEF8-B495-4F9E-BB1B-79BCBBE8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AC5D7-279F-43B5-8A05-F6C453DD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E0067-7B57-4461-9335-F36E2FAC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0213-DF24-4B4A-A677-46AE4312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F62C0-B2A0-4EFE-A7B7-8C9DC6DC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DE2-FE66-4FAB-B190-62EB2223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5EE4C-B6CC-48DC-9F2B-F167E3A1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05F19-AAA2-4BED-9A4C-730BA6DD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368DF-648B-4456-B5C4-BA7802D0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4BDFA-4C69-4756-B4EB-C9A28F10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AA38E-FAD6-46E9-9031-BBB9B7BC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FAD6B-1CF3-4BD0-B316-7C18531E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743A0-A8D0-4443-A5DB-0F5C43C3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5CCB7-B614-44F1-9515-B92074E4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705E0-D67F-4578-B2EF-D30526FD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CE131-9474-4F72-9415-02CF0B5B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505-8580-44E1-AD00-EB46E9F6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3157D-726A-492A-82F1-DC93D267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9591C-9341-4C14-BDB2-5F259B63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27CF-1374-4AD7-8FCA-99E6470F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51887-5F74-427A-A468-C530ED29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82B28-1E5D-4E6D-A1E2-FDE9DCE9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5D148-D9B9-429E-A175-B36ECC0C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E2E4C-3B91-4920-9B87-A78DA41E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5C949-E2A6-4214-9F18-1F50CB5C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9E398-82D8-47B2-929A-3335BC7A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A9DB1-B91B-472E-B156-32F1D3DD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798-C0D8-4AD6-97C0-0E60E8C8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EE960-4242-49F5-A730-36343BA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80FAF-DEF6-412E-9A9E-15755011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F9CE4-4D95-4B6D-BA63-CED0FFD2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65D9D-0D36-4286-AC60-176CC93A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63866-85F7-4438-B5E4-B186E655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CC51D-9BA0-40ED-82A8-0679C180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BE8B-B13B-48EE-A17D-05E76790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80AB6-D3DB-4E10-B581-14FE598A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54B42-2D79-47D5-9308-16AAE6F2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A403E-B4CE-4BDD-9422-46D11C3F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430-60F3-41D6-8AC7-38ABEE89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C4BAA-47EF-4FAF-A9F4-53D64F6E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962C7-9308-46D7-8332-AAF1A514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2AB47-85B2-4D94-9BDD-8D460023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7F25D-72B4-4920-AEEC-7AE073F1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AAC61-73EA-4C76-9A38-922E2A9C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7C9EA-2658-4394-A147-4D844841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0B9DF-65CA-43DF-940D-7C8F0178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55F67-9881-4A14-8E3D-55E336F1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9CB92-AD18-4B8F-96D1-719D3717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6BC0A-5511-4B98-AB27-F51A005E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98b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5095-DFE1-4873-AC1D-FBF4850AB0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3C35-EFFD-49CB-827C-AB97902C68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7A27-A38C-40A8-93E8-19FFFDA9A2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1772-65A8-4627-A4D3-B89A0B263B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8D77-D859-492F-98F2-C527BB5A1A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1C3C-4EB5-4AC8-BE08-1BBA12E309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CBDF-A313-4E4C-886B-46DD957C2A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BD42-A561-4BE7-896B-501582FCAB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A8E4-5453-48BD-B4F7-45EFA2CB98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FAFB-7FF9-4255-936A-487A3FB5AE9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0FAC-C27E-4E0E-A30F-D16192E312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98b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6DB9-73DF-453F-9602-851242E1EA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B9C8-8BA2-4BCC-B035-016341E5FE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9179-FD09-485F-8B12-52D739AE2C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6C9F-0A5B-4730-8145-9B38ACCDB7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A633-9D40-45D5-A9A4-22CE528C00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9F8C-C4A5-4A1E-BE54-569B026017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7A78-C6B0-4415-8361-19AEFF2421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739-B81D-423C-8FC9-9775B65DD6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EB41-2EB3-43DF-AEB5-588AD8D4E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804E-C672-4415-A819-35BCD75D00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0148-164F-4383-A803-7F85F14866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4306-EC48-455C-8166-EEFA1D4058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04BE-B277-4413-AC69-DE8CAA0F1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D6BA-D092-48E9-B427-7A8957BDED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E21A-4C6C-4D7F-A44A-C030EA49AA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http://pic1.ooopic.com/uploadfilepic/yuanwenjian/2009-05-31/OOOPIC_changyue1903_20090531132b2e60cd5b27d0.jpg"/>
          <p:cNvPicPr/>
          <p:nvPr/>
        </p:nvPicPr>
        <p:blipFill>
          <a:blip r:embed="rId1"/>
          <a:stretch/>
        </p:blipFill>
        <p:spPr>
          <a:xfrm>
            <a:off x="-1665360" y="3032280"/>
            <a:ext cx="738360" cy="71568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4178160" y="2781360"/>
            <a:ext cx="78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4546440" y="2685960"/>
            <a:ext cx="45720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4343400" y="2641680"/>
            <a:ext cx="4572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3409920" y="1486080"/>
            <a:ext cx="1521000" cy="36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663bc"/>
                </a:solidFill>
                <a:latin typeface="Arial"/>
                <a:ea typeface="华文琥珀"/>
              </a:rPr>
              <a:t>岐 山 擀 面 皮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http://ztu68.com/uploads/Psd/c100626/12M555V630330-159E.jpg"/>
          <p:cNvPicPr/>
          <p:nvPr/>
        </p:nvPicPr>
        <p:blipFill>
          <a:blip r:embed="rId2"/>
          <a:srcRect l="0" t="-3276" r="0" b="0"/>
          <a:stretch/>
        </p:blipFill>
        <p:spPr>
          <a:xfrm>
            <a:off x="755640" y="2523960"/>
            <a:ext cx="1658880" cy="16639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80" name="Picture 2" descr="http://ztu68.com/uploads/Psd/c100626/12M555V630330-159E.jpg"/>
          <p:cNvPicPr/>
          <p:nvPr/>
        </p:nvPicPr>
        <p:blipFill>
          <a:blip r:embed="rId3"/>
          <a:srcRect l="0" t="-3276" r="0" b="0"/>
          <a:stretch/>
        </p:blipFill>
        <p:spPr>
          <a:xfrm>
            <a:off x="6732720" y="2523960"/>
            <a:ext cx="1658880" cy="16639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3"/>
          <p:cNvSpPr/>
          <p:nvPr/>
        </p:nvSpPr>
        <p:spPr>
          <a:xfrm>
            <a:off x="-7920" y="-7920"/>
            <a:ext cx="1413000" cy="686592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9"/>
          <p:cNvSpPr/>
          <p:nvPr/>
        </p:nvSpPr>
        <p:spPr>
          <a:xfrm>
            <a:off x="3498480" y="1125360"/>
            <a:ext cx="172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Calibri"/>
                <a:ea typeface="华文琥珀"/>
              </a:rPr>
              <a:t>凉      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0"/>
          <p:cNvSpPr/>
          <p:nvPr/>
        </p:nvSpPr>
        <p:spPr>
          <a:xfrm>
            <a:off x="7724880" y="-7920"/>
            <a:ext cx="1420560" cy="685008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1"/>
          <p:cNvSpPr/>
          <p:nvPr/>
        </p:nvSpPr>
        <p:spPr>
          <a:xfrm>
            <a:off x="3129120" y="2060640"/>
            <a:ext cx="345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微软雅黑"/>
                <a:ea typeface="华文琥珀"/>
              </a:rPr>
              <a:t>1.</a:t>
            </a:r>
            <a:r>
              <a:rPr b="0" lang="zh-CN" sz="2800" spc="-1" strike="noStrike">
                <a:solidFill>
                  <a:srgbClr val="1f497d"/>
                </a:solidFill>
                <a:latin typeface="Calibri"/>
                <a:ea typeface="华文琥珀"/>
              </a:rPr>
              <a:t>岐山擀面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华文琥珀"/>
                <a:ea typeface="华文琥珀"/>
              </a:rPr>
              <a:t>2.</a:t>
            </a:r>
            <a:r>
              <a:rPr b="0" lang="zh-CN" sz="2800" spc="-1" strike="noStrike">
                <a:solidFill>
                  <a:srgbClr val="1f497d"/>
                </a:solidFill>
                <a:latin typeface="华文琥珀"/>
                <a:ea typeface="华文琥珀"/>
              </a:rPr>
              <a:t>汉中热米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微软雅黑"/>
                <a:ea typeface="华文琥珀"/>
              </a:rPr>
              <a:t>3.</a:t>
            </a:r>
            <a:r>
              <a:rPr b="0" lang="zh-CN" sz="2800" spc="-1" strike="noStrike">
                <a:solidFill>
                  <a:srgbClr val="1f497d"/>
                </a:solidFill>
                <a:latin typeface="微软雅黑"/>
                <a:ea typeface="华文琥珀"/>
              </a:rPr>
              <a:t>秦镇面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微软雅黑"/>
                <a:ea typeface="华文琥珀"/>
              </a:rPr>
              <a:t>4.</a:t>
            </a:r>
            <a:r>
              <a:rPr b="0" lang="zh-CN" sz="2800" spc="-1" strike="noStrike">
                <a:solidFill>
                  <a:srgbClr val="1f497d"/>
                </a:solidFill>
                <a:latin typeface="微软雅黑"/>
                <a:ea typeface="华文琥珀"/>
              </a:rPr>
              <a:t>麻酱酿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://ztu68.com/uploads/Psd/c100626/12M555V630330-159E.jpg"/>
          <p:cNvPicPr/>
          <p:nvPr/>
        </p:nvPicPr>
        <p:blipFill>
          <a:blip r:embed="rId1"/>
          <a:stretch/>
        </p:blipFill>
        <p:spPr>
          <a:xfrm>
            <a:off x="7338960" y="1893960"/>
            <a:ext cx="1805040" cy="30718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86" name="Picture 2" descr="http://ztu68.com/uploads/Psd/c100626/12M555V630330-159E.jpg"/>
          <p:cNvPicPr/>
          <p:nvPr/>
        </p:nvPicPr>
        <p:blipFill>
          <a:blip r:embed="rId2"/>
          <a:stretch/>
        </p:blipFill>
        <p:spPr>
          <a:xfrm>
            <a:off x="-23760" y="1893960"/>
            <a:ext cx="1797120" cy="30718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6"/>
          <p:cNvSpPr/>
          <p:nvPr/>
        </p:nvSpPr>
        <p:spPr>
          <a:xfrm flipV="1">
            <a:off x="1587600" y="-7200"/>
            <a:ext cx="1420560" cy="291636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http://ztu68.com/uploads/Psd/c100626/12M555V630330-159E.jpg"/>
          <p:cNvPicPr/>
          <p:nvPr/>
        </p:nvPicPr>
        <p:blipFill>
          <a:blip r:embed="rId1"/>
          <a:srcRect l="0" t="-3289" r="0" b="0"/>
          <a:stretch/>
        </p:blipFill>
        <p:spPr>
          <a:xfrm>
            <a:off x="971640" y="2060640"/>
            <a:ext cx="2522520" cy="2535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589" name="TextBox 4"/>
          <p:cNvSpPr/>
          <p:nvPr/>
        </p:nvSpPr>
        <p:spPr>
          <a:xfrm>
            <a:off x="2037600" y="2778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f497d"/>
                </a:solidFill>
                <a:latin typeface="方正姚体"/>
                <a:ea typeface="方正姚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4412520" y="29750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华文琥珀"/>
                <a:ea typeface="华文琥珀"/>
              </a:rPr>
              <a:t>岐山擀面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pic1.ooopic.com/uploadfilepic/yuanwenjian/2009-05-31/OOOPIC_changyue1903_20090531132b2e60cd5b27d0.jpg"/>
          <p:cNvPicPr/>
          <p:nvPr/>
        </p:nvPicPr>
        <p:blipFill>
          <a:blip r:embed="rId2"/>
          <a:stretch/>
        </p:blipFill>
        <p:spPr>
          <a:xfrm>
            <a:off x="7186680" y="2641680"/>
            <a:ext cx="736560" cy="71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3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3"/>
          <p:cNvSpPr/>
          <p:nvPr/>
        </p:nvSpPr>
        <p:spPr>
          <a:xfrm flipV="1">
            <a:off x="0" y="691920"/>
            <a:ext cx="9164520" cy="89856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标题 1"/>
          <p:cNvSpPr/>
          <p:nvPr/>
        </p:nvSpPr>
        <p:spPr>
          <a:xfrm>
            <a:off x="2484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彩云"/>
                <a:ea typeface="华文彩云"/>
              </a:rPr>
              <a:t>岐山擀面皮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2626849_205744149157_2"/>
          <p:cNvPicPr/>
          <p:nvPr/>
        </p:nvPicPr>
        <p:blipFill>
          <a:blip r:embed="rId1"/>
          <a:srcRect l="-90" t="11724" r="0" b="5436"/>
          <a:stretch/>
        </p:blipFill>
        <p:spPr>
          <a:xfrm>
            <a:off x="0" y="333360"/>
            <a:ext cx="2403360" cy="1469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</p:pic>
      <p:sp>
        <p:nvSpPr>
          <p:cNvPr id="595" name="Text Box 5"/>
          <p:cNvSpPr/>
          <p:nvPr/>
        </p:nvSpPr>
        <p:spPr>
          <a:xfrm>
            <a:off x="1690560" y="273060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774720" y="2716200"/>
            <a:ext cx="77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3bc"/>
                </a:solidFill>
                <a:latin typeface="Arial"/>
                <a:ea typeface="华文琥珀"/>
              </a:rPr>
              <a:t>      </a:t>
            </a:r>
            <a:r>
              <a:rPr b="0" lang="zh-CN" sz="2000" spc="-1" strike="noStrike">
                <a:solidFill>
                  <a:srgbClr val="3663bc"/>
                </a:solidFill>
                <a:latin typeface="Arial"/>
                <a:ea typeface="华文琥珀"/>
              </a:rPr>
              <a:t>岐山擀面皮是从唐代冷淘面演变而来。具有筋斗、柔软、凉香、酸辣可口、四季皆宜之特点，是西北较有民族风味的食品之一。其面皮选料精良，工艺严谨，调味讲究，以“白、薄、光、软、筋、香”而闻名，凉爽可口。如今是关中西府的重要名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3"/>
          <p:cNvSpPr/>
          <p:nvPr/>
        </p:nvSpPr>
        <p:spPr>
          <a:xfrm flipV="1">
            <a:off x="0" y="691920"/>
            <a:ext cx="9164520" cy="89856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标题 1"/>
          <p:cNvSpPr/>
          <p:nvPr/>
        </p:nvSpPr>
        <p:spPr>
          <a:xfrm>
            <a:off x="2484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彩云"/>
                <a:ea typeface="华文彩云"/>
              </a:rPr>
              <a:t>岐山擀面皮做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2626849_205744149157_2"/>
          <p:cNvPicPr/>
          <p:nvPr/>
        </p:nvPicPr>
        <p:blipFill>
          <a:blip r:embed="rId1"/>
          <a:srcRect l="-90" t="11724" r="0" b="5436"/>
          <a:stretch/>
        </p:blipFill>
        <p:spPr>
          <a:xfrm>
            <a:off x="0" y="333360"/>
            <a:ext cx="2403360" cy="1469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</p:pic>
      <p:sp>
        <p:nvSpPr>
          <p:cNvPr id="600" name="Text Box 5"/>
          <p:cNvSpPr/>
          <p:nvPr/>
        </p:nvSpPr>
        <p:spPr>
          <a:xfrm>
            <a:off x="1690560" y="273060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774720" y="2716200"/>
            <a:ext cx="77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663bc"/>
                </a:solidFill>
                <a:latin typeface="Arial"/>
                <a:ea typeface="华文琥珀"/>
              </a:rPr>
              <a:t>                                                                                                               </a:t>
            </a:r>
            <a:r>
              <a:rPr b="0" lang="zh-CN" sz="2400" spc="-1" strike="noStrike">
                <a:solidFill>
                  <a:srgbClr val="3663bc"/>
                </a:solidFill>
                <a:latin typeface="Arial"/>
                <a:ea typeface="华文琥珀"/>
              </a:rPr>
              <a:t>歧山擀面皮做法很非凡，别处的米面皮和凉皮是把面调成糊状，放在特制的铁笼上  擀面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63bc"/>
                </a:solidFill>
                <a:latin typeface="Arial"/>
                <a:ea typeface="华文琥珀"/>
              </a:rPr>
              <a:t>蒸。而歧山擀面皮则是先擀成面，然后再蒸，蒸熟后再切成比凉皮稍宽的条状，吃法和米面皮基本一样，不同于米面皮的是，擀面皮口感较硬，韧度高，有筋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11T07:25:08Z</dcterms:modified>
  <cp:revision>1</cp:revision>
  <dc:subject/>
  <dc:title>PowerPoint 演示文稿</dc:title>
</cp:coreProperties>
</file>