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207-BF2B-4829-A35E-19D0A4B16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68A1-B25B-4EAA-8D92-548FC1882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D297-524D-4179-9D8F-D02F9ACBF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A3C2-9AD1-4FB3-A23E-FE9C2E8B8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78A-8A49-4B8F-A708-7D6DE7E6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6A7-6628-4452-8CE9-46118C6A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D0E8E-F945-4821-9DFD-8DD19BCC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8583A-FF9F-49FE-A51B-A9E90A6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14676-5EDF-4A37-AF29-1E5FDB2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8E8CB-9486-4D89-A0C2-F5D7B82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CB32E-B051-4E3F-A836-D8CCF173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9F65A-CC7F-4669-9DD4-BE6B769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722BE-ABC4-438D-8540-AA2F6E4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E0A5E-6C5A-45EC-B718-49D8CAD4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90B7A-ECE9-480A-AFDD-50E1C94E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5062A-8E55-49B8-B8F3-24B48E51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63D-E2DF-4814-A7C6-A1529C24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86F0C-F1B2-494C-B42F-40185C70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A5D59-21F5-4A08-AF04-D374CBA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6B165-C298-4364-AAE5-3D47BBDB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9482D-86B7-4A5E-93D6-E3FFCE02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4AB61-E0BC-4DF6-A47D-208336B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FDC6B-1B30-4AA8-BFAC-FE67D4E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5EEE7-657D-4264-B7A7-79D0E24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89406-45B3-4E70-8658-6E77F700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C0874-1A3D-4466-8102-D0D74E2E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6FD3C-D5A2-4325-8200-58455CF1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522-0102-43ED-82E0-405E0B71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54C9A-CCED-4BC6-81FF-C1D9D2AE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F598C-5CCF-4E34-9CC8-509CE93C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9CBAB-6557-4AFC-8A32-1D7A3107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C395E-8A29-46B9-A832-518395EA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12C16-431D-46C8-8B60-41A17EE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88016-B390-4C3C-A5AE-B4DCEA16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576DB-4DEE-4690-8787-646C5F1F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3A22B-7A0D-4CD6-AE49-F67D70D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D81D8-CC48-4AC2-BB4E-683C4BB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942C7-1B40-4F1B-89DF-D5F72FC8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DE5D-DBED-4098-B4FD-A8673A83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9B7AD-84D3-41D3-9611-AEEB5F5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FB564-1E27-42FC-AAE5-1D764B6F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D082C-8B6D-434D-BECC-3D5227CD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A8453-D56E-43E1-82D4-8535D40A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294CB-047B-47C1-9773-96092424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56092-1428-4BB9-B9A7-F894FB2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63958-0A75-447C-AB4D-2746D66E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0C036-FD48-4037-B82B-B164CC0C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0F673-E1AE-44E5-959E-9D4B4773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76577-3697-4EB5-B9F2-E13DB88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0D4C-5104-4BB5-8795-F2C86751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D3E32-186C-4614-9137-99E1289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2D4A6-66B9-4CD7-8BDC-49674D5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D348F-F95E-43AB-9926-6A567D26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0BDEB-D3BF-4C25-823D-43446F07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E7A1A-EFF1-4948-8ED7-B68404C7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77DA7-5EBC-4709-9B73-0BFB8493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16E8D-C9E1-4DDD-A98A-AE127FE0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29F9D-1EF2-4D8B-BAA8-B01E51BD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AEF0C-3086-445F-A779-A6E1CA3C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14597-3AD6-4028-80AE-72773061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0864-F846-44E1-BE88-9C506F3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88700-F141-4DA7-BAAE-BAB573FB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3838A-F141-4963-A0E6-4388FA52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D9DE1-672F-489A-BE07-0ED52D16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E237E-736D-4CA3-A949-762CD93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399A7-882F-4B30-AA9B-914BD18B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0E681-C0EE-4F56-ABB8-BB923B8D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95C08-8F9E-48A3-A2E6-83A74395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3A2B-D4C3-4A30-A98B-FC2EE1CB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DF02-6F29-47F0-A3EF-83EEA73E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9ABB-0A9C-45CC-AAA0-00CED196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C71E-2031-470C-BDB2-F2E66B9D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EDA-7BD3-4190-B48E-3D672C41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3401-BD16-4363-9066-25DCBA6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E580-9085-4DF4-BB1F-2AA73130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67C0-4F05-41AB-BA02-3B7A583A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74C8-DD3C-4F6F-B447-80D9F692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E9CA-45E0-4541-AA7D-719010A4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BA83-A5D3-4564-9FB5-BF7F5C57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B306-48C8-435B-8F62-63AA79E7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00F5-9468-418B-8F1D-937D6F8B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8520-5816-4DC4-915D-48418BF1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9AF2-FE4A-4F09-B0A9-11D53D95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D33-E4EE-4A04-98CE-1783951B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CE9D-6B6B-4CAE-9788-E493F0DF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F1CE-CF8E-4F34-BBCD-FF2F1A5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3854-9E87-4B97-9F62-1E7C1E95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CF10-3000-4F57-B04B-F5D67971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CFF9-B515-4437-9777-73C0E1A4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AB86-64EE-454E-AFCF-E1776546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54E04-E5E1-4367-BF25-CDD3E2A7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E529C-07D0-46CB-AF4E-20A5BC23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FF8B-8A25-4D93-83CF-FE1E6C15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6C5E-5016-4246-A77B-FCFE614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0E8-BD60-4964-91BF-7DB9265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519F8-2141-49A5-8646-01C2E4FC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D7FD-5353-498E-880A-AA9FAAEC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0069-50C4-4272-B4CE-86C407B7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A7A8-F304-4314-B655-27F4EA5D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1949-0EB8-4935-8205-BD70DFB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150F-AE1B-420F-98F3-1775A19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9D27-B29B-4140-958C-C984E1CB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E4D3-C948-4A66-9389-3B690D5C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2457-6207-4F3C-9FF5-F46424FA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56A5B-C935-49AF-BC3E-94F9285E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BAF-5989-4DA8-B711-47F1834A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559F3-EF5B-4C8F-9408-00A1DDE6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D02AF-1EBF-44BE-8B59-3828FCF0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6B50-9132-4F30-A43E-8AFE9DD3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B66D2-D2D6-4B76-B601-F327762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A49E8-E1C1-4C61-9E4E-9AC167A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5EFC-4DAA-498F-96A1-4B24353A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88A1B-5D99-4BF2-8570-649F4EBA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C368-9B2C-49F0-96A4-D4A0F843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DB78-194D-4B88-BB74-EC49929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581EC-7166-4C4E-AD5A-B1158A9E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56B-5712-4524-BB2D-8D994D3B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41C5-FAF5-4696-AF69-42820077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691D8-62AA-492D-87E1-7DE124C0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4800-4DA5-483B-BA02-4A28C646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EB45-83BC-4B07-8BFA-08B868AC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8FD50-9671-403F-9CB9-FB96104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244E7-F6BC-4D00-80D1-7C781CD2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310B-B9D1-4BBE-ADA2-FD57AAD7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27A46-DF93-4789-A808-810DFAD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B7C0A-311D-4F37-9D6E-9DFAEAE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68EEC-AD2D-4851-8878-7EF549DA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06E-AC6B-4505-B7CA-C31218B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999B-E22B-44C9-AE69-7ACF806D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70E4-DDEF-4A8F-AA13-A19BED51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20ED7-B105-4227-813A-B97FA991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BA96C-6654-4372-932A-F060900E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502B8-94B2-42A2-B487-7F37CCC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DA327-F29E-4D5E-A92C-FB2D609B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22C74-5018-4519-9F5E-F33CD5CA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E82D5-8587-452E-87EE-00444F3B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125F-7BBC-4658-8815-97FD208F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E262-0C5D-4135-B347-FA1C097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688-214F-439E-94FE-C34FFD63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D5AD0-4259-47D2-91A0-9CACA16A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9C585-4473-43C1-90BC-112F54C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1682-F7DC-4309-9064-22D20E8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AAD78-D03A-4DF9-B4D2-ECC8D114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FCE2E-3408-436A-A0D5-993988F2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74F26-275D-4E81-A660-BE7E953B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9B431-0845-42D1-871F-389C5E30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C4378-ACF7-4B94-A92B-CA332242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65012-753F-4E89-A4E1-EF09549F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A8C6-23F4-42AD-B2E0-614DC50C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FC2-03A5-4F0F-8B0F-1CC741D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4DDBB-B4CC-4ADA-B91E-6052F3AD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23E7D-E3AC-4D38-B8CF-C0148321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B7B4-FEC9-4E9C-9C5E-3497DEC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CCD66-8F89-435D-9187-60889425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210A9-CEE6-4D0D-98CC-A2DE9CA3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000D-7E8C-4761-8CA8-FD9CD9D6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8FA88-0402-4E5E-BCF8-F43FFC14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CA686-99C7-4826-9FA7-7E17281B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D342-199D-430E-8A5E-925F978D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3586B-DFD9-4C0B-AD0C-B6A9D3C7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1032-495A-4816-9699-7D48817FD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903C-85EF-4038-ADC8-2B0D246395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BA4-67EB-4BDE-8D8A-7AE63CAF4B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E96-1278-4112-9EA2-4317CC4F64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B2EB-4781-45D3-9840-35C0897C30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2FA0-B39B-4AB4-94A4-5DE607648F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55D-F12A-4F9B-8B55-667D97EA5F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F19B-C2F7-4DC3-A095-37D1FBCCCB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6A1-69D9-4CBF-8993-61811DF007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FA51-178D-4696-8FED-14EE7DA382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7E7E-7675-4D25-861D-3E0BC42C37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90EE-57D8-45F0-8B51-59C41BBFDC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8B20-6253-486D-907F-9FE6A9AF17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8C5E-4AD9-4D8E-B49E-773BAAD272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3A01-DD9F-4D45-B938-B4A46CBD25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460-94C1-4F5C-A7D4-7320A0334C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B0DF-6A7C-4BED-939E-2A90892CA3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0FB5-B095-4F05-A9C4-A5D8AA250E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7E8-F912-4AC4-9CFF-E30250A9FE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1240-906D-4434-9FBD-5AE7C34E3B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5D40-95C7-488C-918F-2DD7EC0067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B3A7-FADD-49FB-9384-2108F247B2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E77D-5D46-4D4C-9C06-110D0493CE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ADFC-CE4D-4757-9E60-4F9887368E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005-1CBD-456A-AF0E-3C6365149C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AutoShape 9"/>
          <p:cNvSpPr/>
          <p:nvPr/>
        </p:nvSpPr>
        <p:spPr>
          <a:xfrm rot="1759200">
            <a:off x="3657240" y="3580920"/>
            <a:ext cx="762120" cy="457200"/>
          </a:xfrm>
          <a:custGeom>
            <a:avLst/>
            <a:gdLst>
              <a:gd name="textAreaLeft" fmla="*/ 325080 w 762120"/>
              <a:gd name="textAreaRight" fmla="*/ 437040 w 762120"/>
              <a:gd name="textAreaTop" fmla="*/ 195120 h 457200"/>
              <a:gd name="textAreaBottom" fmla="*/ 262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0"/>
          <p:cNvSpPr/>
          <p:nvPr/>
        </p:nvSpPr>
        <p:spPr>
          <a:xfrm rot="2973000">
            <a:off x="2552400" y="1485720"/>
            <a:ext cx="609480" cy="838440"/>
          </a:xfrm>
          <a:custGeom>
            <a:avLst/>
            <a:gdLst>
              <a:gd name="textAreaLeft" fmla="*/ 259920 w 609480"/>
              <a:gd name="textAreaRight" fmla="*/ 349560 w 609480"/>
              <a:gd name="textAreaTop" fmla="*/ 357840 h 838440"/>
              <a:gd name="textAreaBottom" fmla="*/ 4806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1"/>
          <p:cNvSpPr/>
          <p:nvPr/>
        </p:nvSpPr>
        <p:spPr>
          <a:xfrm rot="18514200">
            <a:off x="7124400" y="5371560"/>
            <a:ext cx="762120" cy="838080"/>
          </a:xfrm>
          <a:custGeom>
            <a:avLst/>
            <a:gdLst>
              <a:gd name="textAreaLeft" fmla="*/ 325080 w 762120"/>
              <a:gd name="textAreaRight" fmla="*/ 437040 w 76212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2"/>
          <p:cNvSpPr/>
          <p:nvPr/>
        </p:nvSpPr>
        <p:spPr>
          <a:xfrm rot="1759200">
            <a:off x="7086240" y="380880"/>
            <a:ext cx="685800" cy="838440"/>
          </a:xfrm>
          <a:custGeom>
            <a:avLst/>
            <a:gdLst>
              <a:gd name="textAreaLeft" fmla="*/ 292680 w 685800"/>
              <a:gd name="textAreaRight" fmla="*/ 393120 w 685800"/>
              <a:gd name="textAreaTop" fmla="*/ 357840 h 838440"/>
              <a:gd name="textAreaBottom" fmla="*/ 4806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3"/>
          <p:cNvSpPr/>
          <p:nvPr/>
        </p:nvSpPr>
        <p:spPr>
          <a:xfrm rot="21459000">
            <a:off x="5562360" y="2362320"/>
            <a:ext cx="685800" cy="609480"/>
          </a:xfrm>
          <a:custGeom>
            <a:avLst/>
            <a:gdLst>
              <a:gd name="textAreaLeft" fmla="*/ 292680 w 685800"/>
              <a:gd name="textAreaRight" fmla="*/ 393120 w 685800"/>
              <a:gd name="textAreaTop" fmla="*/ 259920 h 609480"/>
              <a:gd name="textAreaBottom" fmla="*/ 349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4"/>
          <p:cNvSpPr/>
          <p:nvPr/>
        </p:nvSpPr>
        <p:spPr>
          <a:xfrm rot="1759200">
            <a:off x="7543800" y="2286000"/>
            <a:ext cx="762120" cy="838080"/>
          </a:xfrm>
          <a:custGeom>
            <a:avLst/>
            <a:gdLst>
              <a:gd name="textAreaLeft" fmla="*/ 325080 w 762120"/>
              <a:gd name="textAreaRight" fmla="*/ 437040 w 76212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5"/>
          <p:cNvSpPr/>
          <p:nvPr/>
        </p:nvSpPr>
        <p:spPr>
          <a:xfrm rot="1759200">
            <a:off x="1523880" y="3886200"/>
            <a:ext cx="838440" cy="588960"/>
          </a:xfrm>
          <a:custGeom>
            <a:avLst/>
            <a:gdLst>
              <a:gd name="textAreaLeft" fmla="*/ 357840 w 838440"/>
              <a:gd name="textAreaRight" fmla="*/ 480600 w 838440"/>
              <a:gd name="textAreaTop" fmla="*/ 251280 h 588960"/>
              <a:gd name="textAreaBottom" fmla="*/ 337680 h 58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6"/>
          <p:cNvSpPr/>
          <p:nvPr/>
        </p:nvSpPr>
        <p:spPr>
          <a:xfrm rot="1759200">
            <a:off x="7772400" y="4114800"/>
            <a:ext cx="838080" cy="588960"/>
          </a:xfrm>
          <a:custGeom>
            <a:avLst/>
            <a:gdLst>
              <a:gd name="textAreaLeft" fmla="*/ 357480 w 838080"/>
              <a:gd name="textAreaRight" fmla="*/ 480600 w 838080"/>
              <a:gd name="textAreaTop" fmla="*/ 251280 h 588960"/>
              <a:gd name="textAreaBottom" fmla="*/ 337680 h 58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7"/>
          <p:cNvSpPr/>
          <p:nvPr/>
        </p:nvSpPr>
        <p:spPr>
          <a:xfrm rot="2020200">
            <a:off x="1447560" y="5486040"/>
            <a:ext cx="457200" cy="762120"/>
          </a:xfrm>
          <a:custGeom>
            <a:avLst/>
            <a:gdLst>
              <a:gd name="textAreaLeft" fmla="*/ 188280 w 457200"/>
              <a:gd name="textAreaRight" fmla="*/ 268920 w 45720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18"/>
          <p:cNvSpPr/>
          <p:nvPr/>
        </p:nvSpPr>
        <p:spPr>
          <a:xfrm rot="1404600">
            <a:off x="304560" y="2743200"/>
            <a:ext cx="914400" cy="990720"/>
          </a:xfrm>
          <a:custGeom>
            <a:avLst/>
            <a:gdLst>
              <a:gd name="textAreaLeft" fmla="*/ 407880 w 914400"/>
              <a:gd name="textAreaRight" fmla="*/ 506520 w 914400"/>
              <a:gd name="textAreaTop" fmla="*/ 442080 h 990720"/>
              <a:gd name="textAreaBottom" fmla="*/ 548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39" y="9639"/>
                </a:lnTo>
                <a:lnTo>
                  <a:pt x="10800" y="0"/>
                </a:lnTo>
                <a:lnTo>
                  <a:pt x="11961" y="9639"/>
                </a:lnTo>
                <a:lnTo>
                  <a:pt x="21600" y="10800"/>
                </a:lnTo>
                <a:lnTo>
                  <a:pt x="11961" y="11961"/>
                </a:lnTo>
                <a:lnTo>
                  <a:pt x="10800" y="21600"/>
                </a:lnTo>
                <a:lnTo>
                  <a:pt x="9639" y="1196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9"/>
          <p:cNvSpPr/>
          <p:nvPr/>
        </p:nvSpPr>
        <p:spPr>
          <a:xfrm rot="3251400">
            <a:off x="4401720" y="4208040"/>
            <a:ext cx="720720" cy="838080"/>
          </a:xfrm>
          <a:custGeom>
            <a:avLst/>
            <a:gdLst>
              <a:gd name="textAreaLeft" fmla="*/ 307440 w 720720"/>
              <a:gd name="textAreaRight" fmla="*/ 413280 w 72072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51" descr=""/>
          <p:cNvPicPr/>
          <p:nvPr/>
        </p:nvPicPr>
        <p:blipFill>
          <a:blip r:embed="rId2"/>
          <a:srcRect l="0" t="0" r="-28" b="1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3"/>
          <p:cNvSpPr/>
          <p:nvPr/>
        </p:nvSpPr>
        <p:spPr>
          <a:xfrm>
            <a:off x="4886280" y="944640"/>
            <a:ext cx="54936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4"/>
          <p:cNvSpPr/>
          <p:nvPr/>
        </p:nvSpPr>
        <p:spPr>
          <a:xfrm>
            <a:off x="4886280" y="1020600"/>
            <a:ext cx="54936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5"/>
          <p:cNvSpPr/>
          <p:nvPr/>
        </p:nvSpPr>
        <p:spPr>
          <a:xfrm>
            <a:off x="4728600" y="-875880"/>
            <a:ext cx="139932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爱迪生救妈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3"/>
          <p:cNvSpPr/>
          <p:nvPr/>
        </p:nvSpPr>
        <p:spPr>
          <a:xfrm>
            <a:off x="838080" y="12193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5"/>
          <p:cNvSpPr/>
          <p:nvPr/>
        </p:nvSpPr>
        <p:spPr>
          <a:xfrm>
            <a:off x="533520" y="182880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手术做得很成功，妈妈得救了。医生夸奖爱迪生，说：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今天多亏了这个小家伙，他真是个聪明的孩子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26"/>
          <p:cNvSpPr/>
          <p:nvPr/>
        </p:nvSpPr>
        <p:spPr>
          <a:xfrm>
            <a:off x="1660680" y="261144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28" descr="D:\html\东方网页王\resource\按钮背景\oval_yellow.gif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29"/>
          <p:cNvSpPr/>
          <p:nvPr/>
        </p:nvSpPr>
        <p:spPr>
          <a:xfrm>
            <a:off x="428760" y="271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5"/>
          <p:cNvSpPr/>
          <p:nvPr/>
        </p:nvSpPr>
        <p:spPr>
          <a:xfrm>
            <a:off x="609480" y="175248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04920" y="220176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爱迪生是一位伟大的发明家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他从小就爱动脑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常常想出一些好主意。有一次，他靠自己的聪明救了妈妈的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27" descr="D:\html\东方网页王\resource\按钮背景\oval_yellow.gif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28"/>
          <p:cNvSpPr/>
          <p:nvPr/>
        </p:nvSpPr>
        <p:spPr>
          <a:xfrm>
            <a:off x="428760" y="271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E:\button78.gif"/>
          <p:cNvPicPr/>
          <p:nvPr/>
        </p:nvPicPr>
        <p:blipFill>
          <a:blip r:embed="rId2"/>
          <a:stretch/>
        </p:blipFill>
        <p:spPr>
          <a:xfrm>
            <a:off x="304920" y="15494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E:\button78.gif"/>
          <p:cNvPicPr/>
          <p:nvPr/>
        </p:nvPicPr>
        <p:blipFill>
          <a:blip r:embed="rId3"/>
          <a:stretch/>
        </p:blipFill>
        <p:spPr>
          <a:xfrm>
            <a:off x="304920" y="24638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6" descr="E:\button78.gif"/>
          <p:cNvPicPr/>
          <p:nvPr/>
        </p:nvPicPr>
        <p:blipFill>
          <a:blip r:embed="rId4"/>
          <a:stretch/>
        </p:blipFill>
        <p:spPr>
          <a:xfrm>
            <a:off x="380880" y="360684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7"/>
          <p:cNvSpPr/>
          <p:nvPr/>
        </p:nvSpPr>
        <p:spPr>
          <a:xfrm>
            <a:off x="9144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914400" y="15080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有志者，事竟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066680" y="3519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自信是成功的第一秘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990720" y="2452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天才是百分之一的灵感，加百分之九十九的血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13" descr="D:\html\东方网页王\resource\按钮背景\oval_yellow.gif"/>
          <p:cNvPicPr/>
          <p:nvPr/>
        </p:nvPicPr>
        <p:blipFill>
          <a:blip r:embed="rId5"/>
          <a:stretch/>
        </p:blipFill>
        <p:spPr>
          <a:xfrm>
            <a:off x="0" y="0"/>
            <a:ext cx="1600200" cy="9748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1"/>
          <p:cNvSpPr/>
          <p:nvPr/>
        </p:nvSpPr>
        <p:spPr>
          <a:xfrm>
            <a:off x="1066680" y="4554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良好的个性胜于卓越的才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1432080" y="5735520"/>
            <a:ext cx="374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5"/>
          <p:cNvSpPr/>
          <p:nvPr/>
        </p:nvSpPr>
        <p:spPr>
          <a:xfrm>
            <a:off x="555480" y="418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6" descr="E:\button78.gif"/>
          <p:cNvPicPr/>
          <p:nvPr/>
        </p:nvPicPr>
        <p:blipFill>
          <a:blip r:embed="rId6"/>
          <a:stretch/>
        </p:blipFill>
        <p:spPr>
          <a:xfrm>
            <a:off x="380880" y="45975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27"/>
          <p:cNvSpPr/>
          <p:nvPr/>
        </p:nvSpPr>
        <p:spPr>
          <a:xfrm>
            <a:off x="555480" y="509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9"/>
          <p:cNvSpPr/>
          <p:nvPr/>
        </p:nvSpPr>
        <p:spPr>
          <a:xfrm>
            <a:off x="762120" y="571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1"/>
          <p:cNvSpPr/>
          <p:nvPr/>
        </p:nvSpPr>
        <p:spPr>
          <a:xfrm>
            <a:off x="76320" y="152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会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2"/>
          <p:cNvSpPr/>
          <p:nvPr/>
        </p:nvSpPr>
        <p:spPr>
          <a:xfrm>
            <a:off x="3124080" y="457200"/>
            <a:ext cx="4496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爱迪生名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3"/>
          <p:cNvSpPr txBox="1"/>
          <p:nvPr/>
        </p:nvSpPr>
        <p:spPr>
          <a:xfrm>
            <a:off x="1523880" y="3048120"/>
            <a:ext cx="6400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明天学得更开心！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1" name="WordArt 4"/>
          <p:cNvSpPr txBox="1"/>
          <p:nvPr/>
        </p:nvSpPr>
        <p:spPr>
          <a:xfrm>
            <a:off x="838080" y="609480"/>
            <a:ext cx="51055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开心！开心！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533520" y="1371600"/>
            <a:ext cx="80769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那一年，爱迪生刚满七岁。一天，妈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突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肚子痛，疼得在床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直打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爸爸急忙骑马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几十里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去请医生。太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快落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时候，医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来了。一检查，原来妈妈得的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急性阑尾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需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马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做手术。上医院已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来不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了，医生决定在家里做手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7" descr="D:\html\东方网页王\resource\按钮背景\oval_yellow.gif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2"/>
          <p:cNvSpPr/>
          <p:nvPr/>
        </p:nvSpPr>
        <p:spPr>
          <a:xfrm>
            <a:off x="428760" y="285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D:\030_2.gif"/>
          <p:cNvPicPr/>
          <p:nvPr/>
        </p:nvPicPr>
        <p:blipFill>
          <a:blip r:embed="rId2"/>
          <a:stretch/>
        </p:blipFill>
        <p:spPr>
          <a:xfrm>
            <a:off x="8064360" y="5958000"/>
            <a:ext cx="468360" cy="539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1" descr="E:\button78.gif"/>
          <p:cNvPicPr/>
          <p:nvPr/>
        </p:nvPicPr>
        <p:blipFill>
          <a:blip r:embed="rId3"/>
          <a:stretch/>
        </p:blipFill>
        <p:spPr>
          <a:xfrm>
            <a:off x="533520" y="19810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2" descr="E:\button78.gif"/>
          <p:cNvPicPr/>
          <p:nvPr/>
        </p:nvPicPr>
        <p:blipFill>
          <a:blip r:embed="rId4"/>
          <a:stretch/>
        </p:blipFill>
        <p:spPr>
          <a:xfrm>
            <a:off x="533520" y="32004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3" descr="E:\button78.gif"/>
          <p:cNvPicPr/>
          <p:nvPr/>
        </p:nvPicPr>
        <p:blipFill>
          <a:blip r:embed="rId5"/>
          <a:stretch/>
        </p:blipFill>
        <p:spPr>
          <a:xfrm>
            <a:off x="533520" y="42670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14"/>
          <p:cNvSpPr/>
          <p:nvPr/>
        </p:nvSpPr>
        <p:spPr>
          <a:xfrm>
            <a:off x="9144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1143000" y="1676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医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环顾四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迟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了片刻，说：“房间里光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太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没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做手术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8"/>
          <p:cNvSpPr/>
          <p:nvPr/>
        </p:nvSpPr>
        <p:spPr>
          <a:xfrm>
            <a:off x="1219320" y="419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医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还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摇头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连连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不行。大家急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团团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30"/>
          <p:cNvSpPr/>
          <p:nvPr/>
        </p:nvSpPr>
        <p:spPr>
          <a:xfrm>
            <a:off x="12193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爸爸说：“那就多点几盏油灯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5"/>
          <p:cNvSpPr/>
          <p:nvPr/>
        </p:nvSpPr>
        <p:spPr>
          <a:xfrm>
            <a:off x="6219720" y="5943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D:\html\东方网页王\resource\按钮背景\oval_yellow.gif"/>
          <p:cNvPicPr/>
          <p:nvPr/>
        </p:nvPicPr>
        <p:blipFill>
          <a:blip r:embed="rId2"/>
          <a:stretch/>
        </p:blipFill>
        <p:spPr>
          <a:xfrm>
            <a:off x="7086600" y="5867280"/>
            <a:ext cx="1905120" cy="9144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6"/>
          <p:cNvSpPr/>
          <p:nvPr/>
        </p:nvSpPr>
        <p:spPr>
          <a:xfrm>
            <a:off x="7391520" y="5943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"/>
          <p:cNvPicPr/>
          <p:nvPr/>
        </p:nvPicPr>
        <p:blipFill>
          <a:blip r:embed="rId1"/>
          <a:srcRect l="0" t="4442" r="49982" b="67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2"/>
          <p:cNvSpPr/>
          <p:nvPr/>
        </p:nvSpPr>
        <p:spPr>
          <a:xfrm>
            <a:off x="533520" y="533520"/>
            <a:ext cx="8305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，爱迪生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溜烟似的奔出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门。不一会儿，他回来了，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捧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面明晃晃的大镜子，身后还跟着好几个小男孩，每个人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捧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面大镜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762120" y="3657600"/>
            <a:ext cx="77724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迪生让小伙伴们站在点燃的油灯旁边，由于镜子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把光聚在一起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病床上一下子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亮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"/>
          <p:cNvPicPr/>
          <p:nvPr/>
        </p:nvPicPr>
        <p:blipFill>
          <a:blip r:embed="rId1"/>
          <a:srcRect l="0" t="4442" r="49982" b="67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2"/>
          <p:cNvSpPr/>
          <p:nvPr/>
        </p:nvSpPr>
        <p:spPr>
          <a:xfrm>
            <a:off x="1295280" y="1219320"/>
            <a:ext cx="65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一见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急又气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斥责道：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什么时候了，还胡闹！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迪生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委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说：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没胡闹，我想出办法了。不信你瞧！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8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39" descr="D:\html\东方网页王\resource\按钮背景\oval_yellow.gif"/>
          <p:cNvPicPr/>
          <p:nvPr/>
        </p:nvPicPr>
        <p:blipFill>
          <a:blip r:embed="rId1"/>
          <a:stretch/>
        </p:blipFill>
        <p:spPr>
          <a:xfrm>
            <a:off x="0" y="0"/>
            <a:ext cx="2590920" cy="914400"/>
          </a:xfrm>
          <a:prstGeom prst="rect">
            <a:avLst/>
          </a:prstGeom>
          <a:ln w="0">
            <a:noFill/>
          </a:ln>
        </p:spPr>
      </p:pic>
      <p:pic>
        <p:nvPicPr>
          <p:cNvPr id="577" name="Object 5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26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" descr="D:\html\东方网页王\resource\按钮背景\oval_yellow.gif"/>
          <p:cNvPicPr/>
          <p:nvPr/>
        </p:nvPicPr>
        <p:blipFill>
          <a:blip r:embed="rId3"/>
          <a:stretch/>
        </p:blipFill>
        <p:spPr>
          <a:xfrm>
            <a:off x="0" y="0"/>
            <a:ext cx="2590920" cy="9144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5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议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"/>
          <p:cNvPicPr/>
          <p:nvPr/>
        </p:nvPicPr>
        <p:blipFill>
          <a:blip r:embed="rId1"/>
          <a:srcRect l="0" t="0" r="40" b="0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Object 2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82400" cy="4953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762120" y="16002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恍然大悟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09480" y="175248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609480" y="243828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形容一下子明白过来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6" descr="E:\button104.gif"/>
          <p:cNvPicPr/>
          <p:nvPr/>
        </p:nvPicPr>
        <p:blipFill>
          <a:blip r:embed="rId3"/>
          <a:stretch/>
        </p:blipFill>
        <p:spPr>
          <a:xfrm>
            <a:off x="380880" y="3733920"/>
            <a:ext cx="457200" cy="52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E:\button103.gif"/>
          <p:cNvPicPr/>
          <p:nvPr/>
        </p:nvPicPr>
        <p:blipFill>
          <a:blip r:embed="rId4"/>
          <a:stretch/>
        </p:blipFill>
        <p:spPr>
          <a:xfrm>
            <a:off x="380880" y="5181480"/>
            <a:ext cx="457200" cy="5223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9"/>
          <p:cNvSpPr/>
          <p:nvPr/>
        </p:nvSpPr>
        <p:spPr>
          <a:xfrm>
            <a:off x="1066680" y="3657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看到病床上一下子亮堂起来的时候，爸爸恍然大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11" descr="D:\html\东方网页王\resource\按钮背景\oval_yellow.gif"/>
          <p:cNvPicPr/>
          <p:nvPr/>
        </p:nvPicPr>
        <p:blipFill>
          <a:blip r:embed="rId5"/>
          <a:stretch/>
        </p:blipFill>
        <p:spPr>
          <a:xfrm>
            <a:off x="228600" y="2286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2"/>
          <p:cNvSpPr/>
          <p:nvPr/>
        </p:nvSpPr>
        <p:spPr>
          <a:xfrm>
            <a:off x="380880" y="304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会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3"/>
          <p:cNvSpPr/>
          <p:nvPr/>
        </p:nvSpPr>
        <p:spPr>
          <a:xfrm>
            <a:off x="1469880" y="502128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4"/>
          <p:cNvSpPr/>
          <p:nvPr/>
        </p:nvSpPr>
        <p:spPr>
          <a:xfrm>
            <a:off x="1219320" y="5257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我看见爸爸拿出蛋糕时，才恍然大悟：原来，今天是妈妈的生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5"/>
          <p:cNvSpPr/>
          <p:nvPr/>
        </p:nvSpPr>
        <p:spPr>
          <a:xfrm>
            <a:off x="1508040" y="466884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1698480" y="5021280"/>
            <a:ext cx="31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5:47:03Z</dcterms:created>
  <dc:creator>冯建明</dc:creator>
  <dc:description/>
  <dc:language>en-US</dc:language>
  <cp:lastModifiedBy>a</cp:lastModifiedBy>
  <dcterms:modified xsi:type="dcterms:W3CDTF">2015-03-17T05:54:38Z</dcterms:modified>
  <cp:revision>86</cp:revision>
  <dc:subject/>
  <dc:title>PowerPoint 演示文稿</dc:title>
</cp:coreProperties>
</file>