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929A-EDD1-468B-9E0C-C84A096815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DC85-B66D-4B51-90D2-186E2224B3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我们看看根据史料和杜牧的《阿房宫赋》绘制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阿房宫复原效果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。大家谈谈自己的印象（说的训练）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2036-A6FE-40D8-BB93-8625FC2E70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听的训练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F802-4B6B-4AB6-BA63-53FA2146BB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概括能力的训练，文章详写的是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52E-B398-4215-A05C-8B16584B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6C2-DB3E-46F8-A0C8-0902F9F9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53564-66B4-4E95-8A28-2200B27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B4727-3175-44AF-BE06-67EF163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D6B61-19A1-4F12-A005-838D561C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0FDF1-66D2-4B03-9188-948E383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08A7B-7AC6-4412-ADE5-BF3CE1C1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428D7-78CF-4D37-B445-2BA2F1B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57090-8813-40CF-9A20-830BFB6A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655B5-839F-4F22-9256-86282A9F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D7BFF-D7F5-4E3F-8CA3-27EFB6DC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8D1DA-AFA4-494E-ADBB-A1D6A34E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69A-FD56-4A5B-831D-64E06131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443B6-DF84-4292-9633-0B27C32E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52D37-D9B8-4127-BDEF-38FD4510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756B2-79E3-44DF-A008-92F8CBF6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444C8-7F1A-47D7-A13F-34D8DDA2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93594-996C-42FE-B033-81251D9D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0F495-650F-4545-A47D-4CB097F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A40DB-0816-4221-BBAA-488B64D7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60AD5-7DE9-44EA-A9A5-0330C0F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4904D-31BA-4427-B705-6C7130AA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60E16-ECA1-4780-84EA-1F87AF8D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E3D-81AF-49AE-8DBE-1DEFA89D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134E7-7DF6-45EC-BD73-15E2382B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6E780-8438-440E-AD91-DB4A2C76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C1FAE-E5B6-497F-821C-615E31E5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8BE60-D2F8-4555-9966-C27170AE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BA0FC-68EA-4CBD-9AD7-A62ED628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0E410-22E2-4C92-9632-00CB1B10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1893A-798D-472A-878A-F2BCD9FA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AF686-BFC8-4802-827B-10E7F1F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5EF11-A198-4D3F-8152-659628A6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7DF0B-A90F-4C72-8886-3367E2B8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1FA1-E865-4FEE-AA34-64163714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EE3F6-C2DA-4826-9E0D-63DEF31E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85FFC-37AE-4921-80A2-8AAF6BE9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7C7B5-3775-45BA-9346-3827BD9B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3CFAB-2157-4AED-BEB1-15713D7E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12EFD-59C8-4FC1-BF2A-E5AC6B26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DA5E2-B300-4538-9706-A1DB57EA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B2730-7E04-42D3-9A94-4B7C58CF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38100-7D1F-46FE-8254-570B5441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3E3E0-E4C0-4B2D-9F5E-1DF0A6BA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AE0DB-4685-4ADB-9AD1-E9769FEF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A923-7D76-409D-8610-0EE1C180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77A78-F2EB-48EB-9E67-47A4A739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503EA-5AA6-422E-AC82-FA53818B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DE507-33CF-4068-B42A-46E34C14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BF488-5BCA-4F3D-B9D6-ED7D086C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FD7B7-7C7C-433B-8F65-6F2C164D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8E04B-3D45-437E-BABD-870383DA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5E649-BCFF-4A41-8681-A74E4CD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73915-94C0-40EF-A687-8F8FF400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ECC93-3DBA-4714-8941-F923D495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AC816-CC57-45E0-9C71-99D5F76D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A6DB-25E3-403B-A6DE-3907A4D5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0A63A-71A9-4B8D-A327-0D9E8D3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B9C93-3946-4CEB-BB69-F573767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0A6A3-9F9B-4044-931E-6FBC438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6766A-99EC-49A3-82E9-5916E1AC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78EE3-3674-4416-B7A6-C763F586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980DA-D88D-44E1-9DC3-ADFFD0CF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83F3B-8767-4D97-9F5A-183AD2F4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B23D-FE26-4C9B-9CDD-FE266D6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0F9E-420E-4DBF-A964-E68B8BF1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58CA-30C5-4797-B531-FC75AE21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8F02-FB6A-488F-B00E-AF89AA6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E6A-F438-4F80-994B-DDAF4D66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D701-7A93-4B76-BDBF-F4EEB9C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4FF4-CE0C-4365-A79C-C05FD80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62CC-3385-4CA7-A051-6B9AE700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4F73-CD21-46E5-B645-B207D523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706B-103A-41A4-A421-27E9F28A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8581-76EF-4E98-B4E0-A6C62DAB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44FB-6985-42D8-BEBA-AF6EFDCF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3708-6BAD-4D71-AB54-D983B915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05D8-6E9A-4FB8-854A-025B7471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3C8E-9EDF-4970-8FFC-450B8F0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50F-B39C-4A1F-B3B4-76DA8BC4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396E-8B7E-45BE-A489-E18CA643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6E7E-342E-47D1-A2FE-EC19887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3410-B0FE-4335-A0BC-1AC20176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2C6E-4A5F-4EB5-BD32-67C74303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C619-E883-4DB9-B3A2-916F63B1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327F-78EE-4366-8917-7309D077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5DB6-6B74-4A24-A0D7-E360EE33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D439-5954-4523-9E20-AA2CD868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EE18-6517-4C91-A6F5-02A04008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FECEB-CFFB-43E3-8ABE-D7C842E7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94B-50B1-41AC-BF1F-D4620075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02EF-8B04-442C-91F9-A759F785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0A44-6882-40C3-A13B-EE72DF87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F5A5-D28C-4E8F-988B-D1BE2525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B352-57FC-415B-B56A-7B371026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8FBB2-DDB6-45BB-8C23-6F63E7B9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EB31-2755-48FE-B27D-5EAA8A21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B9B67-7A0E-459D-ADED-CD636E9E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E4FD-B7EB-40D9-B0CB-9AA24EB7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D10FF-280B-42EE-BD4D-AD8E6E56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7631-CC72-42DD-971A-A02F9BBB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C62-154A-423B-B0E5-CA37DFFB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46E58-C34D-463E-80B8-05A6B213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FCC85-BFF1-4C48-89D9-A74B3D99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D93AE-D02C-4048-9825-A0FD0C4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419C-7973-487A-AD76-FA2529AE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8572C-7CEC-40DD-A1B8-C49927CC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1009-B2C4-42B4-AD80-53C292F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76D9-5417-4504-BD38-AF33A31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6AD12-C229-4240-8911-07BF0B65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802D5-7801-4909-985D-620DAAC0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8268-C073-4586-938F-C6748129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24D-1607-4FF4-94E9-5EA338CE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6DD5B-755F-4AFE-818C-85C571AC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FB05-A1CA-42D1-A54D-C5D0E1C7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A9030-3095-4D4B-86A7-235429F6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E2ED-BFFE-4401-BE6F-8A1E2BD5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C8D6E-C1E4-442B-B4C0-0738396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76BDF-3D2F-4563-82D3-CE2468BE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5EE30-2292-4A42-8080-DC002045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ADF0F-E7E8-44F2-99E8-C74EDC49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48673-A8CE-4959-9ABE-BB9FC5A5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BDC9-FDA3-4596-A024-CE0DF3B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1C4-3309-4C19-81F0-8AAC667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B8C4-5821-4985-BE46-36214A76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2BA1D-8896-40CF-9619-1B04ACF2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ACC87-5F8A-48A4-A87E-19EE1725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CD389-0938-4579-A530-64BEB355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FEC70-DBFD-4C47-86E9-9A4F8AAF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18BBA-5012-4F73-AEE1-F8312FA7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78687-199B-4D9C-9B16-3C44AC48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CD1F8-6865-4A52-B6AD-FDBA1BC8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794BE-3A20-401A-8875-93AE16FF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26BA2-0504-4338-AD84-F54952F1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6D2-8FC8-4103-8199-8F68E16E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7A704-C07A-4801-AC39-29BD3C4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C8803-7DAF-4C10-B445-4ABB1361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35E4B-320D-489C-95EF-92FEC380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C2A2D-4828-461D-BA5B-2135474C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D88C-8521-4B6D-8874-D1007F6C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4587-9BFE-4832-9B1D-55DB4EBF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1639D-5DF2-4F4A-85C2-B52020ED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BCC7A-A820-4D4E-A200-C277E0F6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FB79-E068-4C6E-836B-F0B721C0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CFCC5-F53B-4DBD-A2C3-8865E8E2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BE0-F185-4FDA-9757-8A69716D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26CF5-EEB7-473E-999F-9B690577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9D6C7-9C56-486C-9453-E09025A8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081C7-877F-4545-9DF6-0232D51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B7A1-7C76-4677-9A22-BCE334D8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24890-D398-44E4-9032-ACFDF499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19A2D-4746-423A-B9CA-43353F00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82B53-C1B8-44A5-B702-91036859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D42B9-9CF4-4474-A117-887AE98E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8395E-9305-4694-AA51-6F8730C1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B2B72-2539-420B-A00A-3372CC65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0DFC-8222-478F-ACB0-9CC45D8A8B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7772400" y="5410080"/>
            <a:ext cx="1371600" cy="144792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447920"/>
              <a:gd name="textAreaBottom" fmla="*/ 1359360 h 1447920"/>
            </a:gdLst>
            <a:ahLst/>
            <a:rect l="textAreaLeft" t="textAreaTop" r="textAreaRight" b="textAreaBottom"/>
            <a:pathLst>
              <a:path w="21600" h="22802">
                <a:moveTo>
                  <a:pt x="0" y="0"/>
                </a:moveTo>
                <a:lnTo>
                  <a:pt x="21600" y="0"/>
                </a:lnTo>
                <a:lnTo>
                  <a:pt x="21600" y="22802"/>
                </a:lnTo>
                <a:lnTo>
                  <a:pt x="0" y="22802"/>
                </a:lnTo>
                <a:close/>
              </a:path>
              <a:path fill="lightenLess" w="21600" h="22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2">
                <a:moveTo>
                  <a:pt x="21600" y="0"/>
                </a:moveTo>
                <a:lnTo>
                  <a:pt x="21600" y="22802"/>
                </a:lnTo>
                <a:lnTo>
                  <a:pt x="20200" y="21402"/>
                </a:lnTo>
                <a:lnTo>
                  <a:pt x="20200" y="1400"/>
                </a:lnTo>
                <a:close/>
              </a:path>
              <a:path fill="darkenLess" w="21600" h="22802">
                <a:moveTo>
                  <a:pt x="21600" y="22802"/>
                </a:moveTo>
                <a:lnTo>
                  <a:pt x="0" y="22802"/>
                </a:lnTo>
                <a:lnTo>
                  <a:pt x="1400" y="21402"/>
                </a:lnTo>
                <a:lnTo>
                  <a:pt x="20200" y="21402"/>
                </a:lnTo>
                <a:close/>
              </a:path>
              <a:path fill="lighten" w="21600" h="22802">
                <a:moveTo>
                  <a:pt x="0" y="22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57150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10800"/>
                </a:moveTo>
                <a:lnTo>
                  <a:pt x="18527" y="3794"/>
                </a:lnTo>
                <a:lnTo>
                  <a:pt x="185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7AA8-B9F4-43F2-936C-DA9B8CDD92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9072-C09A-460F-A4D5-72975601D1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771E-F66C-4907-929E-781CF6C0E0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E59A-9058-4B9F-8611-04BE32379F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A727-8ED2-4F06-9D08-0D5D1F71D9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180E-C70B-4D4C-B487-9309AC2858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728B-AEDF-41EB-92F5-D34FE2C084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26FA-1461-4C1F-B3C0-FEF48E47A1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1B34-9318-49DD-8A4D-6B852F34CA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9B27-AFEF-4954-8D73-8314412E7A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0BC-6B07-4FD8-99FC-CC9FBC7FC6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B66C-D9B1-4564-8C0E-15F2DADB0F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D456-9C8C-4E65-9B30-775CB42D12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AFCF-F590-496C-B425-CAB35F1090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AF51-507C-40CF-B381-9B28149C98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A70D-51A0-4A98-946B-A06AFD9676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358-6795-4C2B-A8AF-3A7715B8C1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33EE-A763-4921-91CF-B7E494701E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ED80-11AA-4827-9BC4-0E60EF5D45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FBA7-D306-4136-8ED7-BD8BBDF264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1DE4-1836-483E-B30D-E3D7F33331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41CF-BBDD-48CC-B506-71D44D4831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E8BF-A568-4DBC-9F4B-46F0E02DA7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9D0C-1590-45CA-90EC-B847D6DC08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7" descr="阿房宫白描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43" name="WordArt 5"/>
          <p:cNvSpPr txBox="1"/>
          <p:nvPr/>
        </p:nvSpPr>
        <p:spPr>
          <a:xfrm>
            <a:off x="1332000" y="1557360"/>
            <a:ext cx="633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阿房宫赋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5685480" y="5300640"/>
            <a:ext cx="26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设计人：李静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工作单位：枣庄八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第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节重点从珍宝之多，突出其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纷奢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；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纷奢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到极点的后果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自取灭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144792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翻译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燕赵之收藏，韩魏之经营，齐楚之精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注意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活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④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戍卒叫，函谷举，楚人一炬，可怜焦土！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注意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句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2971800"/>
            <a:ext cx="91440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燕、赵、韩、魏、齐、楚等国收藏、聚敛的金玉珠宝等财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6"/>
          <p:cNvSpPr/>
          <p:nvPr/>
        </p:nvSpPr>
        <p:spPr>
          <a:xfrm>
            <a:off x="1981080" y="2362320"/>
            <a:ext cx="9144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7"/>
          <p:cNvSpPr/>
          <p:nvPr/>
        </p:nvSpPr>
        <p:spPr>
          <a:xfrm>
            <a:off x="4724280" y="2362320"/>
            <a:ext cx="9144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7391520" y="2362320"/>
            <a:ext cx="9144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3200400" y="3505320"/>
            <a:ext cx="5943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动词、形容词用如名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0" y="533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陈胜吴广振臂一呼（发动起义），函谷关被攻破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11"/>
          <p:cNvSpPr/>
          <p:nvPr/>
        </p:nvSpPr>
        <p:spPr>
          <a:xfrm>
            <a:off x="3124080" y="4038480"/>
            <a:ext cx="9144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熟读第四段，背诵相关语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0" y="762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呜呼！灭六国者，六国也，非秦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0" y="2514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使秦复爱六国之人，则递三世可至万世而为君，谁得而族灭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5"/>
          <p:cNvSpPr/>
          <p:nvPr/>
        </p:nvSpPr>
        <p:spPr>
          <a:xfrm>
            <a:off x="609480" y="22096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0" y="60199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>
            <a:off x="762120" y="29718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2"/>
          <p:cNvSpPr/>
          <p:nvPr/>
        </p:nvSpPr>
        <p:spPr>
          <a:xfrm>
            <a:off x="0" y="3809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秦人不暇自哀，而后人哀之；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533520" y="1447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族秦者，秦也，非天下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609480" y="236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使六国各爱其人，则足以拒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后人哀之而不鉴之，亦使后人而复哀后人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章末句有四处“后人”，所指分别是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秦人不暇自哀，而后人哀之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人哀之而不鉴之，亦使后人而复哀后人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4724280" y="533520"/>
            <a:ext cx="914400" cy="609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0" y="1143000"/>
            <a:ext cx="914400" cy="609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81480" y="1219320"/>
            <a:ext cx="914400" cy="609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7391520" y="1219320"/>
            <a:ext cx="914400" cy="609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①②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秦以后的人，本文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宋人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指宋以后的人；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0" y="4572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杜牧自己在《上知己文章启》中所说的“宝历（唐敬宗的年号）大起宫室，广声色，故作《阿房宫赋》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可以看出这“后人”指的应是当时最高统治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3733920" y="1447920"/>
            <a:ext cx="1143000" cy="28371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宫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0" descr="秦始皇"/>
          <p:cNvPicPr/>
          <p:nvPr/>
        </p:nvPicPr>
        <p:blipFill>
          <a:blip r:embed="rId1"/>
          <a:stretch/>
        </p:blipFill>
        <p:spPr>
          <a:xfrm>
            <a:off x="7188120" y="0"/>
            <a:ext cx="1955880" cy="2819520"/>
          </a:xfrm>
          <a:prstGeom prst="rect">
            <a:avLst/>
          </a:prstGeom>
          <a:ln w="0">
            <a:noFill/>
          </a:ln>
        </p:spPr>
      </p:pic>
      <p:sp>
        <p:nvSpPr>
          <p:cNvPr id="616" name="Oval 21"/>
          <p:cNvSpPr/>
          <p:nvPr/>
        </p:nvSpPr>
        <p:spPr>
          <a:xfrm>
            <a:off x="5791320" y="1981080"/>
            <a:ext cx="914400" cy="76212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5867280" y="1981080"/>
            <a:ext cx="762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4800600" y="281952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史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秦始皇本纪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建筑阿房宫，秦发“隐宫徒刑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七十余万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，工程浩大，耗费民力财力极多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5257800" y="2971800"/>
            <a:ext cx="3581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人之爱，建立在万万人的痛苦之上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25"/>
          <p:cNvSpPr/>
          <p:nvPr/>
        </p:nvSpPr>
        <p:spPr>
          <a:xfrm>
            <a:off x="3352680" y="4419720"/>
            <a:ext cx="1447920" cy="83808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6"/>
          <p:cNvSpPr/>
          <p:nvPr/>
        </p:nvSpPr>
        <p:spPr>
          <a:xfrm>
            <a:off x="3657600" y="4495680"/>
            <a:ext cx="914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3352680" y="5562720"/>
            <a:ext cx="2667240" cy="1008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天下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>
            <a:off x="0" y="0"/>
            <a:ext cx="2239920" cy="3048120"/>
          </a:xfrm>
          <a:prstGeom prst="rect">
            <a:avLst/>
          </a:prstGeom>
          <a:ln w="0">
            <a:noFill/>
          </a:ln>
        </p:spPr>
      </p:pic>
      <p:sp>
        <p:nvSpPr>
          <p:cNvPr id="624" name="Oval 30"/>
          <p:cNvSpPr/>
          <p:nvPr/>
        </p:nvSpPr>
        <p:spPr>
          <a:xfrm>
            <a:off x="2209680" y="1600200"/>
            <a:ext cx="137160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31"/>
          <p:cNvSpPr/>
          <p:nvPr/>
        </p:nvSpPr>
        <p:spPr>
          <a:xfrm>
            <a:off x="2438280" y="1752480"/>
            <a:ext cx="914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哀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2"/>
          <p:cNvSpPr/>
          <p:nvPr/>
        </p:nvSpPr>
        <p:spPr>
          <a:xfrm>
            <a:off x="0" y="3048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33"/>
          <p:cNvSpPr/>
          <p:nvPr/>
        </p:nvSpPr>
        <p:spPr>
          <a:xfrm>
            <a:off x="0" y="3048120"/>
            <a:ext cx="2971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以史为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可以知兴衰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34"/>
          <p:cNvSpPr/>
          <p:nvPr/>
        </p:nvSpPr>
        <p:spPr>
          <a:xfrm flipH="1">
            <a:off x="5105160" y="2819520"/>
            <a:ext cx="106668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警钟长鸣2"/>
          <p:cNvPicPr/>
          <p:nvPr/>
        </p:nvPicPr>
        <p:blipFill>
          <a:blip r:embed="rId1"/>
          <a:stretch/>
        </p:blipFill>
        <p:spPr>
          <a:xfrm>
            <a:off x="1905120" y="30492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304920" y="5410080"/>
            <a:ext cx="838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以史为鉴！             警钟长鸣！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0" y="457200"/>
            <a:ext cx="94489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80"/>
                </a:solidFill>
                <a:latin typeface="宋体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000080"/>
                </a:solidFill>
                <a:latin typeface="宋体"/>
                <a:ea typeface="华文新魏"/>
              </a:rPr>
              <a:t>过华清宫绝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长安回望绣成堆，山顶千门次第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骑红尘妃子笑，无人知是荔枝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91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解题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--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赋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赋是由《诗经》《楚辞》发展而来，大体上经历了骚赋、汉赋、骈赋、律赋、文赋等几个发展阶段。杜牧的《阿房宫赋》就是一篇文赋。文赋句式参差，押韵比较随便，重视清新流畅，借景抒情，铺叙风物，极尽铺陈夸张之能事，托物言志，卒章显志，以寄讽喻之意是它的写作特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Y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3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28600" y="685800"/>
            <a:ext cx="4343400" cy="362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杜牧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晚唐时期的杰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诗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也是那个时期著名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“文赋”和古文大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诗歌方面，人称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“小杜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与李商隐并称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“小李杜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古文方面，多为针砭时事的作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26" descr="阿房宫白描1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030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观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阿房宫复原效果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 ，用简短的语言概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己对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阿房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印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阿房宫白描1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4"/>
          <p:cNvSpPr/>
          <p:nvPr/>
        </p:nvSpPr>
        <p:spPr>
          <a:xfrm>
            <a:off x="0" y="0"/>
            <a:ext cx="9144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、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2" action="ppaction://hlinksldjump"/>
              </a:rPr>
              <a:t>听录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注意字音并思考以下问题，分别用文中一句话来概括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1143000"/>
            <a:ext cx="91440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秦始皇修建阿房宫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阿房宫被烧毁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作者写《阿房宫赋》的原因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Oval 7"/>
          <p:cNvSpPr/>
          <p:nvPr/>
        </p:nvSpPr>
        <p:spPr>
          <a:xfrm>
            <a:off x="6172200" y="762120"/>
            <a:ext cx="91440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2" descr="秦阿房宫"/>
          <p:cNvPicPr/>
          <p:nvPr/>
        </p:nvPicPr>
        <p:blipFill>
          <a:blip r:embed="rId1"/>
          <a:stretch/>
        </p:blipFill>
        <p:spPr>
          <a:xfrm>
            <a:off x="0" y="3552840"/>
            <a:ext cx="9144000" cy="330516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0" y="0"/>
            <a:ext cx="9144000" cy="360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作者认为始皇修建阿房宫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阿房宫被烧毁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作者写《阿房宫赋》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066680" y="1676520"/>
            <a:ext cx="807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使 天 下 之 人，不 敢 言 而 敢 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5638680" y="6094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秦 爱 纷 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1763640" y="2819520"/>
            <a:ext cx="6999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后 人 哀 之 而 不 鉴 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8050320" y="1752480"/>
            <a:ext cx="91440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4191120" y="2895480"/>
            <a:ext cx="91440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秦始皇"/>
          <p:cNvPicPr/>
          <p:nvPr/>
        </p:nvPicPr>
        <p:blipFill>
          <a:blip r:embed="rId1"/>
          <a:stretch/>
        </p:blipFill>
        <p:spPr>
          <a:xfrm>
            <a:off x="54864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4"/>
          <p:cNvSpPr/>
          <p:nvPr/>
        </p:nvSpPr>
        <p:spPr>
          <a:xfrm>
            <a:off x="5486400" y="30492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0" y="198108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1 </a:t>
            </a: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阿房宫之雄伟壮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9"/>
          <p:cNvSpPr/>
          <p:nvPr/>
        </p:nvSpPr>
        <p:spPr>
          <a:xfrm flipH="1" flipV="1">
            <a:off x="685800" y="609120"/>
            <a:ext cx="449568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现表体具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奢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写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3"/>
          <p:cNvSpPr/>
          <p:nvPr/>
        </p:nvSpPr>
        <p:spPr>
          <a:xfrm>
            <a:off x="0" y="2895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Tahoma"/>
              </a:rPr>
              <a:t>2</a:t>
            </a: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宫内美女之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4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5"/>
          <p:cNvSpPr/>
          <p:nvPr/>
        </p:nvSpPr>
        <p:spPr>
          <a:xfrm>
            <a:off x="0" y="41148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Tahoma"/>
              </a:rPr>
              <a:t>3</a:t>
            </a: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宫内珍宝之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6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齐读第一段，注意以下语句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开篇两句偶句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3" descr="阿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4"/>
          <p:cNvSpPr/>
          <p:nvPr/>
        </p:nvSpPr>
        <p:spPr>
          <a:xfrm>
            <a:off x="0" y="990720"/>
            <a:ext cx="91440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骊山北构而西折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钩心斗角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在文中的含义：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0" y="3200400"/>
            <a:ext cx="9144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④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…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而气候不齐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气候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古今异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3352680" y="457200"/>
            <a:ext cx="55627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实际上交待建宫背后的巨大耗资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919440" y="1066680"/>
            <a:ext cx="3297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骊山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 【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北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构而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西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折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0" y="22096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现在多用来比喻各用心机，互相排挤（含贬义） “钩”也作“勾”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228600" y="50292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１段：由楼阁建筑到人物活动，铺叙阿房宫建筑宏伟、豪华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1712520" y="3886200"/>
            <a:ext cx="410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天气 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|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某地区较稳定的）气象情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房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0" y="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24fa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24fa"/>
                </a:solidFill>
                <a:latin typeface="Tahoma"/>
              </a:rPr>
              <a:t>第２段侧重描写宫内的美女之众，宫人的悲惨命运，铺叙统治者生活的荒淫奢靡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24fa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24fa"/>
                </a:solidFill>
                <a:latin typeface="Tahoma"/>
              </a:rPr>
              <a:t>参照课下注释，翻译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0" y="1066680"/>
            <a:ext cx="9144000" cy="28371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朝歌夜弦，为秦宫人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（注意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朝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夜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的合译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为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的意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绿云扰扰，梳晓鬟也 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（注意句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0" y="1676520"/>
            <a:ext cx="914400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宋体"/>
              </a:rPr>
              <a:t>（她们）从早到晚唱歌、弹琴，成为秦皇的宫人。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0" y="33526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又见）乌云纷纷扰扰，（原来是她们）一早在梳理发鬓；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0" y="4419720"/>
            <a:ext cx="9144000" cy="642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缦立远视，而望幸焉。有不见者，三十六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0" y="5562720"/>
            <a:ext cx="91440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24fa"/>
                </a:solidFill>
                <a:latin typeface="Tahoma"/>
              </a:rPr>
              <a:t>          </a:t>
            </a:r>
            <a:r>
              <a:rPr b="1" lang="zh-CN" sz="5000" spc="-1" strike="noStrike">
                <a:solidFill>
                  <a:srgbClr val="3324fa"/>
                </a:solidFill>
                <a:latin typeface="Tahoma"/>
              </a:rPr>
              <a:t>宫女的悲惨命运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09T03:12:14Z</dcterms:modified>
  <cp:revision>147</cp:revision>
  <dc:subject/>
  <dc:title>PowerPoint Presentation</dc:title>
</cp:coreProperties>
</file>