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drumroll.wav" ContentType="audio/x-wav"/>
  <Override PartName="/ppt/media/image3.jpeg" ContentType="image/jpeg"/>
  <Override PartName="/ppt/media/image14.jpeg" ContentType="image/jpeg"/>
  <Override PartName="/ppt/media/image12.jpeg" ContentType="image/jpeg"/>
  <Override PartName="/ppt/media/image7.jpeg" ContentType="image/jpeg"/>
  <Override PartName="/ppt/media/image13.jpeg" ContentType="image/jpeg"/>
  <Override PartName="/ppt/media/ENTER2.WAV" ContentType="audio/x-wav"/>
  <Override PartName="/ppt/media/click.wav" ContentType="audio/x-wav"/>
  <Override PartName="/ppt/media/image1.jpeg" ContentType="image/jpeg"/>
  <Override PartName="/ppt/media/image2.jpeg" ContentType="image/jpeg"/>
  <Override PartName="/ppt/media/image5.jpeg" ContentType="image/jpeg"/>
  <Override PartName="/ppt/media/image6.jpeg" ContentType="image/jpeg"/>
  <Override PartName="/ppt/media/chimes.wav" ContentType="audio/x-wav"/>
  <Override PartName="/ppt/media/image10.wmf" ContentType="image/x-wmf"/>
  <Override PartName="/ppt/media/image4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293B-7EB8-445C-8555-454782673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1B75-1EEE-4FE3-A9AA-F45FD121A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8F2622-D46B-4C66-BB6A-BD2EEF600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B47301-A1BE-4846-9CFA-121E866A3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B757EE-0234-4C78-A03C-D389BC1DE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37E880-EAF1-415F-8F8A-70CD5A63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B8DFA8-C48C-4C31-B0FA-5FD5A3D6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15D62D-950E-45C0-980F-35A260CE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29DD9A-71C2-4B79-BD3A-047E25B6F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9938E8-5EF3-450B-A081-10DED6D09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9474E6-0B81-44FC-8900-820168DDC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067C51-D43B-4D6C-8B32-50A75E4F2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5E8B-0B9F-4F9F-BE2B-8ECB60677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41E14C-D07E-4914-BCCE-B684309CD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69BFED-FAA2-4830-95D2-385E7FA10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31D57A-801E-4361-806A-C63C90991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49BD53-6217-4287-A040-BF35AA3D2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D94B00-656B-4978-A99F-11B8B3A27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2162DC-9B12-40D8-99FE-BFE0EB80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9FC3AB-0238-4C8C-920A-3AE18890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73526A-D785-44AD-A6C6-5F4EBA99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4CC7EC-C732-468A-B9F7-7300BB8B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777E1E-DA2C-4FC5-AC6B-CFBEBA9FC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F360-F531-437F-BF81-808DCEACC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FDC8C6-7D80-4CB5-A298-ACBE20C46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0FA724-AA46-4531-9670-E990D4E4B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235D51-BB7D-4BE8-8A8B-85934A0B9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42F79D-E8BD-4B27-A60C-70B0FFF39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94BE06-125B-4606-9FDE-3502DB0FD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1A1BE8-A9B6-406F-9D84-8108B24FB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790E84-4D86-4944-BE76-2C815CCF7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1967E8-1BCD-4961-A290-CC976BE3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9CCE23-33BF-4831-8F41-29239BBB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24E927-C80A-45AD-A4C1-96D221F7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DB185-5DB6-4C3D-89D4-25276803B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11A29C-9442-43D3-BD34-4F4805D5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BBDFDB-7DBB-40D8-9F07-59A306C88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0DB356-5328-4ED9-B7C3-D05E75148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C89F56-B709-4A86-BE0A-70A11ADAF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869BAA-FE7C-4C82-81A2-E39F617AF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EB2FBD-F628-4213-A32E-429972020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5FF9BA-0072-4887-A804-8A11F3234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9296D5-AB8B-47AA-B7D4-92BC2D44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567237-0620-4922-865F-16FE283F0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103839-A69E-49C0-9BFC-C591F71D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F4261-8A3A-4990-89F5-7BFF79BF1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D6510A-E04B-494D-8480-D9428DE4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ED9B93-AECE-4357-BFC3-17C18D94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7D747B-4C24-4A31-9274-71892DF48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01B477-A99B-4B64-83EA-4355A6DD0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9640EC-48BF-4221-BABF-F6B19D7C7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BABFAE-2208-4E60-ABE2-414B243CB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888823-3BAF-4826-A980-F84EA251A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B25CC5-8CDA-4986-95C0-59D23646B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38C06F-2D95-4312-8339-61515389E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0B49C8-8BCD-4BAF-B6E6-5F37346DE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F319D-6E3D-4707-B037-9704B36A7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9D8998-9E82-47C0-8168-4A6EBF6C4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337171-A232-4A33-BEF6-789E96FC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FC43CB-F7BA-4352-A731-660A9F26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B803F3-8E43-4B08-9FCB-F1652AF9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501BE7-2697-42DC-8B89-6CD414C7B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C20BA9-F1C9-457B-AD85-731873C10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83D2D9-773F-47AC-A580-D19E63A8B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7AD56-F2D3-4080-8E20-4A3B481C6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EB61B-ED49-4374-BD8E-F2DE7F868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7CC72-AAFC-421B-9C09-BBD5F6AB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6B22B-0DA5-4A18-A5AD-1BCEF6A0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56ED-4228-4E93-89F3-A1D4434CA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10824-D706-4E6E-88CD-ADDCFDA7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B67BD-134D-44D3-9B8B-F9ADE634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F117B-BEE4-4D81-BE95-758B55EE9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18A31-3BC7-4B59-825F-EC16DF0FE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E6F76-8F1E-4AF5-AAB1-6B54D4DEB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723F9-8582-441E-8933-CEA7E0554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26A21-CBD3-4F3F-8B3B-537F75CBB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77D44-C93E-4759-8F81-722012052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FF006-8716-4FE7-B2FC-084AC8C58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20C1D-14FA-4BA5-8CD7-5AD791CBD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E287-B3B4-45D5-AC2B-20D291F78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86756-133D-4E23-A358-1A4237DA3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ACA66-E03D-4723-9372-9D0DC948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2E9FE-0BAB-4958-9C1B-CE9E7BCB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2F6A4-C400-43B5-B252-6CA88B2E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FBBC4-D618-42E0-94EC-831375F95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08D52-8621-4D13-8867-79541C65C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7DDB3-111F-4B48-A5C9-59AF58C26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54124-B583-4A0B-842E-0B7520E97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5587C-5073-4684-A9AB-49C8CE1ED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8EB32-304A-4340-B6FD-A7C12F672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5596-0012-4E4D-95E9-D4083E0E7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46E49-9E69-4748-A192-D58DB1F66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B2979-324F-488F-B9BF-028B6470C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71891-B147-44F9-BCD3-AF7B88EAF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476EE-32FC-40A5-9A67-F2075C9B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E919D-B1AB-401B-A94D-15785A40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4DBFD-4A36-4C78-BF4E-9D244773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27106-0EF1-4566-A3F8-2C8B93634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BC9EA-E40E-41DF-A9B0-4C3FD5898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C440E-ADAA-4414-A025-EA5252201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4A199-212A-4391-A944-07158AEFD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F252-4639-4343-B405-E226D8130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BB70F-2938-4EFB-A04C-2930BCEE2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E254D-0EC5-493B-941F-3804D6CC5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51CC8-6ECB-4AE2-9182-CD26A6F30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CED2B-891F-4938-91B4-06C3F60EF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8BBFC-8829-44C9-9C15-D8CBD16FE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3523E-3480-4C59-B0F2-6FF1689D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DDD1E-9B7E-4FAF-B42E-1BAED1AC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4F9F1-02ED-48EE-AE2D-60427D73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4E12D-6A04-449F-BB4E-ABEF9BC7F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12F95-8B02-465D-9FB1-52E66FFCA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18CC-873C-4167-9AAD-CEC9D9B3B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687CF-296B-4033-82E9-5C71B0965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B320C6-6AC3-48A9-A50D-925D98C5E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D9CFB-EAFC-40BF-BFAF-8EF9FA4BA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11143-0016-4955-9289-4E1574A4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05AD5-83DB-4092-B81E-28C35FCE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FB6CC-430C-4FB8-AAB6-E1308B7B2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E0165-4509-4E84-A655-B6D3F1378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88EEE-8F90-4C67-A5FF-D8A4263E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4B8A0-D467-4425-9BC1-66B59E30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5E58D-B459-446B-BF57-F24DC112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3EC0-6299-4422-BA0A-B39D9A3E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25BC7-F41C-4B25-862C-142EE8259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46D42-35FB-4CB3-AE62-8AE95FB0D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16C97-CA11-4C4A-87DB-45EE75F3E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613B74-A5CE-4472-BACB-9DEA7A400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7ED2E7-F79F-4369-A813-A71195790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929729-FD6A-4569-A7F2-D22996037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8D15E-9127-45DD-A93A-7712AB6CE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208C8-1C09-4BDA-B0DD-A2382B61E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6FC5A0-C66A-487A-AEFC-107BDED11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7DB3B-9F17-4B24-8D98-B132B877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B5AA-CE40-4498-9DE4-29B3F831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B499E-3E4A-4F19-9D43-C6935C72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B3458-0A1C-44C9-993F-8E9990B7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51408-1821-41C6-A153-EAE3D6936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178B0B-3A56-4065-8DB6-E7C80BEA3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FEE8B-E3ED-4BD4-AEE7-5024E4875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33DB57-D5BB-4B79-8712-CBF78F239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E72C73-FB18-45B3-8087-8968A4D2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A8F348-0CA2-47F8-BF35-76F48CA33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FC739-2E44-4BE3-9620-35D685684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91CF5F-88A5-4895-9CB0-AD5091C4C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E447-F56C-44AB-914E-E02E3112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1389ED-BC8A-475F-A7A7-8FE0AA275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0D01F9-C522-4F3B-95A2-EB8E45FA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037E25-08AD-486F-B156-BEA89408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A9548E-B972-4F31-9AA0-F7383563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192333-97EC-4A26-AF80-F3D03909A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052203-2A4C-4D3A-A444-644CDC1AD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67B489-8E78-4B52-8338-48FFE20D8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AD2240-B8D2-4E33-B2F8-F371DF6D3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9F7D1C-7E7B-4838-BDBB-A6CC5375A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2D4C6D-0420-4403-BFF1-0DDE2066C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63819-51AC-48EB-B379-7985011491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7734B-2BE4-4A84-A6A3-662EC89BE9E2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40093-30D3-4777-8A85-F00FDCC22221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E12C8-782C-42C7-830E-F316B4F0CE55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870CD-88ED-4920-BF6F-5C594C1C8541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6B747-DD28-4DB5-B386-D141BC78105B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F4EAF-3E3E-41DC-8052-5E480E10A557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4B9F5-8FBD-4179-B9DC-F875B07C77CA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BC3F-A8B1-42E8-9C81-D12D63E2569B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D9D6B-21ED-4227-ADA9-D0ECF579503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9E9F2-14C3-40F5-9D90-E61AE006A3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F4F27-076D-402A-BFDA-D5E542A4B77A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CD6B2-61D1-447A-A3D3-B8F40EF9F556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16B86-BDCC-4143-8A7B-17E2D1640AAA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A4F7E-C1ED-45C4-848D-E57B252B4890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C66DE-A716-4D76-AAF1-57CE9152BB6C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30A86-7C00-4A5F-9875-6CF5FC031239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71C57-009E-4AB2-B74B-B6403260F962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C6BB2-5F60-40DB-98D1-F1EFB3A8B0B4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2167B-82B0-485B-96F3-F178B7CE406A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BF7C0-4F91-4B07-A897-C29CECFA4224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B3B34-593E-4373-8C72-97FAFF0EE468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5B78D-AA46-4F4E-947C-48981CF6933E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58A38-DA80-4520-82E9-BF6FE44F5A53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C9BD7-A438-4930-A0F8-4301D5BBF799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14.xml"/><Relationship Id="rId3" Type="http://schemas.openxmlformats.org/officeDocument/2006/relationships/slide" Target="slide15.xml"/><Relationship Id="rId4" Type="http://schemas.openxmlformats.org/officeDocument/2006/relationships/slide" Target="slide16.xml"/><Relationship Id="rId5" Type="http://schemas.openxmlformats.org/officeDocument/2006/relationships/slide" Target="slide12.xml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ENTER2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WordArt 2"/>
          <p:cNvSpPr txBox="1"/>
          <p:nvPr/>
        </p:nvSpPr>
        <p:spPr>
          <a:xfrm>
            <a:off x="1828800" y="0"/>
            <a:ext cx="541008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911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隶书"/>
              </a:rPr>
              <a:t>安塞腰鼓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 Box 2"/>
          <p:cNvSpPr/>
          <p:nvPr/>
        </p:nvSpPr>
        <p:spPr>
          <a:xfrm>
            <a:off x="685800" y="1066680"/>
            <a:ext cx="7696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知课文内容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听录音朗读课文，用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安塞腰鼓，对安塞腰鼓进行评价，可填词、短语、句子（最好用文中内容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533520" y="396252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Rectangle 4"/>
          <p:cNvSpPr/>
          <p:nvPr/>
        </p:nvSpPr>
        <p:spPr>
          <a:xfrm>
            <a:off x="533520" y="373392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独具魅力的安塞腰鼓 象掀起在黄土地上的狂飚，展示出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西北黄土高原农民朴素而豪放的性 格，张扬出独特的艺术个性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2" descr="安塞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52" name="Group 3"/>
          <p:cNvGrpSpPr/>
          <p:nvPr/>
        </p:nvGrpSpPr>
        <p:grpSpPr>
          <a:xfrm>
            <a:off x="684360" y="549360"/>
            <a:ext cx="3527280" cy="647640"/>
            <a:chOff x="684360" y="549360"/>
            <a:chExt cx="3527280" cy="647640"/>
          </a:xfrm>
        </p:grpSpPr>
        <p:sp>
          <p:nvSpPr>
            <p:cNvPr id="553" name="Rectangle 4"/>
            <p:cNvSpPr/>
            <p:nvPr/>
          </p:nvSpPr>
          <p:spPr>
            <a:xfrm>
              <a:off x="684360" y="549360"/>
              <a:ext cx="2879640" cy="6476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Text Box 5"/>
            <p:cNvSpPr/>
            <p:nvPr/>
          </p:nvSpPr>
          <p:spPr>
            <a:xfrm>
              <a:off x="900000" y="554400"/>
              <a:ext cx="331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Arial"/>
                </a:rPr>
                <a:t>快 速 抢 答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Text Box 6"/>
          <p:cNvSpPr/>
          <p:nvPr/>
        </p:nvSpPr>
        <p:spPr>
          <a:xfrm>
            <a:off x="181080" y="1247760"/>
            <a:ext cx="914400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你能快速理清文章的结构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你认为文章的主题是什么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黄土高原人的性格是怎样的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安塞腰鼓的舞姿特点是什么？请用几个词语概括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那段用的反义词最多？找出来，并谈谈它们的作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Group 7"/>
          <p:cNvGrpSpPr/>
          <p:nvPr/>
        </p:nvGrpSpPr>
        <p:grpSpPr>
          <a:xfrm>
            <a:off x="7236000" y="1989000"/>
            <a:ext cx="1079280" cy="649440"/>
            <a:chOff x="7236000" y="1989000"/>
            <a:chExt cx="1079280" cy="649440"/>
          </a:xfrm>
        </p:grpSpPr>
        <p:sp>
          <p:nvSpPr>
            <p:cNvPr id="557" name="Rectangle 8"/>
            <p:cNvSpPr/>
            <p:nvPr/>
          </p:nvSpPr>
          <p:spPr>
            <a:xfrm>
              <a:off x="7236000" y="1989000"/>
              <a:ext cx="1079280" cy="649440"/>
            </a:xfrm>
            <a:prstGeom prst="rect">
              <a:avLst/>
            </a:prstGeom>
            <a:gradFill rotWithShape="0">
              <a:gsLst>
                <a:gs pos="0">
                  <a:srgbClr val="5e765e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Text Box 9"/>
            <p:cNvSpPr/>
            <p:nvPr/>
          </p:nvSpPr>
          <p:spPr>
            <a:xfrm>
              <a:off x="7236000" y="2060640"/>
              <a:ext cx="93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参考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Group 10"/>
          <p:cNvGrpSpPr/>
          <p:nvPr/>
        </p:nvGrpSpPr>
        <p:grpSpPr>
          <a:xfrm>
            <a:off x="7236000" y="2635200"/>
            <a:ext cx="1079280" cy="649440"/>
            <a:chOff x="7236000" y="2635200"/>
            <a:chExt cx="1079280" cy="649440"/>
          </a:xfrm>
        </p:grpSpPr>
        <p:sp>
          <p:nvSpPr>
            <p:cNvPr id="560" name="Rectangle 11"/>
            <p:cNvSpPr/>
            <p:nvPr/>
          </p:nvSpPr>
          <p:spPr>
            <a:xfrm>
              <a:off x="7236000" y="2635200"/>
              <a:ext cx="1079280" cy="649440"/>
            </a:xfrm>
            <a:prstGeom prst="rect">
              <a:avLst/>
            </a:prstGeom>
            <a:gradFill rotWithShape="0">
              <a:gsLst>
                <a:gs pos="0">
                  <a:srgbClr val="5e765e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Text Box 12"/>
            <p:cNvSpPr/>
            <p:nvPr/>
          </p:nvSpPr>
          <p:spPr>
            <a:xfrm>
              <a:off x="7236000" y="2650320"/>
              <a:ext cx="93636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 u="sng">
                  <a:solidFill>
                    <a:srgbClr val="ccccff"/>
                  </a:solidFill>
                  <a:uFillTx/>
                  <a:latin typeface="Arial"/>
                  <a:hlinkClick r:id="rId2" action="ppaction://hlinksldjump"/>
                </a:rPr>
                <a:t>参考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Group 13"/>
          <p:cNvGrpSpPr/>
          <p:nvPr/>
        </p:nvGrpSpPr>
        <p:grpSpPr>
          <a:xfrm>
            <a:off x="7236000" y="3716280"/>
            <a:ext cx="1079280" cy="649440"/>
            <a:chOff x="7236000" y="3716280"/>
            <a:chExt cx="1079280" cy="649440"/>
          </a:xfrm>
        </p:grpSpPr>
        <p:sp>
          <p:nvSpPr>
            <p:cNvPr id="563" name="Rectangle 14"/>
            <p:cNvSpPr/>
            <p:nvPr/>
          </p:nvSpPr>
          <p:spPr>
            <a:xfrm>
              <a:off x="7236000" y="3716280"/>
              <a:ext cx="1079280" cy="649440"/>
            </a:xfrm>
            <a:prstGeom prst="rect">
              <a:avLst/>
            </a:prstGeom>
            <a:gradFill rotWithShape="0">
              <a:gsLst>
                <a:gs pos="0">
                  <a:srgbClr val="5e765e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Text Box 15"/>
            <p:cNvSpPr/>
            <p:nvPr/>
          </p:nvSpPr>
          <p:spPr>
            <a:xfrm>
              <a:off x="7236000" y="3731400"/>
              <a:ext cx="93636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 u="sng">
                  <a:solidFill>
                    <a:srgbClr val="ccccff"/>
                  </a:solidFill>
                  <a:uFillTx/>
                  <a:latin typeface="Arial"/>
                  <a:hlinkClick r:id="rId3" action="ppaction://hlinksldjump"/>
                </a:rPr>
                <a:t>参考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Group 16"/>
          <p:cNvGrpSpPr/>
          <p:nvPr/>
        </p:nvGrpSpPr>
        <p:grpSpPr>
          <a:xfrm>
            <a:off x="7236000" y="4941720"/>
            <a:ext cx="1079280" cy="649440"/>
            <a:chOff x="7236000" y="4941720"/>
            <a:chExt cx="1079280" cy="649440"/>
          </a:xfrm>
        </p:grpSpPr>
        <p:sp>
          <p:nvSpPr>
            <p:cNvPr id="566" name="Rectangle 17"/>
            <p:cNvSpPr/>
            <p:nvPr/>
          </p:nvSpPr>
          <p:spPr>
            <a:xfrm>
              <a:off x="7236000" y="4941720"/>
              <a:ext cx="1079280" cy="649440"/>
            </a:xfrm>
            <a:prstGeom prst="rect">
              <a:avLst/>
            </a:prstGeom>
            <a:gradFill rotWithShape="0">
              <a:gsLst>
                <a:gs pos="0">
                  <a:srgbClr val="5e765e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Text Box 18"/>
            <p:cNvSpPr/>
            <p:nvPr/>
          </p:nvSpPr>
          <p:spPr>
            <a:xfrm>
              <a:off x="7236000" y="4956840"/>
              <a:ext cx="93636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 u="sng">
                  <a:solidFill>
                    <a:srgbClr val="ccccff"/>
                  </a:solidFill>
                  <a:uFillTx/>
                  <a:latin typeface="Arial"/>
                  <a:hlinkClick r:id="rId4" action="ppaction://hlinksldjump"/>
                </a:rPr>
                <a:t>参考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8" name="Group 22"/>
          <p:cNvGrpSpPr/>
          <p:nvPr/>
        </p:nvGrpSpPr>
        <p:grpSpPr>
          <a:xfrm>
            <a:off x="7237440" y="1266840"/>
            <a:ext cx="1079640" cy="649440"/>
            <a:chOff x="7237440" y="1266840"/>
            <a:chExt cx="1079640" cy="649440"/>
          </a:xfrm>
        </p:grpSpPr>
        <p:sp>
          <p:nvSpPr>
            <p:cNvPr id="569" name="Rectangle 23"/>
            <p:cNvSpPr/>
            <p:nvPr/>
          </p:nvSpPr>
          <p:spPr>
            <a:xfrm>
              <a:off x="7237440" y="1266840"/>
              <a:ext cx="1079640" cy="649440"/>
            </a:xfrm>
            <a:prstGeom prst="rect">
              <a:avLst/>
            </a:prstGeom>
            <a:gradFill rotWithShape="0">
              <a:gsLst>
                <a:gs pos="0">
                  <a:srgbClr val="5e765e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Text Box 24">
              <a:hlinkClick r:id="rId5" action="ppaction://hlinksldjump"/>
            </p:cNvPr>
            <p:cNvSpPr/>
            <p:nvPr/>
          </p:nvSpPr>
          <p:spPr>
            <a:xfrm>
              <a:off x="7237440" y="1338480"/>
              <a:ext cx="93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参考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Text Box 2"/>
          <p:cNvSpPr/>
          <p:nvPr/>
        </p:nvSpPr>
        <p:spPr>
          <a:xfrm>
            <a:off x="-133920" y="1981080"/>
            <a:ext cx="1826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隶书"/>
                <a:ea typeface="隶书"/>
              </a:rPr>
              <a:t>安塞腰鼓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3"/>
          <p:cNvSpPr/>
          <p:nvPr/>
        </p:nvSpPr>
        <p:spPr>
          <a:xfrm>
            <a:off x="2209680" y="114300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打鼓前</a:t>
            </a:r>
            <a:r>
              <a:rPr b="1" lang="en-US" sz="3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1-4:</a:t>
            </a:r>
            <a:r>
              <a:rPr b="1" lang="zh-CN" sz="3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（ 　　）的腰鼓         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4"/>
          <p:cNvSpPr/>
          <p:nvPr/>
        </p:nvSpPr>
        <p:spPr>
          <a:xfrm>
            <a:off x="1981080" y="19051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打鼓中</a:t>
            </a:r>
            <a:r>
              <a:rPr b="1" lang="en-US" sz="3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5-27:</a:t>
            </a:r>
            <a:r>
              <a:rPr b="1" lang="zh-CN" sz="3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（ 　  ）的腰鼓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5"/>
          <p:cNvSpPr/>
          <p:nvPr/>
        </p:nvSpPr>
        <p:spPr>
          <a:xfrm>
            <a:off x="3733920" y="26668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5-13</a:t>
            </a:r>
            <a:r>
              <a:rPr b="1" lang="zh-CN" sz="32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：宏伟的场面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6"/>
          <p:cNvSpPr/>
          <p:nvPr/>
        </p:nvSpPr>
        <p:spPr>
          <a:xfrm>
            <a:off x="3657600" y="34290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14-17</a:t>
            </a:r>
            <a:r>
              <a:rPr b="1" lang="zh-CN" sz="32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：雄壮的（ 　　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7"/>
          <p:cNvSpPr/>
          <p:nvPr/>
        </p:nvSpPr>
        <p:spPr>
          <a:xfrm>
            <a:off x="3581280" y="4114800"/>
            <a:ext cx="495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18-22</a:t>
            </a:r>
            <a:r>
              <a:rPr b="1" lang="zh-CN" sz="32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：击鼓的（ </a:t>
            </a:r>
            <a:r>
              <a:rPr b="1" lang="zh-CN" sz="4000" spc="-1" strike="noStrike">
                <a:solidFill>
                  <a:srgbClr val="ff66ff"/>
                </a:solidFill>
                <a:latin typeface="方正楷体简体"/>
                <a:ea typeface="方正楷体简体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8"/>
          <p:cNvSpPr/>
          <p:nvPr/>
        </p:nvSpPr>
        <p:spPr>
          <a:xfrm>
            <a:off x="3657600" y="487692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23-27</a:t>
            </a:r>
            <a:r>
              <a:rPr b="1" lang="zh-CN" sz="32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：奇丽的（     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9"/>
          <p:cNvSpPr/>
          <p:nvPr/>
        </p:nvSpPr>
        <p:spPr>
          <a:xfrm>
            <a:off x="1981080" y="56386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打鼓后</a:t>
            </a:r>
            <a:r>
              <a:rPr b="1" lang="en-US" sz="3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28-30</a:t>
            </a:r>
            <a:r>
              <a:rPr b="1" lang="zh-CN" sz="3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：（ </a:t>
            </a:r>
            <a:r>
              <a:rPr b="1" lang="zh-CN" sz="4000" spc="-1" strike="noStrike">
                <a:solidFill>
                  <a:srgbClr val="ff66ff"/>
                </a:solidFill>
                <a:latin typeface="方正楷体简体"/>
                <a:ea typeface="方正楷体简体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）的腰鼓　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方正楷体简体"/>
                <a:ea typeface="方正楷体简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AutoShape 10"/>
          <p:cNvSpPr/>
          <p:nvPr/>
        </p:nvSpPr>
        <p:spPr>
          <a:xfrm>
            <a:off x="1447920" y="1447920"/>
            <a:ext cx="609480" cy="4495680"/>
          </a:xfrm>
          <a:custGeom>
            <a:avLst/>
            <a:gdLst>
              <a:gd name="textAreaLeft" fmla="*/ 389520 w 609480"/>
              <a:gd name="textAreaRight" fmla="*/ 609840 w 609480"/>
              <a:gd name="textAreaTop" fmla="*/ 117000 h 4495680"/>
              <a:gd name="textAreaBottom" fmla="*/ 4378680 h 449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504"/>
                </a:lnTo>
                <a:cubicBezTo>
                  <a:pt x="10800" y="9404"/>
                  <a:pt x="5400" y="10304"/>
                  <a:pt x="0" y="10304"/>
                </a:cubicBezTo>
                <a:cubicBezTo>
                  <a:pt x="5400" y="10304"/>
                  <a:pt x="10800" y="11204"/>
                  <a:pt x="10800" y="1210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AutoShape 11"/>
          <p:cNvSpPr/>
          <p:nvPr/>
        </p:nvSpPr>
        <p:spPr>
          <a:xfrm>
            <a:off x="3352680" y="2895480"/>
            <a:ext cx="304920" cy="2362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189"/>
                </a:lnTo>
                <a:cubicBezTo>
                  <a:pt x="10800" y="10089"/>
                  <a:pt x="5400" y="10989"/>
                  <a:pt x="0" y="10989"/>
                </a:cubicBezTo>
                <a:cubicBezTo>
                  <a:pt x="5400" y="10989"/>
                  <a:pt x="10800" y="11889"/>
                  <a:pt x="10800" y="1278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2"/>
          <p:cNvSpPr/>
          <p:nvPr/>
        </p:nvSpPr>
        <p:spPr>
          <a:xfrm>
            <a:off x="5029200" y="106668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方正楷体简体"/>
                <a:ea typeface="方正楷体简体"/>
              </a:rPr>
              <a:t>安静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3"/>
          <p:cNvSpPr/>
          <p:nvPr/>
        </p:nvSpPr>
        <p:spPr>
          <a:xfrm>
            <a:off x="5257800" y="18288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方正楷体简体"/>
                <a:ea typeface="方正楷体简体"/>
              </a:rPr>
              <a:t>激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14"/>
          <p:cNvSpPr/>
          <p:nvPr/>
        </p:nvSpPr>
        <p:spPr>
          <a:xfrm>
            <a:off x="6705720" y="34290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方正楷体简体"/>
                <a:ea typeface="方正楷体简体"/>
              </a:rPr>
              <a:t>响声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15"/>
          <p:cNvSpPr/>
          <p:nvPr/>
        </p:nvSpPr>
        <p:spPr>
          <a:xfrm>
            <a:off x="6629400" y="419112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方正楷体简体"/>
                <a:ea typeface="方正楷体简体"/>
              </a:rPr>
              <a:t>后生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16"/>
          <p:cNvSpPr/>
          <p:nvPr/>
        </p:nvSpPr>
        <p:spPr>
          <a:xfrm>
            <a:off x="5791320" y="56386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方正楷体简体"/>
                <a:ea typeface="方正楷体简体"/>
              </a:rPr>
              <a:t>寂静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17"/>
          <p:cNvSpPr/>
          <p:nvPr/>
        </p:nvSpPr>
        <p:spPr>
          <a:xfrm>
            <a:off x="6705720" y="4800600"/>
            <a:ext cx="14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方正楷体简体"/>
                <a:ea typeface="方正楷体简体"/>
              </a:rPr>
              <a:t>舞姿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18"/>
          <p:cNvSpPr/>
          <p:nvPr/>
        </p:nvSpPr>
        <p:spPr>
          <a:xfrm>
            <a:off x="1805040" y="15228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方正楷体简体"/>
                <a:ea typeface="方正楷体简体"/>
              </a:rPr>
              <a:t>根据提示完成文章结构图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AutoShape 19">
            <a:hlinkClick r:id="" action="ppaction://hlinkshowjump?jump=previousslide"/>
          </p:cNvPr>
          <p:cNvSpPr/>
          <p:nvPr/>
        </p:nvSpPr>
        <p:spPr>
          <a:xfrm>
            <a:off x="395280" y="5877000"/>
            <a:ext cx="1008000" cy="647640"/>
          </a:xfrm>
          <a:custGeom>
            <a:avLst/>
            <a:gdLst>
              <a:gd name="textAreaLeft" fmla="*/ 41760 w 1008000"/>
              <a:gd name="textAreaRight" fmla="*/ 966240 w 100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3612" h="21600">
                <a:moveTo>
                  <a:pt x="0" y="0"/>
                </a:moveTo>
                <a:lnTo>
                  <a:pt x="33612" y="0"/>
                </a:lnTo>
                <a:lnTo>
                  <a:pt x="33612" y="21600"/>
                </a:lnTo>
                <a:lnTo>
                  <a:pt x="0" y="21600"/>
                </a:lnTo>
                <a:close/>
              </a:path>
              <a:path fill="lightenLess" w="33612" h="21600">
                <a:moveTo>
                  <a:pt x="0" y="0"/>
                </a:moveTo>
                <a:lnTo>
                  <a:pt x="33612" y="0"/>
                </a:lnTo>
                <a:lnTo>
                  <a:pt x="32212" y="1400"/>
                </a:lnTo>
                <a:lnTo>
                  <a:pt x="1400" y="1400"/>
                </a:lnTo>
                <a:close/>
              </a:path>
              <a:path fill="darken" w="33612" h="21600">
                <a:moveTo>
                  <a:pt x="33612" y="0"/>
                </a:moveTo>
                <a:lnTo>
                  <a:pt x="33612" y="21600"/>
                </a:lnTo>
                <a:lnTo>
                  <a:pt x="32212" y="20200"/>
                </a:lnTo>
                <a:lnTo>
                  <a:pt x="32212" y="1400"/>
                </a:lnTo>
                <a:close/>
              </a:path>
              <a:path fill="darkenLess" w="33612" h="21600">
                <a:moveTo>
                  <a:pt x="33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12" y="20200"/>
                </a:lnTo>
                <a:close/>
              </a:path>
              <a:path fill="lighten" w="33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612" h="21600">
                <a:moveTo>
                  <a:pt x="9800" y="10800"/>
                </a:moveTo>
                <a:lnTo>
                  <a:pt x="23812" y="3794"/>
                </a:lnTo>
                <a:lnTo>
                  <a:pt x="23812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2" descr="安塞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0" name="AutoShape 3"/>
          <p:cNvSpPr/>
          <p:nvPr/>
        </p:nvSpPr>
        <p:spPr>
          <a:xfrm>
            <a:off x="7667640" y="5589720"/>
            <a:ext cx="1152360" cy="647640"/>
          </a:xfrm>
          <a:prstGeom prst="leftArrow">
            <a:avLst>
              <a:gd name="adj1" fmla="val 50000"/>
              <a:gd name="adj2" fmla="val 444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4"/>
          <p:cNvSpPr/>
          <p:nvPr/>
        </p:nvSpPr>
        <p:spPr>
          <a:xfrm>
            <a:off x="611280" y="2599560"/>
            <a:ext cx="8064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主题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歌颂激荡的生命和磅礴的力量，歌颂阳刚之美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2" descr="安塞3"/>
          <p:cNvPicPr/>
          <p:nvPr/>
        </p:nvPicPr>
        <p:blipFill>
          <a:blip r:embed="rId1"/>
          <a:stretch/>
        </p:blipFill>
        <p:spPr>
          <a:xfrm>
            <a:off x="36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3" name="AutoShape 3"/>
          <p:cNvSpPr/>
          <p:nvPr/>
        </p:nvSpPr>
        <p:spPr>
          <a:xfrm>
            <a:off x="7667640" y="5589720"/>
            <a:ext cx="1152360" cy="647640"/>
          </a:xfrm>
          <a:prstGeom prst="leftArrow">
            <a:avLst>
              <a:gd name="adj1" fmla="val 50000"/>
              <a:gd name="adj2" fmla="val 444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4"/>
          <p:cNvSpPr/>
          <p:nvPr/>
        </p:nvSpPr>
        <p:spPr>
          <a:xfrm>
            <a:off x="395280" y="2203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黄土高原人的性格：朴实、粗犷、开朗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NTER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2" descr="安塞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6" name="Text Box 3"/>
          <p:cNvSpPr/>
          <p:nvPr/>
        </p:nvSpPr>
        <p:spPr>
          <a:xfrm>
            <a:off x="250920" y="1951920"/>
            <a:ext cx="8893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安塞腰鼓的舞姿特点：壮阔、豪放、火热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AutoShape 4"/>
          <p:cNvSpPr/>
          <p:nvPr/>
        </p:nvSpPr>
        <p:spPr>
          <a:xfrm>
            <a:off x="7667640" y="5589720"/>
            <a:ext cx="1152360" cy="647640"/>
          </a:xfrm>
          <a:prstGeom prst="leftArrow">
            <a:avLst>
              <a:gd name="adj1" fmla="val 50000"/>
              <a:gd name="adj2" fmla="val 444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3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Picture 2" descr="安塞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9" name="AutoShape 3"/>
          <p:cNvSpPr/>
          <p:nvPr/>
        </p:nvSpPr>
        <p:spPr>
          <a:xfrm>
            <a:off x="7667640" y="5589720"/>
            <a:ext cx="1152360" cy="647640"/>
          </a:xfrm>
          <a:prstGeom prst="leftArrow">
            <a:avLst>
              <a:gd name="adj1" fmla="val 50000"/>
              <a:gd name="adj2" fmla="val 444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4"/>
          <p:cNvSpPr/>
          <p:nvPr/>
        </p:nvSpPr>
        <p:spPr>
          <a:xfrm>
            <a:off x="0" y="225036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冰冷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燥热    恬静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飞溅    困倦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亢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形成鲜明对比，突出安塞腰鼓奇伟磅礴，雷霆万钧的能量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0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Text Box 2">
            <a:hlinkClick r:id="" action="ppaction://hlinkshowjump?jump=previousslide"/>
          </p:cNvPr>
          <p:cNvSpPr/>
          <p:nvPr/>
        </p:nvSpPr>
        <p:spPr>
          <a:xfrm>
            <a:off x="762120" y="68580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容不得束缚，容不得羁绊，容不得闭塞。是挣脱了、冲破了、撞开了的那么一股劲。（“那么一股劲”要“挣脱”“冲破”“撞开”什么？是什么“束缚”“羁绊”“闭塞”了“那一股劲”？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3"/>
          <p:cNvSpPr/>
          <p:nvPr/>
        </p:nvSpPr>
        <p:spPr>
          <a:xfrm>
            <a:off x="762120" y="2743200"/>
            <a:ext cx="7467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贫瘠的黄土地、闭塞的生活，让生活在这儿的人们在物质和精神上受到太多的压抑和束缚，安塞腰鼓正是要打破这种束缚，让生命宣泄在天地间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Text Box 2"/>
          <p:cNvSpPr/>
          <p:nvPr/>
        </p:nvSpPr>
        <p:spPr>
          <a:xfrm>
            <a:off x="762120" y="1066680"/>
            <a:ext cx="64767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们朴实得就像那片高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它使你惊异于那农民衣着包裹着的躯体，那消化着红豆角角老南瓜的躯体，居然可以释放出那么奇伟磅礴的能量。（过着贫困生活的农民，哪里来的这么强大的力量？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3"/>
          <p:cNvSpPr/>
          <p:nvPr/>
        </p:nvSpPr>
        <p:spPr>
          <a:xfrm>
            <a:off x="762120" y="39625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他们有着自然健康的生命，是原始的、未经人工雕饰的。这是他们力量的源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Text Box 4"/>
          <p:cNvSpPr/>
          <p:nvPr/>
        </p:nvSpPr>
        <p:spPr>
          <a:xfrm>
            <a:off x="1187280" y="765000"/>
            <a:ext cx="59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多水的江南是易碎的玻璃，在那儿，打不得这样的腰鼓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5"/>
          <p:cNvSpPr/>
          <p:nvPr/>
        </p:nvSpPr>
        <p:spPr>
          <a:xfrm>
            <a:off x="971640" y="306864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江南更多的表现为柔媚的风格，而安塞腰鼓需要原始的，有粗犷的生命力的厚土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2" descr="a11"/>
          <p:cNvPicPr/>
          <p:nvPr/>
        </p:nvPicPr>
        <p:blipFill>
          <a:blip r:embed="rId1"/>
          <a:stretch/>
        </p:blipFill>
        <p:spPr>
          <a:xfrm>
            <a:off x="1143000" y="304920"/>
            <a:ext cx="6324480" cy="5163840"/>
          </a:xfrm>
          <a:prstGeom prst="rect">
            <a:avLst/>
          </a:prstGeom>
          <a:ln w="0">
            <a:noFill/>
          </a:ln>
        </p:spPr>
      </p:pic>
      <p:sp>
        <p:nvSpPr>
          <p:cNvPr id="535" name="Text Box 3"/>
          <p:cNvSpPr/>
          <p:nvPr/>
        </p:nvSpPr>
        <p:spPr>
          <a:xfrm>
            <a:off x="304920" y="5486400"/>
            <a:ext cx="85341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安塞腰鼓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是一种独特的民间大 型舞蹈艺术形式，具有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00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年 以上的历史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Text Box 4"/>
          <p:cNvSpPr/>
          <p:nvPr/>
        </p:nvSpPr>
        <p:spPr>
          <a:xfrm>
            <a:off x="1619280" y="126828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耳畔是一声渺远的鸡啼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5"/>
          <p:cNvSpPr/>
          <p:nvPr/>
        </p:nvSpPr>
        <p:spPr>
          <a:xfrm>
            <a:off x="468360" y="3068640"/>
            <a:ext cx="76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鼓声停后，人们仍沉浸在激情之中，这里用鸡啼反衬寂静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 Box 2"/>
          <p:cNvSpPr/>
          <p:nvPr/>
        </p:nvSpPr>
        <p:spPr>
          <a:xfrm>
            <a:off x="1295280" y="160020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是一篇描写抒情性散文，通过对安塞腰鼓的场面描写，歌颂了激荡的生命和磅礴的力量，这是生命和力量的宣泄，这是中华民族和黄土高原特有的一种文明、一种文化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3"/>
          <p:cNvSpPr/>
          <p:nvPr/>
        </p:nvSpPr>
        <p:spPr>
          <a:xfrm>
            <a:off x="1600200" y="83808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小       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1" name="Picture 4" descr=""/>
          <p:cNvPicPr/>
          <p:nvPr/>
        </p:nvPicPr>
        <p:blipFill>
          <a:blip r:embed="rId1"/>
          <a:stretch/>
        </p:blipFill>
        <p:spPr>
          <a:xfrm>
            <a:off x="1828800" y="3276720"/>
            <a:ext cx="502920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Text Box 2"/>
          <p:cNvSpPr/>
          <p:nvPr/>
        </p:nvSpPr>
        <p:spPr>
          <a:xfrm>
            <a:off x="609480" y="685800"/>
            <a:ext cx="7391520" cy="20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组阅读，寻找课文中的美点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试用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——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美，你看（听）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句式说出来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例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、蓄势待发的后生美，你看，他们身后是一片高梁地。他们朴实得就像那片高梁。咝溜溜的南风吹动了高梁叶子，也吹动了他们的衣衫。他们的神情沉稳而安静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3" name="Picture 3" descr="yaogu02"/>
          <p:cNvPicPr/>
          <p:nvPr/>
        </p:nvPicPr>
        <p:blipFill>
          <a:blip r:embed="rId1"/>
          <a:stretch/>
        </p:blipFill>
        <p:spPr>
          <a:xfrm>
            <a:off x="2057400" y="3733920"/>
            <a:ext cx="45086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4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1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6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2"/>
          <p:cNvSpPr/>
          <p:nvPr/>
        </p:nvSpPr>
        <p:spPr>
          <a:xfrm>
            <a:off x="685800" y="579132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安塞腰鼓表 演可由几人或上千人一同进行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7" name="Picture 3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61048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ext Box 2"/>
          <p:cNvSpPr/>
          <p:nvPr/>
        </p:nvSpPr>
        <p:spPr>
          <a:xfrm>
            <a:off x="304920" y="5791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磅礴的气势，精湛的表现力令人 陶醉，被称为“天下第一鼓”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9" name="Picture 3" descr="a12"/>
          <p:cNvPicPr/>
          <p:nvPr/>
        </p:nvPicPr>
        <p:blipFill>
          <a:blip r:embed="rId1"/>
          <a:stretch/>
        </p:blipFill>
        <p:spPr>
          <a:xfrm>
            <a:off x="380880" y="0"/>
            <a:ext cx="8001000" cy="55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477280" cy="4981680"/>
          </a:xfrm>
          <a:prstGeom prst="rect">
            <a:avLst/>
          </a:prstGeom>
          <a:ln w="0">
            <a:noFill/>
          </a:ln>
        </p:spPr>
      </p:pic>
      <p:sp>
        <p:nvSpPr>
          <p:cNvPr id="541" name="Rectangle 3"/>
          <p:cNvSpPr/>
          <p:nvPr/>
        </p:nvSpPr>
        <p:spPr>
          <a:xfrm>
            <a:off x="380880" y="533412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它先 后在第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届亚运会开幕式、香 港回归庆典等大型活动中表演，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996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年，安塞县被国家文化 部命名为“中国腰鼓之乡”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2050" descr="ftrq09"/>
          <p:cNvPicPr/>
          <p:nvPr/>
        </p:nvPicPr>
        <p:blipFill>
          <a:blip r:embed="rId1"/>
          <a:stretch/>
        </p:blipFill>
        <p:spPr>
          <a:xfrm>
            <a:off x="533520" y="304920"/>
            <a:ext cx="800100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2" descr="yaogu01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2"/>
          <p:cNvSpPr/>
          <p:nvPr/>
        </p:nvSpPr>
        <p:spPr>
          <a:xfrm>
            <a:off x="762120" y="1066680"/>
            <a:ext cx="7238880" cy="18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刘成章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937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年生，陕西省延安市人。现任陕西省作家协会副主席、中国散文学会常务理事。已出版六种散文集，其中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羊想云彩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获首届鲁迅文学奖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Times New Roman"/>
                <a:ea typeface="华文隶书"/>
              </a:rPr>
              <a:t>第一板块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083360" cy="16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324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300" spc="-1" strike="noStrike">
                <a:solidFill>
                  <a:srgbClr val="ff0000"/>
                </a:solidFill>
                <a:latin typeface="Times New Roman"/>
              </a:rPr>
              <a:t>朗读、感知</a:t>
            </a:r>
            <a:endParaRPr b="0" lang="en-US" sz="9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7" name="Picture 4" descr="MCj03943080000[1]"/>
          <p:cNvPicPr/>
          <p:nvPr/>
        </p:nvPicPr>
        <p:blipFill>
          <a:blip r:embed="rId1"/>
          <a:stretch/>
        </p:blipFill>
        <p:spPr>
          <a:xfrm>
            <a:off x="1619280" y="4365720"/>
            <a:ext cx="5616720" cy="180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" dur="5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30T09:44:04Z</dcterms:created>
  <dc:creator>马晓东</dc:creator>
  <dc:description>新语文 www.xinyuwen.com</dc:description>
  <dc:language>en-US</dc:language>
  <cp:lastModifiedBy>a</cp:lastModifiedBy>
  <dcterms:modified xsi:type="dcterms:W3CDTF">2015-02-10T01:50:59Z</dcterms:modified>
  <cp:revision>172</cp:revision>
  <dc:subject/>
  <dc:title>四川省平昌中学    马 晓 东</dc:title>
</cp:coreProperties>
</file>