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type.wav" ContentType="audio/x-wav"/>
  <Override PartName="/ppt/media/chimes.wav" ContentType="audio/x-wav"/>
  <Override PartName="/ppt/media/applause.wav" ContentType="audio/x-wav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568-AB49-4194-BDD9-0A1AD386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2DAD-52AA-40D9-BBB1-B84A7A9C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EFC46-3833-4783-B677-96EE0487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99263-1573-4B8D-B742-7DF0ABB2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2E1C3-2431-4A63-9C01-471CFABF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A1239-8CD2-4455-A56C-16FC30C3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4AB4C-3495-4FFD-AC45-D46E8020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2311D-FBB0-48BC-B1C5-75D3E897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D7956-2FBA-4E77-9026-2754AF54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8485C3-AF3B-41DC-8ED9-39ED53240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E54A4-CAF0-4852-9D50-9BF146EA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E79D6-4115-4F57-8142-FD29894E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B1C-FF63-4455-95F1-50C89D6B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D7973-0486-470E-9F31-1FEDBE2C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D9A0D-0366-42B7-9FBB-9BB087C6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D6140-9CE4-4416-AA4F-3E25510D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3CB34-07BB-4B75-BDB5-578E5BDA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7B439-A46D-44E4-B4AC-7CAA386B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7083A-9510-4EAA-924D-F354B888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84CD7-D5C2-4A85-99CD-24BFE005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A5ED6-0358-439E-A7EF-7987E3A4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616C5-CFDC-42F3-B8ED-CAAD87AA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484192-20FA-4D64-AC21-21F801A0C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F63-7318-44F8-A7F1-2653BDAF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34DB8-A765-47D1-8562-5681F665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36481-E177-431C-B94A-552004A0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0D29C-4DA1-450E-B145-8E4D6834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AED55-BC14-41C7-AC70-3FE4039F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2B6A2B-E54E-47E4-ADC6-EBBE7B08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38F0A-6822-43EA-B13A-A68199E5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EAB43-8B9A-4476-A571-569417B9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192EF-5491-45DA-B3F4-13EFD9AB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CCCCD-89F2-45BA-8143-9770A3F3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5A785-944B-4FA4-802C-E358D7BE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8DD2-DC61-4C79-B09E-8DBE2FF5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9DB4A-A2FF-440B-A284-49505140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1C746-380D-4715-A733-46240A95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13EAF-74B3-429C-846C-A04ECD97A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C7B8A-BCE1-4BB5-A16B-F1526292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026A3-7EA8-4559-96E8-2C1A5DD3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261C83-7460-459B-AEC5-07714A69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84CEC-8325-466A-AEA2-511AE9DD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6F0643-F4E4-427F-830A-E3CCDCDD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F483B-DCB7-4A57-A714-503819FF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48965-F39C-4EFE-8830-40B83237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A6EA-9838-49F1-9CA0-E9985A0A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52096-EF50-4933-9567-90EE8921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9C7024-A16C-4201-A7B0-1D2FE1C3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8182D7-97C1-499E-8D3A-8C681FAA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66745-0511-4103-AE7B-E7B6E0E5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D9F69-CB89-4C80-BC2F-7BB87EA86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8F8C4-DEF8-4B5E-9676-1D4785DC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C22484-FC57-4DB4-8973-8C751149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8ED08C-B6C5-4ADE-8221-BCD4445F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756F00-0BF6-4275-A80D-3D63C527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02567-1585-4ADF-BD2B-45931F7C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4B2F-773F-46B8-A998-EF0BC947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1AA8A9-6FFB-43B1-8914-58508162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5D128-31B1-402F-B168-5764EC50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269A6-982C-4E3A-BB93-DFFA7C9A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A63ED-8AA9-45C0-B284-0A0E56EC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2F40EB-8A8D-4FAD-9E55-DA8984B3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B9CCE-BB8C-4ECC-AF5E-4903F82B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12EDB0-967C-4AFE-8867-06E1D94D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2B46-99EC-4FD1-8F5A-04456F09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DFB4-BFE6-444A-ACA4-3117CD55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BA98-AA49-4FA4-B024-0A2C2211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48A4-54CA-43EF-9C82-44C0A379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5352-7D07-4DD1-89C3-99866643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FF78-C33E-415C-AFBA-05AEDA71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982F-4306-4E43-A962-07FBC123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08CD-58EA-4A25-B585-DF59EF9F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9E5E-5FB9-4044-A1AA-23FCB574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AD1A-30FF-4FCE-8465-027657E8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1B7F6-1DD1-4034-A31F-032D250F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E052C-766D-4A82-9A19-23B7378B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FE9E1-6F3E-4E68-A240-7771F3CE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E53A1-366D-4F3F-AEEE-91D0DD96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F4106-9AA8-4CFB-8C35-D6665073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2031-CC10-4B84-A657-970D560D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50427-7A17-4841-B433-C93E73B4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44A5-8364-4598-8840-D9496144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B681A-142A-4E2F-9FD7-A8FE6D3B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E175-BFEB-4E01-B6C9-EF1E818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4D7D-769E-47F8-88AA-07457FBD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BB778-E618-453D-8661-FD07901A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2BD45-F38F-421E-89AB-68B814B4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FAC9F-CF55-4DB0-9867-1FB5EB26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7FC6-9AD1-4862-A6BF-C1F7B9E6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A50F4-9B48-443A-BAE8-7D44B9C2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984-2A78-481D-BF34-7ACC81F5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30E50-61CA-4C8E-84B2-B3418B42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6AA7D-A492-4FE9-828B-7565FE80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A9F3-5375-4134-BF37-A93C3ACA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49D9-CC84-4E7D-81E3-9E11D111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858E-6F8E-4F21-9154-14AF0B84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D8B8-51CA-4CC7-AFAB-D9857F24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4E29-A020-47B4-8244-668F0EF9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8D7C8-1D8A-4BDA-B005-F4D952AA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49E30-EC7D-4B00-A9D9-6C49B828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07923-107F-4F6C-8624-AEB316DB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B56-E65A-401A-A4AD-CA88320A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AD65B-7B97-41BD-92C6-EBCD72F0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EB50-7BEF-4F02-B8E2-1A6452E3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6D81E-CDF8-4EC7-A199-70AF56AD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2327B-CBF0-4EA2-9FA1-13F53F88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B4CB7-9881-468E-BE72-61A5621E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4869-AFE3-4E0E-B004-794A0255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34E4-FDF3-4516-83B4-F841CD0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EF7F8-236E-45C2-8300-77D5BD2F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7564F-4FDA-4096-A6FF-470B275E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B9AE1-EA9C-4BAF-99D5-13BC839C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543-44DF-4A92-A659-BE1B5D54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1CB17-7804-4423-AD92-120799428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97391-31B2-4E1F-805F-ED23CEAA3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1BBD3-A41D-48C1-B3AB-6A5DCE1B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FAE53-0266-4177-9DCA-420A0288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C6099-96CC-443F-BB8F-7537CC25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664A-340F-41EA-BB14-61EBB501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C64C4-C830-44B0-81E0-F96A1E72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E0403-DC18-474A-AEE1-B31C2298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003F9-7D20-4339-9E4D-CA0F5065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3991E-A7A1-4A2A-A14A-E25311BE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60E-45BE-460E-92C6-907C1C5D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A70E4-8D1C-49CD-9507-97514604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5CFCE-920A-4601-BF37-A4FF411E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432F3-7164-40B4-BE90-D2B5889F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E1D6C-7F1C-4DA6-B3AE-4F413101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4DA40-8716-483B-89E0-77C2FD80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E006F-1524-4ACD-8F43-988EA4AE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D30CF-8E75-41BB-9802-133AB946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0F6A8-E9FC-471D-9567-7D6E827C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D7A76-3DD1-460E-B80F-A555B158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6D452-C977-4496-9E2D-423F6385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D30-DF42-4110-9CBD-BB50206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4DF98-F7CE-42FC-A4DF-62A0AEB8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C4A03-3961-425C-8ED3-E33CB506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7A748-3A24-4D9D-944D-51329C5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3B772-007C-4C6E-BF27-1B652D19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6280D-83CC-4294-885C-A2D72422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D26C5-8978-44C0-B205-FDDEF0D9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22D07-E732-450B-9889-C18DF74D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F1AAA-7156-4F46-A819-F9E2C7F0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CB199-D57A-4B18-BD09-0D903AD4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5E06B-38EB-4A28-BA7F-44F0D3C5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EB1-B737-4CB2-8C2E-9BEF8921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F225E-A1EC-4F11-B5EE-84682737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3B6E9-2BA1-4006-97E9-1263F9C4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3866E-B134-4D99-B323-49871FA1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A691B-520D-429A-A8D9-7EBA6EFC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E49A3-0002-4B8A-A65F-B56F8EEA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62608-6C5F-40E1-A5CE-A91062EC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CD026-4045-4BFA-BECC-214CA496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F611C-E5BC-4BFF-8CF6-08709DDF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4761A-F0E5-4B09-AFB8-5857A68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EB1A7-CBBE-4B30-9DEF-2A998ABB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8E13-DF05-4639-8959-57C00EB1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B85E-6AB9-4A05-98FD-A470EF79498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8526-1D74-41E0-886B-1210009F44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727B-E763-439D-9FC4-ACF48F1217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0205-163F-4A74-807A-7C2B072759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7642-79F0-4568-A432-F9D3142ABC2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31EC-23A4-4E4F-9969-CF8492D50F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6B5C-C5A1-4546-A1ED-1CAC948848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59C8-6AE8-4D83-8B9F-05E83A50A7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0332-233A-4545-8C60-AED6A4DFC0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CE9B-F752-4366-B440-812FEDDF3D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58BF-BB40-4895-9CD6-B944ACB49BD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690E-4869-423C-A3C7-C695F19830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82B1-B409-4240-85FC-C89EB3901C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2D75-140F-4373-86AC-8382844EDF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4182-EA92-4216-A706-D404AC34E2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AC89-61F3-46DE-8AFE-25D7729CDB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65FA-1A61-40A0-ABDF-7616655DCB4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BC60-0C11-4EB0-B5D4-11B52B4F507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2244-7738-46AE-A834-8411FAF1C3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8DA2-3FFE-4F83-83D7-35482780E4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00E5-4740-40A9-A748-EFE05DD53B5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7CCF-2D95-4FFE-AE94-ADE366903E5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027C-5CE8-4BDC-9337-54175BE96D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A7A2-AD9A-4AD5-902D-43E3DC3892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gif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gi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"/>
          <p:cNvSpPr/>
          <p:nvPr/>
        </p:nvSpPr>
        <p:spPr>
          <a:xfrm>
            <a:off x="685800" y="685800"/>
            <a:ext cx="7924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生活中的比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地球上的淡水含量与地球上水总量的比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安利洗涤剂与水的正常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我们喝的鲜橙多中橙汁与水的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妈妈做米饭时米与水的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一种咖啡奶，咖啡和奶的比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557_200532519343594528"/>
          <p:cNvPicPr/>
          <p:nvPr/>
        </p:nvPicPr>
        <p:blipFill>
          <a:blip r:embed="rId2"/>
          <a:stretch/>
        </p:blipFill>
        <p:spPr>
          <a:xfrm>
            <a:off x="3124080" y="380880"/>
            <a:ext cx="1051200" cy="1074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3"/>
          <p:cNvSpPr/>
          <p:nvPr/>
        </p:nvSpPr>
        <p:spPr>
          <a:xfrm>
            <a:off x="1523880" y="5335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二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914400" y="1143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一种什锦糖是由奶糖、水果糖、和酥糖按照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混合成的。要配制这样的什锦糖</a:t>
            </a:r>
            <a:r>
              <a:rPr b="0" lang="en-US" sz="2800" spc="-1" strike="noStrike">
                <a:solidFill>
                  <a:srgbClr val="00cc99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00cc99"/>
                </a:solidFill>
                <a:latin typeface="宋体"/>
              </a:rPr>
              <a:t>千克，需要奶糖、水果糖、和酥糖各多少千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6" name="Picture 5" descr="557_200532519343594528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6"/>
          <p:cNvSpPr/>
          <p:nvPr/>
        </p:nvSpPr>
        <p:spPr>
          <a:xfrm>
            <a:off x="1979640" y="2781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总份数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+5+2=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1981080" y="350532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奶糖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962520" y="3200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9"/>
          <p:cNvSpPr/>
          <p:nvPr/>
        </p:nvSpPr>
        <p:spPr>
          <a:xfrm>
            <a:off x="4191120" y="3733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4648320" y="3505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1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1905120" y="41148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水果糖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4267080" y="38862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"/>
          <p:cNvSpPr/>
          <p:nvPr/>
        </p:nvSpPr>
        <p:spPr>
          <a:xfrm>
            <a:off x="4343400" y="4343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4876920" y="4114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2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1905120" y="4876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酥糖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6"/>
          <p:cNvSpPr/>
          <p:nvPr/>
        </p:nvSpPr>
        <p:spPr>
          <a:xfrm>
            <a:off x="4038480" y="472428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17"/>
          <p:cNvSpPr/>
          <p:nvPr/>
        </p:nvSpPr>
        <p:spPr>
          <a:xfrm>
            <a:off x="419112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9"/>
          <p:cNvSpPr/>
          <p:nvPr/>
        </p:nvSpPr>
        <p:spPr>
          <a:xfrm>
            <a:off x="4800600" y="5029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1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千克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0"/>
          <p:cNvSpPr/>
          <p:nvPr/>
        </p:nvSpPr>
        <p:spPr>
          <a:xfrm>
            <a:off x="1219320" y="57150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答：需要奶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、水果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5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、酥糖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千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0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3"/>
          <p:cNvSpPr/>
          <p:nvPr/>
        </p:nvSpPr>
        <p:spPr>
          <a:xfrm>
            <a:off x="762120" y="1371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用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84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厘米长的铁丝围成一个三角形，三条边的长度比是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：</a:t>
            </a:r>
            <a:r>
              <a:rPr b="0" lang="en-US" sz="32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cc99"/>
                </a:solidFill>
                <a:latin typeface="宋体"/>
              </a:rPr>
              <a:t>。三角形的三条边各长多少厘米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"/>
          <p:cNvSpPr/>
          <p:nvPr/>
        </p:nvSpPr>
        <p:spPr>
          <a:xfrm>
            <a:off x="914400" y="3276720"/>
            <a:ext cx="1371600" cy="27432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2743200" y="3886200"/>
            <a:ext cx="4419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84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2843280" y="328464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3+4+5=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7"/>
          <p:cNvSpPr/>
          <p:nvPr/>
        </p:nvSpPr>
        <p:spPr>
          <a:xfrm>
            <a:off x="3429000" y="4038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3505320" y="365760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9"/>
          <p:cNvSpPr/>
          <p:nvPr/>
        </p:nvSpPr>
        <p:spPr>
          <a:xfrm>
            <a:off x="3506760" y="43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350676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11"/>
          <p:cNvSpPr/>
          <p:nvPr/>
        </p:nvSpPr>
        <p:spPr>
          <a:xfrm>
            <a:off x="3505320" y="4114800"/>
            <a:ext cx="3808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2"/>
          <p:cNvSpPr/>
          <p:nvPr/>
        </p:nvSpPr>
        <p:spPr>
          <a:xfrm>
            <a:off x="3430080" y="4724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3"/>
          <p:cNvSpPr/>
          <p:nvPr/>
        </p:nvSpPr>
        <p:spPr>
          <a:xfrm>
            <a:off x="3430080" y="5410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4"/>
          <p:cNvSpPr/>
          <p:nvPr/>
        </p:nvSpPr>
        <p:spPr>
          <a:xfrm>
            <a:off x="3505320" y="4800600"/>
            <a:ext cx="457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15"/>
          <p:cNvSpPr/>
          <p:nvPr/>
        </p:nvSpPr>
        <p:spPr>
          <a:xfrm>
            <a:off x="3505320" y="5486400"/>
            <a:ext cx="457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6"/>
          <p:cNvSpPr/>
          <p:nvPr/>
        </p:nvSpPr>
        <p:spPr>
          <a:xfrm>
            <a:off x="3886200" y="3886200"/>
            <a:ext cx="198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=21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=28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=35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7"/>
          <p:cNvSpPr/>
          <p:nvPr/>
        </p:nvSpPr>
        <p:spPr>
          <a:xfrm>
            <a:off x="4038480" y="5943600"/>
            <a:ext cx="2210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2438280" y="5867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答：三条边分别长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21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,28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</a:rPr>
              <a:t>, 35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1676520" y="6094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22" descr="557_200532519343594528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FIREWKS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3"/>
          <p:cNvSpPr/>
          <p:nvPr/>
        </p:nvSpPr>
        <p:spPr>
          <a:xfrm>
            <a:off x="1295280" y="1600200"/>
            <a:ext cx="6858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贺你们闯关成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33"/>
                </a:solidFill>
                <a:latin typeface="Times New Roman"/>
                <a:ea typeface="华文彩云"/>
              </a:rPr>
              <a:t>你们永远是最棒的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24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2"/>
          <p:cNvSpPr/>
          <p:nvPr/>
        </p:nvSpPr>
        <p:spPr>
          <a:xfrm>
            <a:off x="838080" y="380880"/>
            <a:ext cx="8458200" cy="1384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再攀高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甲乙两个数的比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:6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甲数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乙数是多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838080" y="350532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爸爸和王叔叔合作出资做生意，爸爸出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王叔叔出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一年后共盈利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，爸爸和王叔叔各分得多少钱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23" descr="557_200532519343594528"/>
          <p:cNvPicPr/>
          <p:nvPr/>
        </p:nvPicPr>
        <p:blipFill>
          <a:blip r:embed="rId2"/>
          <a:stretch/>
        </p:blipFill>
        <p:spPr>
          <a:xfrm>
            <a:off x="152280" y="0"/>
            <a:ext cx="105120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0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533520" y="1066680"/>
            <a:ext cx="8229600" cy="37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活学活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、白兔和灰兔只数的比是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，白兔占两种兔总只数的（    ），灰兔占两种兔总只数的（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2 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六三班男生和女生的比是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2:5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男生占全班人数的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(      )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，女生占全班人数的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(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Picture 26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371520" cy="838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8" descr=""/>
          <p:cNvPicPr/>
          <p:nvPr/>
        </p:nvPicPr>
        <p:blipFill>
          <a:blip r:embed="rId3"/>
          <a:stretch/>
        </p:blipFill>
        <p:spPr>
          <a:xfrm>
            <a:off x="7010280" y="2057400"/>
            <a:ext cx="452520" cy="7621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1" descr=""/>
          <p:cNvPicPr/>
          <p:nvPr/>
        </p:nvPicPr>
        <p:blipFill>
          <a:blip r:embed="rId4"/>
          <a:stretch/>
        </p:blipFill>
        <p:spPr>
          <a:xfrm>
            <a:off x="2666880" y="3886200"/>
            <a:ext cx="247680" cy="7621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6" descr=""/>
          <p:cNvPicPr/>
          <p:nvPr/>
        </p:nvPicPr>
        <p:blipFill>
          <a:blip r:embed="rId5"/>
          <a:stretch/>
        </p:blipFill>
        <p:spPr>
          <a:xfrm>
            <a:off x="7162920" y="3962520"/>
            <a:ext cx="222120" cy="685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1" descr="557_200532519343594528"/>
          <p:cNvPicPr/>
          <p:nvPr/>
        </p:nvPicPr>
        <p:blipFill>
          <a:blip r:embed="rId6"/>
          <a:stretch/>
        </p:blipFill>
        <p:spPr>
          <a:xfrm>
            <a:off x="152280" y="0"/>
            <a:ext cx="1051200" cy="10746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16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17"/>
          <p:cNvSpPr/>
          <p:nvPr/>
        </p:nvSpPr>
        <p:spPr>
          <a:xfrm>
            <a:off x="609480" y="914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、肯德基的老板听说这种新出的咖啡奶口感好，受欢迎，决定引进这种咖啡奶，他想请同学帮忙计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8" descr="557_200532519343594528"/>
          <p:cNvPicPr/>
          <p:nvPr/>
        </p:nvPicPr>
        <p:blipFill>
          <a:blip r:embed="rId2"/>
          <a:stretch/>
        </p:blipFill>
        <p:spPr>
          <a:xfrm>
            <a:off x="304920" y="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20"/>
          <p:cNvSpPr/>
          <p:nvPr/>
        </p:nvSpPr>
        <p:spPr>
          <a:xfrm>
            <a:off x="762120" y="17524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一杯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330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毫升的咖啡奶，咖啡和奶的比为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。需要咖啡和奶各多少毫升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137160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22"/>
          <p:cNvSpPr/>
          <p:nvPr/>
        </p:nvSpPr>
        <p:spPr>
          <a:xfrm>
            <a:off x="990720" y="3048120"/>
            <a:ext cx="7238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想：咖啡和奶的比是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：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，就是说，在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330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毫升的咖啡奶中，咖啡占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，奶占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9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，一共是</a:t>
            </a:r>
            <a:r>
              <a:rPr b="0" lang="en-US" sz="2000" spc="-1" strike="noStrike">
                <a:solidFill>
                  <a:srgbClr val="00cc00"/>
                </a:solidFill>
                <a:latin typeface="宋体"/>
              </a:rPr>
              <a:t>11</a:t>
            </a:r>
            <a:r>
              <a:rPr b="0" lang="zh-CN" sz="2000" spc="-1" strike="noStrike">
                <a:solidFill>
                  <a:srgbClr val="00cc00"/>
                </a:solidFill>
                <a:latin typeface="宋体"/>
              </a:rPr>
              <a:t>份。也就是说，咖啡占咖啡奶的     ，奶占咖啡奶的      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23"/>
          <p:cNvSpPr/>
          <p:nvPr/>
        </p:nvSpPr>
        <p:spPr>
          <a:xfrm>
            <a:off x="1371600" y="3733920"/>
            <a:ext cx="533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3809880" y="3733920"/>
            <a:ext cx="533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0"/>
          <p:cNvSpPr/>
          <p:nvPr/>
        </p:nvSpPr>
        <p:spPr>
          <a:xfrm>
            <a:off x="1523880" y="43434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奶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1"/>
          <p:cNvSpPr/>
          <p:nvPr/>
        </p:nvSpPr>
        <p:spPr>
          <a:xfrm>
            <a:off x="4191120" y="4419720"/>
            <a:ext cx="5331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32"/>
          <p:cNvSpPr/>
          <p:nvPr/>
        </p:nvSpPr>
        <p:spPr>
          <a:xfrm>
            <a:off x="1905120" y="49528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奶</a:t>
            </a: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咖啡奶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3"/>
          <p:cNvSpPr/>
          <p:nvPr/>
        </p:nvSpPr>
        <p:spPr>
          <a:xfrm>
            <a:off x="4191120" y="5029200"/>
            <a:ext cx="5331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6"/>
          <p:cNvSpPr/>
          <p:nvPr/>
        </p:nvSpPr>
        <p:spPr>
          <a:xfrm>
            <a:off x="1447920" y="3962520"/>
            <a:ext cx="30456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37"/>
          <p:cNvSpPr/>
          <p:nvPr/>
        </p:nvSpPr>
        <p:spPr>
          <a:xfrm>
            <a:off x="3886200" y="396252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8"/>
          <p:cNvSpPr/>
          <p:nvPr/>
        </p:nvSpPr>
        <p:spPr>
          <a:xfrm>
            <a:off x="4343400" y="525780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39"/>
          <p:cNvSpPr/>
          <p:nvPr/>
        </p:nvSpPr>
        <p:spPr>
          <a:xfrm>
            <a:off x="4343400" y="4648320"/>
            <a:ext cx="3049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8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2"/>
          <p:cNvSpPr/>
          <p:nvPr/>
        </p:nvSpPr>
        <p:spPr>
          <a:xfrm>
            <a:off x="1066680" y="175248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工农业生产和生活中，常常需要把一个数量按照一定的比来进行分配。这种分配方法通常叫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按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比例分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Picture 3" descr="557_200532519343594528"/>
          <p:cNvPicPr/>
          <p:nvPr/>
        </p:nvPicPr>
        <p:blipFill>
          <a:blip r:embed="rId2"/>
          <a:stretch/>
        </p:blipFill>
        <p:spPr>
          <a:xfrm>
            <a:off x="304920" y="22860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562" name="Text Box 6"/>
          <p:cNvSpPr/>
          <p:nvPr/>
        </p:nvSpPr>
        <p:spPr>
          <a:xfrm>
            <a:off x="3048120" y="762120"/>
            <a:ext cx="373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比的应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3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0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5"/>
          <p:cNvSpPr/>
          <p:nvPr/>
        </p:nvSpPr>
        <p:spPr>
          <a:xfrm>
            <a:off x="1143000" y="457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：</a:t>
            </a:r>
            <a:r>
              <a:rPr b="0" lang="zh-CN" sz="3200" spc="-1" strike="noStrike">
                <a:solidFill>
                  <a:srgbClr val="00cc99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7" descr="557_200532519343594528"/>
          <p:cNvPicPr/>
          <p:nvPr/>
        </p:nvPicPr>
        <p:blipFill>
          <a:blip r:embed="rId2"/>
          <a:stretch/>
        </p:blipFill>
        <p:spPr>
          <a:xfrm>
            <a:off x="0" y="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8"/>
          <p:cNvSpPr/>
          <p:nvPr/>
        </p:nvSpPr>
        <p:spPr>
          <a:xfrm>
            <a:off x="609480" y="9907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、学校把栽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8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棵树的任务，按照六年级三个班的人数，分配给各班。一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7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二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三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。三个班各应栽树多少棵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5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3"/>
          <p:cNvSpPr/>
          <p:nvPr/>
        </p:nvSpPr>
        <p:spPr>
          <a:xfrm>
            <a:off x="609480" y="914400"/>
            <a:ext cx="7994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、学校把栽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28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棵树的任务，按照六年级三个班的人数，分配给各班。一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7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二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5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，三班有</a:t>
            </a:r>
            <a:r>
              <a:rPr b="0" lang="en-US" sz="2800" spc="-1" strike="noStrike">
                <a:solidFill>
                  <a:srgbClr val="3366ff"/>
                </a:solidFill>
                <a:latin typeface="宋体"/>
              </a:rPr>
              <a:t>4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</a:rPr>
              <a:t>人。三个班各应栽树多少棵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4" descr="557_200532519343594528"/>
          <p:cNvPicPr/>
          <p:nvPr/>
        </p:nvPicPr>
        <p:blipFill>
          <a:blip r:embed="rId2"/>
          <a:stretch/>
        </p:blipFill>
        <p:spPr>
          <a:xfrm>
            <a:off x="228600" y="152280"/>
            <a:ext cx="1050840" cy="107496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5"/>
          <p:cNvSpPr/>
          <p:nvPr/>
        </p:nvSpPr>
        <p:spPr>
          <a:xfrm>
            <a:off x="1116000" y="2565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三个班的总人数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47+45+48=14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人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6"/>
          <p:cNvSpPr/>
          <p:nvPr/>
        </p:nvSpPr>
        <p:spPr>
          <a:xfrm>
            <a:off x="1116000" y="3357720"/>
            <a:ext cx="51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一班应栽的棵数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6084720" y="3141720"/>
            <a:ext cx="6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9"/>
          <p:cNvSpPr/>
          <p:nvPr/>
        </p:nvSpPr>
        <p:spPr>
          <a:xfrm>
            <a:off x="6084720" y="3716280"/>
            <a:ext cx="50508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10"/>
          <p:cNvSpPr/>
          <p:nvPr/>
        </p:nvSpPr>
        <p:spPr>
          <a:xfrm>
            <a:off x="6804000" y="3357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宋体"/>
              </a:rPr>
              <a:t>=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棵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1"/>
          <p:cNvSpPr/>
          <p:nvPr/>
        </p:nvSpPr>
        <p:spPr>
          <a:xfrm>
            <a:off x="1116000" y="40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二班应栽的棵树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6084720" y="4005360"/>
            <a:ext cx="72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5"/>
          <p:cNvSpPr/>
          <p:nvPr/>
        </p:nvSpPr>
        <p:spPr>
          <a:xfrm>
            <a:off x="6084720" y="4437000"/>
            <a:ext cx="6480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6804000" y="422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=9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17"/>
          <p:cNvSpPr/>
          <p:nvPr/>
        </p:nvSpPr>
        <p:spPr>
          <a:xfrm>
            <a:off x="1116000" y="4941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）三班应栽的棵数：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28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6012000" y="4797360"/>
            <a:ext cx="64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0"/>
          <p:cNvSpPr/>
          <p:nvPr/>
        </p:nvSpPr>
        <p:spPr>
          <a:xfrm>
            <a:off x="6012000" y="5229360"/>
            <a:ext cx="50472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21"/>
          <p:cNvSpPr/>
          <p:nvPr/>
        </p:nvSpPr>
        <p:spPr>
          <a:xfrm>
            <a:off x="6732720" y="5013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=96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（棵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22"/>
          <p:cNvSpPr/>
          <p:nvPr/>
        </p:nvSpPr>
        <p:spPr>
          <a:xfrm>
            <a:off x="826920" y="5734080"/>
            <a:ext cx="80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答：一班、二班、三班各应栽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4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、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0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、</a:t>
            </a:r>
            <a:r>
              <a:rPr b="0" lang="en-US" sz="2800" spc="-1" strike="noStrike">
                <a:solidFill>
                  <a:srgbClr val="ff00ff"/>
                </a:solidFill>
                <a:latin typeface="宋体"/>
              </a:rPr>
              <a:t>96</a:t>
            </a:r>
            <a:r>
              <a:rPr b="0" lang="zh-CN" sz="2800" spc="-1" strike="noStrike">
                <a:solidFill>
                  <a:srgbClr val="ff00ff"/>
                </a:solidFill>
                <a:latin typeface="宋体"/>
              </a:rPr>
              <a:t>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24"/>
          <p:cNvSpPr/>
          <p:nvPr/>
        </p:nvSpPr>
        <p:spPr>
          <a:xfrm>
            <a:off x="152388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尝试探究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3"/>
          <p:cNvSpPr/>
          <p:nvPr/>
        </p:nvSpPr>
        <p:spPr>
          <a:xfrm>
            <a:off x="1143000" y="12952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已知总数和各部分数的比，求各部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4" descr="557_200532519343594528"/>
          <p:cNvPicPr/>
          <p:nvPr/>
        </p:nvPicPr>
        <p:blipFill>
          <a:blip r:embed="rId2"/>
          <a:stretch/>
        </p:blipFill>
        <p:spPr>
          <a:xfrm>
            <a:off x="228600" y="152280"/>
            <a:ext cx="1050840" cy="107496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5"/>
          <p:cNvSpPr/>
          <p:nvPr/>
        </p:nvSpPr>
        <p:spPr>
          <a:xfrm>
            <a:off x="990720" y="7621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结构特征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6"/>
          <p:cNvSpPr/>
          <p:nvPr/>
        </p:nvSpPr>
        <p:spPr>
          <a:xfrm>
            <a:off x="990720" y="20574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Times New Roman"/>
              </a:rPr>
              <a:t>方法与步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762120" y="2895480"/>
            <a:ext cx="7924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根据比先求出总份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求出各部分数占总数的几分之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运用分数乘法列式计算，求出各部分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</a:rPr>
              <a:t>、答题并检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2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3"/>
          <p:cNvSpPr/>
          <p:nvPr/>
        </p:nvSpPr>
        <p:spPr>
          <a:xfrm>
            <a:off x="914400" y="83808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一个农场计划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公顷的地里播种大豆和玉米。播种面积的比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两种作物各播种多少公顷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Picture 4" descr="557_200532519343594528"/>
          <p:cNvPicPr/>
          <p:nvPr/>
        </p:nvPicPr>
        <p:blipFill>
          <a:blip r:embed="rId2"/>
          <a:stretch/>
        </p:blipFill>
        <p:spPr>
          <a:xfrm>
            <a:off x="304920" y="30492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6"/>
          <p:cNvSpPr/>
          <p:nvPr/>
        </p:nvSpPr>
        <p:spPr>
          <a:xfrm>
            <a:off x="1403280" y="333360"/>
            <a:ext cx="36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一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3"/>
          <p:cNvSpPr/>
          <p:nvPr/>
        </p:nvSpPr>
        <p:spPr>
          <a:xfrm>
            <a:off x="1447920" y="22096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二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914400" y="2666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一种什锦糖是由奶糖、水果糖、和酥糖按照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混合成的。要配制这样的什锦糖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千克，需要奶糖、水果糖、和酥糖各多少千克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5"/>
          <p:cNvSpPr/>
          <p:nvPr/>
        </p:nvSpPr>
        <p:spPr>
          <a:xfrm>
            <a:off x="1523880" y="396252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三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8"/>
          <p:cNvSpPr/>
          <p:nvPr/>
        </p:nvSpPr>
        <p:spPr>
          <a:xfrm>
            <a:off x="914400" y="46483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用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8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厘米长的铁丝围成一个三角形，三条边的长度比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。三角形的三条边各长多少厘米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4" descr="bei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557_200532519343594528"/>
          <p:cNvPicPr/>
          <p:nvPr/>
        </p:nvPicPr>
        <p:blipFill>
          <a:blip r:embed="rId2"/>
          <a:stretch/>
        </p:blipFill>
        <p:spPr>
          <a:xfrm>
            <a:off x="304920" y="228600"/>
            <a:ext cx="1050840" cy="10746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6"/>
          <p:cNvSpPr/>
          <p:nvPr/>
        </p:nvSpPr>
        <p:spPr>
          <a:xfrm>
            <a:off x="900000" y="9079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、一个农场计划在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公顷的地里播种大豆和玉米。播种面积的比是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。两种作物各播种多少公顷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7"/>
          <p:cNvSpPr/>
          <p:nvPr/>
        </p:nvSpPr>
        <p:spPr>
          <a:xfrm>
            <a:off x="1042920" y="2997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总面积平均分成的份数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+2=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1042920" y="371628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播种大豆的面积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5867280" y="3357720"/>
            <a:ext cx="57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5867280" y="3933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2"/>
          <p:cNvSpPr/>
          <p:nvPr/>
        </p:nvSpPr>
        <p:spPr>
          <a:xfrm>
            <a:off x="6443640" y="37162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3"/>
          <p:cNvSpPr/>
          <p:nvPr/>
        </p:nvSpPr>
        <p:spPr>
          <a:xfrm>
            <a:off x="1116000" y="458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播种玉米的面积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4"/>
          <p:cNvSpPr/>
          <p:nvPr/>
        </p:nvSpPr>
        <p:spPr>
          <a:xfrm>
            <a:off x="5940360" y="4365720"/>
            <a:ext cx="79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5"/>
          <p:cNvSpPr/>
          <p:nvPr/>
        </p:nvSpPr>
        <p:spPr>
          <a:xfrm>
            <a:off x="5940360" y="486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6443640" y="465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=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公顷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8"/>
          <p:cNvSpPr/>
          <p:nvPr/>
        </p:nvSpPr>
        <p:spPr>
          <a:xfrm>
            <a:off x="1332000" y="5516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答：播种大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顷，播种玉米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公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9"/>
          <p:cNvSpPr/>
          <p:nvPr/>
        </p:nvSpPr>
        <p:spPr>
          <a:xfrm>
            <a:off x="1403280" y="333360"/>
            <a:ext cx="36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隶书"/>
              </a:rPr>
              <a:t>闯关活动：第一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01:16:52Z</dcterms:created>
  <dc:creator>wy</dc:creator>
  <dc:description/>
  <dc:language>en-US</dc:language>
  <cp:lastModifiedBy>a</cp:lastModifiedBy>
  <dcterms:modified xsi:type="dcterms:W3CDTF">2015-03-18T05:36:42Z</dcterms:modified>
  <cp:revision>79</cp:revision>
  <dc:subject/>
  <dc:title>PowerPoint 演示文稿</dc:title>
</cp:coreProperties>
</file>