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B4C-9AF6-42AF-87E6-DC13FF08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FBE-EDA7-4DB6-80C0-5792C647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72D3F-D137-4949-8583-A9F136B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48578-6124-4351-A54A-1E3A0804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9CA41-5379-46C4-8476-1142F616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A7F35-824F-4C47-AFE5-F0131FE2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4B1C4-D399-46AB-AA0C-24D9E2C3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DD896-F904-4C36-941B-6B157DA6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A8694-9A0C-4288-B61C-B15EB2F2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E1213-7785-47FA-949B-905B44B5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2E562-CF0F-416A-9FEB-EAC30DDF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D3111-72B8-4F9A-AB25-DF9BF9FD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5D8-F400-4FBE-ACCE-CDF4917A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43135-FC24-4A94-BED1-3A3311ED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95C72-8A39-46AA-B8DE-D854BB5B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C591E-17C2-4933-B88F-8566E86A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6A107-BB83-482A-8C2E-AAEB8F82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A6498-D671-499B-96E8-9596A7C2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4BCBF-29A5-472D-B933-B7295783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4FE1B-FB76-47BE-A2A6-040E5D0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90BDA-CB07-410E-B2BC-6EBD18F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B8074-4024-440D-8C27-3DC09628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C5BD5-10DD-4E31-8CCF-57DC9841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A60-7B25-46DB-92E3-A6C0C550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6AA40-D0B9-4909-B3F0-389035E4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80FD3-4E1C-425E-9F46-2DF480EB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44867-74CB-4188-AD00-94A9C09A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3885B-3025-45DB-A384-37A75FDB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01EDC-C69C-4FF8-8F26-34EF7206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7C63F-ABC5-4203-B9CD-D0BB6807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F3033-FCBA-460A-A9F7-CFB5A507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12C4B-0C0C-4D07-A42D-3A73FE8A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93335-2790-4381-8C6C-62EBF09A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6EA00-5EE8-4310-A1E8-C34C04AA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06E5-2065-40CC-8911-2C4CB980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323D7-5445-4CE0-81EB-A72244C5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F2861-49EA-4017-845F-2FE1E6FE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631C7-0637-4A04-B2EC-EDB06C90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DECEE-9E26-4024-B6F7-AE6137C9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DC881-DA5C-40DC-803D-1DE4AB31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E23EA-4488-42C3-8691-29495901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B1A81-2FE8-4F67-A375-88B156C0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445C1-FF07-4156-99D8-731381F4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995D5-FB41-4517-B247-AE8BF7DC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63313-DE80-4CC7-8E3D-E5E6F3E8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3BE8-4830-4041-8FBB-D5DF4818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FE2AA-5DD6-4937-83C1-D2CAD1E9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8D563-E573-4F5B-AFD5-443E4BD6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16588-51DD-4C14-B37B-11293704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6C200-3284-4893-B00D-19DA6E2A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BD9D3-19B7-4E7A-B685-9061DAC1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7FEC2-0769-45DD-AC94-73B64AC1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77AC5-5AC2-4BA0-9580-4FA0CB18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D6D73-259A-4B85-A67B-F571D901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AD371-EFB9-47A1-A3CF-D1FBEBA1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34A09-4671-41AA-AE0D-2930D4EC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EB5E-BBC3-4803-A471-9A418D45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9B2F6-82DE-49D6-9DC3-84596BF8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0FF2A-113B-4085-84AF-B77B4FA0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A4704-AC85-40E4-92A6-F1E1D987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3D2DA-B697-4A41-A45B-39C26308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A6385-8007-4FA4-BCD3-22069117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37D6C-DFED-4E6F-8044-4663E1C2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23B24-587F-4944-8ACB-8527A1F6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8F66-107B-4EBC-9C65-0FFB27AE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88D0-0AFC-47F7-8B6E-5A53DEC8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7282-C134-48F5-8B7F-DD20F22D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C428-B5D6-42A4-B855-5D647050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F2E-420B-439D-8B1E-9F659A8D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C6F6-0762-4DCF-B571-CA98CAE3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6EAB-86D2-4BCF-8E65-FA36A040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3651-AD85-412D-90FC-54FB88FD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2D84-FAC7-4647-BB22-3AAC0457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D53B-976C-4038-B42D-DFBFCF3F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980F-CD79-49F2-A95D-93323E6D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1A4B-8DD9-42F3-B3B1-6274AA2B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648E-34E5-44F6-AF16-E298A481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9C84-8FD2-41EA-9422-5514F876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C8B65-8706-4023-9066-3D4E8C34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ECE-BCD1-4E17-AD96-2483B2B9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C2D99-5518-4FC4-9FA5-A689FEFB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14D1D-8466-4B20-BEA4-F8114EE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8834-6EC5-403E-9C6D-9CD9366E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96B9-4367-4B5C-89D2-FE68F31B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ADB76-ADD6-4314-A19A-95A011A5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1293-F0F2-4A1E-A509-2FE3E1F5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AD71-7BF2-4312-9522-43F095B2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EA1B-50D7-488D-8BCA-BA44A2A7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67D1F-7DD4-4A81-BD2A-2503A53F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CAA5-4DC6-4293-8C63-1FA95383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B00-069E-40B4-93CD-7B0F0DBB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18ED8-44AB-4649-8D2F-FCFF6E87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E692-2D91-46F2-8F12-B35DD604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E204-79E7-4D9C-B93B-AAD81FD8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B03E-C19F-438A-B86A-7D29F52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A1DF-3E32-423E-9457-74296DA4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5188-B400-420E-BAEA-DAACFA8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5D3DE-D21D-4F05-8918-2A4F3D66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565B-572A-42F2-8D54-96DD0099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ED126-7B0B-45AD-8727-CC46BBBA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A7159-C74D-476B-A9FA-0C20E214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942-FB8D-4D03-9EDD-96A16AEF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76E45-266F-4159-9263-84670586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10623-7CC5-4A7E-87E8-35D83F26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AB8C5-6D38-43C4-ABA6-C572C28F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D4C4-8E12-4738-8110-E5B821A5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990C-7E9F-4BD1-90C0-E7CB2E9D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DC3CC-241E-400E-82AB-8485D08B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FC9E-2EF5-4AC6-8D35-EDB34ED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197AD-5F6D-48C0-81F0-77B9186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04FEF-E033-4AB2-8B1D-BC86958C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3F26A-CC06-49C5-BF53-ADD236C5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C07-4437-4098-AEF6-A14E9C09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4CB4-B945-4E38-8D83-FC71A31C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37668-A94F-40A9-950C-F76491EB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9FF77-EE31-43D1-B80C-6EF9CF45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8DEDA-B243-4800-8418-63125A3A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562B2-5B03-4C0B-82AB-544C249E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A31C6-5760-42E3-871A-6F4148D6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795BF-6C77-4400-98C6-EE471D63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C5EA4-8D03-49E6-9E8A-56718B28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13982-0B48-467C-BB92-79E426F2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8DD26-CA7E-4CC1-8A05-976D48A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012-4FB3-4B9B-80A1-34AFD68A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9F2E5-44F4-4935-B158-C2ABEE0D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7A99D-9787-4EEF-9EAF-D6B1F66C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C1747-5520-484D-9D3F-B01CF114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4B973-D7C8-47F9-8B8C-316BA2BF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58F7E-402A-4E14-A6D6-4E2E6F1E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F77A2-7695-48AC-9D10-0250D358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6047A-C1EB-48CC-BD72-8F97A06F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4C633-E700-4BA7-9AA0-AE3BC83F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2CF31-7BC5-410A-88B3-ABCEE874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79E08-AEB9-4E35-A64B-F172D782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8C0-8FB7-406F-9AB2-F6BE5F48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34BA5-CC9F-44B4-88E7-EEBEF17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46119-6B50-4B2A-810A-24721476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C02C6-CFB0-4682-AAAB-47BFA92C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A838-9CF1-4C07-B981-33ABBC77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82D6-C940-4604-A47D-2D0BEA29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D93BE-7C13-425A-A9B2-218FE2E6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27179-EC67-441C-8997-61855FDD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AB787-B5F5-4092-BE25-071DDBD9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46649-1CD6-4E1D-AD6D-88877F61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57E46-E248-4164-9C12-00ECED09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A17-C880-4518-906F-ECC86D4D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5988E-97F0-431A-A62A-12BF0581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F45C9-2733-4BB4-8A62-1E5430A4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0AD7C-0CEF-4C18-95B6-7209B74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D0EC8-45C2-49E4-ADAA-32F419D7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22C81-4B12-4065-8082-96FA9EF8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7EC21-F768-4BC3-8EE1-D8CD09E4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0DCB0-DE7C-4BBF-853B-F3F28252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CC085-6897-4034-AADB-9124AF68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7E794-2A5F-4E26-840B-CD63821F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B3DC8-F617-47AD-9B8B-9B3AE035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103D-C032-4AA6-AC47-4330E72B21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382F-3604-45C4-8CCB-9127F184B6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9DCD-D12B-494C-82CB-1B6E8C2700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67B7-2C52-44F5-8CF4-134B7527DD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FD10-F571-444C-A2DB-62CAAED894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2E7B-1261-4B90-A35F-F6F3B480BD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40BE-4643-4814-AFBD-5BFFF6F54C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BD0D-7E6D-4E6C-B44D-99B27A17589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E326-EB75-4808-8306-53405800A9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A7A3-E475-4689-BCB7-CEC7DCDFDC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126C-9C26-42A4-B609-34C9813E15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992B-BD7C-46DD-A6AC-E306632BAE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0AC1-9C8A-41C0-BC8F-1FDFA6B67D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32D2-C521-4C22-B429-1FD0C69882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8B2D-B488-413C-838E-50960ABAF0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42D4-6461-440C-8744-B18B9B2BA4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6B73-F70F-4177-B33F-6BE2AB63A1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44B9-9F8A-4FAA-A56D-C094ABDBC5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0513-EF79-4ED1-A69B-6FFF8F164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B912-662D-4FC2-B98A-4C64CFFFC9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3561-7A08-4187-BAA8-7DD75C537F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ED57-72D1-48ED-A263-B8EEF090C4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AA4E-7F96-4436-A9E1-BC8B03BB04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B49E-9054-40E6-82B3-2602608BCA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9EC5-B54A-418B-895B-7A71BF1214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3"/>
          <p:cNvSpPr/>
          <p:nvPr/>
        </p:nvSpPr>
        <p:spPr>
          <a:xfrm>
            <a:off x="533520" y="6094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某学校有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人，今天到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490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人，求出勤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533520" y="20574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某学校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人，今天未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人，求出勤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685800" y="3657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某学校今天到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490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人，未到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人，求出勤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974880" y="558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685800" y="4572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同学们植树，活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96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棵，未成活的有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棵，求这批树苗的成活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609480" y="22860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许师傅日产零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8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个，其中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个不合格，求产品的合格率和不合格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380880" y="44197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生产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05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个零件，全部合格，合格率是多少？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如果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个不合格，合格率是多少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533520" y="4572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6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457200" y="32004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超额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1905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比计划多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380880" y="5029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比计划少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685800" y="25146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超额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7621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比计划多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533520" y="380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实际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6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914400" y="609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实际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4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节约了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90720" y="2514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比计划少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节约了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1066680" y="46483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实际少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节约了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914400" y="533520"/>
            <a:ext cx="76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6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1066680" y="23623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实际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6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990720" y="4267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超额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914400" y="609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比计划少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990720" y="2514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比计划少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节约了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1066680" y="46483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实际少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节约了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914400" y="3049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超额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762120" y="2286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比计划多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7621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比计划多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6T08:37:46Z</dcterms:modified>
  <cp:revision>4</cp:revision>
  <dc:subject/>
  <dc:title>PowerPoint Presentation</dc:title>
</cp:coreProperties>
</file>