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6.jpeg" ContentType="image/jpeg"/>
  <Override PartName="/ppt/media/image11.jpeg" ContentType="image/jpeg"/>
  <Override PartName="/ppt/media/image31.gif" ContentType="image/gif"/>
  <Override PartName="/ppt/media/image38.jpeg" ContentType="image/jpeg"/>
  <Override PartName="/ppt/media/image32.gif" ContentType="image/gif"/>
  <Override PartName="/ppt/media/image37.jpeg" ContentType="image/jpeg"/>
  <Override PartName="/ppt/media/image10.gif" ContentType="image/gif"/>
  <Override PartName="/ppt/media/image12.gif" ContentType="image/gif"/>
  <Override PartName="/ppt/media/image33.jpeg" ContentType="image/jpeg"/>
  <Override PartName="/ppt/media/image39.jpeg" ContentType="image/jpeg"/>
  <Override PartName="/ppt/media/image41.png" ContentType="image/png"/>
  <Override PartName="/ppt/media/image30.gif" ContentType="image/gif"/>
  <Override PartName="/ppt/media/image42.gif" ContentType="image/gif"/>
  <Override PartName="/ppt/media/image43.jpeg" ContentType="image/jpeg"/>
  <Override PartName="/ppt/media/image9.gif" ContentType="image/gif"/>
  <Override PartName="/ppt/media/image34.jpeg" ContentType="image/jpeg"/>
  <Override PartName="/ppt/media/image7.png" ContentType="image/png"/>
  <Override PartName="/ppt/media/image27.gif" ContentType="image/gif"/>
  <Override PartName="/ppt/media/image1.jpeg" ContentType="image/jpeg"/>
  <Override PartName="/ppt/media/image35.jpeg" ContentType="image/jpeg"/>
  <Override PartName="/ppt/media/image6.wmf" ContentType="image/x-wmf"/>
  <Override PartName="/ppt/media/image13.gif" ContentType="image/gif"/>
  <Override PartName="/ppt/media/image8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40.gif" ContentType="image/gif"/>
  <Override PartName="/ppt/media/image3.png" ContentType="image/png"/>
  <Override PartName="/ppt/media/image23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338-67F6-4A65-9BF5-890C5518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EDC-9191-4894-A9CE-371E870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34F02-90C4-4672-980A-4B1FDD86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5E6E1-E3E2-4951-A657-68F3BA4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AE9A-60F7-4920-A705-45E0BC1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DE839-96F9-4543-A135-7610527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19C9A-BFEB-46B6-8C23-2A7922A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13DF3-11F0-4E3E-B683-7D94E67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0DA6-B40B-442F-AA09-2E5631B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23E6-239E-44E9-A8ED-2A4378FA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7846F-6D7C-46CC-B18A-3FE9BCB3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30F66-30AF-4E4E-AE8C-4EB03DAA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99B-B3AD-4143-A03E-76B7FDCB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BE219-72D3-45A4-99AB-148B516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F8184-9A25-42AF-8CF1-B44FC50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98CCD-9D26-4A88-A6ED-34286CC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648A0-45D9-4A57-B661-ED481B3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1D382-6B27-4686-9CBD-6ADFC0D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7C502-0249-405E-9CB3-67873B9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2E80E-09FA-4930-B199-0409D1A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543A5-6AC9-4A90-954C-511FAE4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9F7AB-2C7F-4925-9A99-923F04E3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F372A-D588-40C3-A3E1-AE0E426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D6E-9280-435E-9E59-8509291F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AC18D-AB15-4ADF-A94F-3C3CE191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BFB38-2522-4EA7-A23A-D17294DD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206BD-2010-4C7A-A806-6AFAD0BC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ED03C-9E91-45BB-8195-31F373B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77AC-5993-4BAA-88F9-2F1FD27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DD8B9-3014-4837-81A1-2BF3E5DC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4812D-E9E5-4CD1-B779-B33E5288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4FA68-92AF-4D1A-A26D-F4F50BF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2D4BE-7AEE-455C-AAC1-9F27992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62272-AC24-4E8B-8371-0FF045D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D9CD-A819-4488-A86F-A30661CD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9D69-DF1C-46E2-8159-94541917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0C570-FC85-4147-86BA-17F131D3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137C9-6AFB-480B-8884-737D347F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79D37-AC34-4016-82C9-02B89425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DF104-77F1-479C-B1CF-043D6F1D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E9DCE-465A-45A9-83B0-4C946569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B5919-B535-49D0-A351-13897C6F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60E50-AFC1-4FF8-A025-191115E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D9AC-9C63-4245-9CBC-40BBD95F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DE5F3-79F6-4358-A65A-926A0BA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0471-1793-4F01-B125-A82544BF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C3581-94E9-4E5E-AE30-87C315B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FF9C6-1863-44BF-8082-772BCF5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BF799-CAD4-47F5-8C12-B65676E6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71DF5-6F8D-4D78-B757-A4759197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438DE-A0E4-4711-A58B-F18DE713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9902F-929E-4173-B0AE-95838BB5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C9D86-B7C3-4EDB-9D97-7A0D7FA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84DAB-6469-404B-854F-D357678F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5D4A0-ED58-4F90-B03F-60457E4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C0254-727D-4C2A-A599-E355A6C5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C84D-1F09-4086-9638-CEAFB35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154A2-6E3D-4EF4-9F55-DC461BC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8D51E-BF8A-4D3E-9609-2E0E7CD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17ECB-A2FA-4E32-A5C4-F00AEEF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DB636-0D2D-4405-A919-AF7AD5A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0B85B-ECD0-4B44-BDCD-5655A52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221C0-3D9D-4736-A0AA-650942F2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6C33A-0551-435B-BC79-19CA211B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554-42BB-4BA2-A02E-595864ED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92D0-3B23-40CC-B379-408FC00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BCBD-CF9F-49DC-937D-08501911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7E5D-99DB-43F8-B44C-7D56D9FC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F2D-90CE-46C5-86FD-A4F42C3B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9DF2-55F3-4913-8020-60354CB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506D-7680-49C9-A9D9-F0F62D2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943-2699-48CC-AF16-1868F2F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1CBE-4871-4182-AC45-3B9ECA74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B98-3B38-4521-9E07-10ADFEC2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1E94-5056-4A05-8D8D-C48B523F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BB0C-51B9-4521-AC3B-E9507EF2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8F0C-3753-4F2E-8DF7-BD0E111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7100-B596-4CCD-810F-5BDAF13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FAC4-8ADA-4B8E-829C-0937C72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79D-5073-4AB4-8D16-C0796610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4E97-B36A-4A4C-A0BD-B400257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96EF0-C2E8-4D8D-B1D7-CBD57CC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59CB-3D96-464F-B6FE-3DE038C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CB33-45D1-481D-BA02-48B036F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EFA3-75B9-46F5-81B5-A3D01C25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3130-D40C-4A39-94D4-01F7082A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0C95-B82A-4F40-ACC2-8203446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5D5F-23C2-4FD0-A928-F611E4ED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66D6-5817-4465-88DA-7153904F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7E40-F2A5-4AA9-AB30-4FF7A9A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1CC-B9FB-454E-9A95-98825A92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0D5D-A74D-4ED5-8B49-A104A0F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D325-E379-4166-A925-2B73A310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56F2-4D00-4455-BA4E-4E474FA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43D3-F634-4CE8-9336-E2DB942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5799-6FF8-4D78-847E-67E3A75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D2B0-A750-4B1E-BB1B-40BD9A1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498B-7875-4C08-B274-DC95061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E4FB-A153-4486-9C2C-53A10E30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40DA-AC54-4AA4-8535-E12EF175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78FF-2DBF-431A-86CF-19C514BD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045-6264-4371-BCD5-1B9647D4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64EE4-FE33-4B87-B88B-80AAF60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65E5-405E-42AE-B502-5F960F9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B035-703B-4776-A681-F26D297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D260-1CDD-489F-8D70-6690D50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8B9F-00A0-498E-841E-A5F0EFE6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9AAA-69BE-4942-931D-59E32B4D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6FC6-8604-4360-A31E-E8F7288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09BA6-CB85-4E79-9ADD-A5BE629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29DA-BB31-427C-9C5A-806AC804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D151-5BAB-4EA6-8BB2-1B144CEC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C4C-9A2E-4E5C-B2AD-D3FAB98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85E6-CCC2-4B8E-B6DF-3135ABC1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D4DC-D5D8-4B55-87FC-9D96FB60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2EC2-3A6B-4455-93A9-89BDD98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EFB6-58A6-4F35-A062-CE7A696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186B-52BD-4EB8-A63E-B1BD4185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A0AF3-354B-419E-927E-2B4BB40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F54D-AC78-4064-BF58-7D8F3F3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9FD1-E7AC-4B31-9F05-9CFA47D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C334-093E-4315-BF07-03DE6A8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FE00-48E4-4099-891D-817B968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9BF-BB76-410D-A81E-780BC0A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86B8-E34A-4055-BCA5-60CB1A68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2FEF-91BD-4BB5-AFA5-3B6006B2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AFAC-19AE-4112-ACCD-D95DEC12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6555-6137-4F89-AA98-939DBB24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C55F-1F3B-461C-BE2C-E81FF76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C2328-D1EE-44E1-9902-D331CE2C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AC2C-ED35-4A65-875D-8FEFC28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00CA-0941-4047-B747-028E5B4D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16F3E-F365-40C3-848D-350BAEF7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763B-022F-41B6-9413-1BA4B41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8BF-04E8-46DF-A1F6-4B6E930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902A-6413-4053-BB7D-98B4737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651D-9927-4DF0-8B0F-A8A6214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14BAC-FD2B-4FEC-A680-AE3EDCD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6E70D-D68C-40FF-A093-50C24F2C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392D-77F5-4256-91B0-E06271A1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DEDF6-44A4-44BB-BCF1-6960254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B9AEE-A047-4710-BD79-44974E4B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3A46-3938-4028-A243-4010C80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F465-66E0-4E9B-8799-C6727FB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16E2D-B10B-4C56-9B25-D6851B3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5F2-B6D8-4BC3-A167-0D28C62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9790-41C7-4407-8CDA-162CD9B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EDFC-1750-45D2-8704-F19A1AA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AB8F0-8C04-4113-996C-3FEB207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0796F-5F80-473A-8411-EC03D1F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A0EC-E4D2-4B4C-BB5D-91BC462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606C-1DE5-4909-A58D-C999499F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CE5B-9600-4827-9B6E-E8972E9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84DE-FAD5-4FC3-BAD0-541E1D69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0533F-DEC4-4ACB-8BAC-F3BF06A0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7E3BD-7751-447D-9580-7F0716D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48A6-B0B4-427E-A7C9-1ECFDCA61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411-8C87-4080-B35E-95EF82D5E5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F31-D6A9-4869-ADA2-4DDF38E78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474E-5831-4261-AE66-0EE9D76CEC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EF7C-15CE-4FD8-BE39-BD7D59334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FB90-9CA5-4321-A67C-D3EFD6D34C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3A49-7128-44E2-80C6-926D406586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3422-8C26-402F-9545-97A7F7F5DB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D607-78C9-45CC-AEEE-21495F443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3D3-6F87-41AD-A044-CE597DA371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BCD-3DB0-4987-AA8B-D6B774DC55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156D-9CCF-49D2-ABA4-E7085DF55A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F74-63CA-4AFB-BE54-29A69E1D6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8CA-2908-4DAC-99A2-A86D58C3A5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D32-D49B-467A-BE98-54319722A3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1A7-7718-48D0-B2F3-24AF3AE2EB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709D-CD85-4D1D-8CF9-9493263F8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750-6D0C-4672-9450-1392AD8D59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F35-781A-48C7-927D-95775C11E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788-291F-4B7E-9D02-E5D0FCE789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9D0-78FE-4399-8754-6803B8E36D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313-831E-422B-9FC1-0D7D68A302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4E5-12FE-4E11-8DCE-FAF5B7EE43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04A-6E6A-498D-81D7-4245259B7D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EF96-9124-497A-BF0C-5640164F2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4.xml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hoto8.yupoo.com/20070729/231501_1594449302_vdyucrjl.jpg" TargetMode="External"/><Relationship Id="rId2" Type="http://schemas.openxmlformats.org/officeDocument/2006/relationships/image" Target="../media/image12.gif"/><Relationship Id="rId3" Type="http://schemas.openxmlformats.org/officeDocument/2006/relationships/hyperlink" Target="http://photo8.yupoo.com/20070729/231501_1951430035_gzlumshb.jpg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photo8.yupoo.com/20070729/231500_855926804_wppzqjpt.jpg" TargetMode="External"/><Relationship Id="rId6" Type="http://schemas.openxmlformats.org/officeDocument/2006/relationships/image" Target="../media/image14.gif"/><Relationship Id="rId7" Type="http://schemas.openxmlformats.org/officeDocument/2006/relationships/hyperlink" Target="http://photo6.yupoo.com/20070729/231500_1403506864_tmrmdojq.jpg" TargetMode="External"/><Relationship Id="rId8" Type="http://schemas.openxmlformats.org/officeDocument/2006/relationships/image" Target="../media/image15.gif"/><Relationship Id="rId9" Type="http://schemas.openxmlformats.org/officeDocument/2006/relationships/hyperlink" Target="http://photo8.yupoo.com/20070729/231502_1618600812_sxtohzfk.jpg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8.yupoo.com/20070729/231546_1571911182_ihculmbn.jpg" TargetMode="External"/><Relationship Id="rId12" Type="http://schemas.openxmlformats.org/officeDocument/2006/relationships/image" Target="../media/image17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8.yupoo.com/20070729/231545_336508008_zfoekjmt.jpg" TargetMode="External"/><Relationship Id="rId2" Type="http://schemas.openxmlformats.org/officeDocument/2006/relationships/image" Target="../media/image18.gif"/><Relationship Id="rId3" Type="http://schemas.openxmlformats.org/officeDocument/2006/relationships/hyperlink" Target="http://photo8.yupoo.com/20070729/231545_1813063991_zpvynzzf.jpg" TargetMode="External"/><Relationship Id="rId4" Type="http://schemas.openxmlformats.org/officeDocument/2006/relationships/image" Target="../media/image19.gif"/><Relationship Id="rId5" Type="http://schemas.openxmlformats.org/officeDocument/2006/relationships/hyperlink" Target="http://photo8.yupoo.com/20070729/231547_753127691_lpztbbod.jpg" TargetMode="External"/><Relationship Id="rId6" Type="http://schemas.openxmlformats.org/officeDocument/2006/relationships/image" Target="../media/image20.gif"/><Relationship Id="rId7" Type="http://schemas.openxmlformats.org/officeDocument/2006/relationships/hyperlink" Target="http://photo6.yupoo.com/20070729/231546_1518136016_batgrvqm.jpg" TargetMode="External"/><Relationship Id="rId8" Type="http://schemas.openxmlformats.org/officeDocument/2006/relationships/image" Target="../media/image21.gif"/><Relationship Id="rId9" Type="http://schemas.openxmlformats.org/officeDocument/2006/relationships/hyperlink" Target="http://photo8.yupoo.com/20070729/231613_1332062759_aduxamzg.jpg" TargetMode="External"/><Relationship Id="rId10" Type="http://schemas.openxmlformats.org/officeDocument/2006/relationships/image" Target="../media/image22.gif"/><Relationship Id="rId11" Type="http://schemas.openxmlformats.org/officeDocument/2006/relationships/image" Target="../media/image23.gif"/><Relationship Id="rId12" Type="http://schemas.openxmlformats.org/officeDocument/2006/relationships/image" Target="../media/image24.gif"/><Relationship Id="rId13" Type="http://schemas.openxmlformats.org/officeDocument/2006/relationships/image" Target="../media/image25.gif"/><Relationship Id="rId14" Type="http://schemas.openxmlformats.org/officeDocument/2006/relationships/image" Target="../media/image26.gif"/><Relationship Id="rId15" Type="http://schemas.openxmlformats.org/officeDocument/2006/relationships/image" Target="../media/image27.gif"/><Relationship Id="rId16" Type="http://schemas.openxmlformats.org/officeDocument/2006/relationships/image" Target="../media/image28.gif"/><Relationship Id="rId17" Type="http://schemas.openxmlformats.org/officeDocument/2006/relationships/image" Target="../media/image29.gif"/><Relationship Id="rId18" Type="http://schemas.openxmlformats.org/officeDocument/2006/relationships/image" Target="../media/image30.gif"/><Relationship Id="rId19" Type="http://schemas.openxmlformats.org/officeDocument/2006/relationships/image" Target="../media/image31.gi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image" Target="../media/image34.jpeg"/><Relationship Id="rId4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image" Target="../media/image34.jpeg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4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让我们荡起双浆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WordArt 7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39" name="WordArt 8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尊敬的各位家长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黑体"/>
              <a:ea typeface="黑体"/>
            </a:endParaRPr>
          </a:p>
        </p:txBody>
      </p:sp>
      <p:pic>
        <p:nvPicPr>
          <p:cNvPr id="540" name="Picture 9" descr="200492211034417"/>
          <p:cNvPicPr/>
          <p:nvPr/>
        </p:nvPicPr>
        <p:blipFill>
          <a:blip r:embed="rId3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76360" y="5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分析上述学生成绩较好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84360" y="170028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学生勤奋，对考试较重视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900000" y="2781360"/>
            <a:ext cx="669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学生的学习方法较好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971640" y="37162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家长的支持和鼓励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q4"/>
          <p:cNvPicPr/>
          <p:nvPr/>
        </p:nvPicPr>
        <p:blipFill>
          <a:blip r:embed="rId1"/>
          <a:stretch/>
        </p:blipFill>
        <p:spPr>
          <a:xfrm>
            <a:off x="228600" y="441360"/>
            <a:ext cx="131904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7"/>
          <p:cNvGrpSpPr/>
          <p:nvPr/>
        </p:nvGrpSpPr>
        <p:grpSpPr>
          <a:xfrm>
            <a:off x="1781280" y="2867040"/>
            <a:ext cx="6769080" cy="1125360"/>
            <a:chOff x="1781280" y="2867040"/>
            <a:chExt cx="6769080" cy="1125360"/>
          </a:xfrm>
        </p:grpSpPr>
        <p:sp>
          <p:nvSpPr>
            <p:cNvPr id="574" name="Rectangle 8"/>
            <p:cNvSpPr/>
            <p:nvPr/>
          </p:nvSpPr>
          <p:spPr>
            <a:xfrm>
              <a:off x="1781280" y="2867040"/>
              <a:ext cx="6769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1781280" y="2867040"/>
              <a:ext cx="668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6" name="Picture 10" descr="dh02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043600"/>
            <a:ext cx="1387440" cy="1299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2007112472630902_1"/>
          <p:cNvPicPr/>
          <p:nvPr/>
        </p:nvPicPr>
        <p:blipFill>
          <a:blip r:embed="rId4"/>
          <a:stretch/>
        </p:blipFill>
        <p:spPr>
          <a:xfrm>
            <a:off x="324000" y="4653000"/>
            <a:ext cx="234000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295280" y="5335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些学生考试成绩退步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55640" y="1844640"/>
            <a:ext cx="727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1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对考试不重视，特别是单元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755640" y="292428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826920" y="458136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3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学习方法不合适。（习惯差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826920" y="2781360"/>
            <a:ext cx="907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2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学习态度差（学习不刻苦，不能客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分析原因，总是怨天尤人）</a:t>
            </a:r>
            <a:r>
              <a:rPr b="0" lang="zh-CN" sz="3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7" descr="dh0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767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q4"/>
          <p:cNvPicPr/>
          <p:nvPr/>
        </p:nvPicPr>
        <p:blipFill>
          <a:blip r:embed="rId3"/>
          <a:stretch/>
        </p:blipFill>
        <p:spPr>
          <a:xfrm>
            <a:off x="304920" y="609480"/>
            <a:ext cx="1066680" cy="6336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9"/>
          <p:cNvGrpSpPr/>
          <p:nvPr/>
        </p:nvGrpSpPr>
        <p:grpSpPr>
          <a:xfrm>
            <a:off x="1403280" y="2924280"/>
            <a:ext cx="6769080" cy="1125360"/>
            <a:chOff x="1403280" y="2924280"/>
            <a:chExt cx="6769080" cy="1125360"/>
          </a:xfrm>
        </p:grpSpPr>
        <p:sp>
          <p:nvSpPr>
            <p:cNvPr id="586" name="Rectangle 10"/>
            <p:cNvSpPr/>
            <p:nvPr/>
          </p:nvSpPr>
          <p:spPr>
            <a:xfrm>
              <a:off x="1403280" y="2924280"/>
              <a:ext cx="6769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1403280" y="2924280"/>
              <a:ext cx="668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Text Box 12"/>
          <p:cNvSpPr/>
          <p:nvPr/>
        </p:nvSpPr>
        <p:spPr>
          <a:xfrm>
            <a:off x="1846800" y="5589720"/>
            <a:ext cx="40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家长的支持和鼓励不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http://photo8.yupoo.com/20070729/231501_1594449302_vdyucrj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90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http://photo8.yupoo.com/20070729/231501_1951430035_gzlumsh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34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http://photo8.yupoo.com/20070729/231500_855926804_wppzqjp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242100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http://photo6.yupoo.com/20070729/231500_1403506864_tmrmdojq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500280"/>
            <a:ext cx="865440" cy="8654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http://photo8.yupoo.com/20070729/231502_1618600812_sxtohzf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450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3387240" y="548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4009680" y="1341000"/>
            <a:ext cx="587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一周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333960" y="2349000"/>
            <a:ext cx="2082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两周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3333960" y="3357360"/>
            <a:ext cx="2082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3360960" y="4148640"/>
            <a:ext cx="17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12"/>
          <p:cNvSpPr txBox="1"/>
          <p:nvPr/>
        </p:nvSpPr>
        <p:spPr>
          <a:xfrm rot="5400000">
            <a:off x="-511200" y="2751120"/>
            <a:ext cx="41911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学期表情变化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210120" y="5515560"/>
            <a:ext cx="27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4" descr="http://photo8.yupoo.com/20070729/231546_1571911182_ihculmb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5300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15"/>
          <p:cNvSpPr/>
          <p:nvPr/>
        </p:nvSpPr>
        <p:spPr>
          <a:xfrm>
            <a:off x="3714840" y="36666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photo8.yupoo.com/20070729/231545_336508008_zfoekjm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89000"/>
            <a:ext cx="792360" cy="633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http://photo8.yupoo.com/20070729/231545_1813063991_zpvynzz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05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http://photo8.yupoo.com/20070729/231547_753127691_lpztbb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1916280"/>
            <a:ext cx="1152720" cy="726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http://photo6.yupoo.com/20070729/231546_1518136016_batgrvq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28526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http://photo8.yupoo.com/20070729/231613_1332062759_aduxamz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8436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http://photo8.yupoo.com/20070729/231612_1634465822_sjyjfzzg.jpg"/>
          <p:cNvPicPr/>
          <p:nvPr/>
        </p:nvPicPr>
        <p:blipFill>
          <a:blip r:embed="rId11"/>
          <a:stretch/>
        </p:blipFill>
        <p:spPr>
          <a:xfrm>
            <a:off x="2195640" y="4797360"/>
            <a:ext cx="1152360" cy="8240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8"/>
          <p:cNvSpPr/>
          <p:nvPr/>
        </p:nvSpPr>
        <p:spPr>
          <a:xfrm>
            <a:off x="856800" y="3326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末快到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681480" y="907920"/>
            <a:ext cx="2111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知考试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690120" y="1557000"/>
            <a:ext cx="16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395280" y="2708280"/>
            <a:ext cx="208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618480" y="3789360"/>
            <a:ext cx="16326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547200" y="4652640"/>
            <a:ext cx="16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3765600" y="6038640"/>
            <a:ext cx="2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5" descr="http://photo8.yupoo.com/20070729/231612_709979174_fmtqytcc.jpg"/>
          <p:cNvPicPr/>
          <p:nvPr/>
        </p:nvPicPr>
        <p:blipFill>
          <a:blip r:embed="rId12"/>
          <a:stretch/>
        </p:blipFill>
        <p:spPr>
          <a:xfrm>
            <a:off x="2268360" y="5877000"/>
            <a:ext cx="1368720" cy="760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http://photo6.yupoo.com/20070729/231614_847433178_bnfgbvps.jpg"/>
          <p:cNvPicPr/>
          <p:nvPr/>
        </p:nvPicPr>
        <p:blipFill>
          <a:blip r:embed="rId13"/>
          <a:stretch/>
        </p:blipFill>
        <p:spPr>
          <a:xfrm>
            <a:off x="6084720" y="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7"/>
          <p:cNvSpPr/>
          <p:nvPr/>
        </p:nvSpPr>
        <p:spPr>
          <a:xfrm>
            <a:off x="547200" y="6020640"/>
            <a:ext cx="16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8"/>
          <p:cNvSpPr/>
          <p:nvPr/>
        </p:nvSpPr>
        <p:spPr>
          <a:xfrm>
            <a:off x="4363560" y="0"/>
            <a:ext cx="16326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5296680" y="3732120"/>
            <a:ext cx="56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0" descr="http://photo8.yupoo.com/20070729/231611_516694906_thkadqxw.jpg"/>
          <p:cNvPicPr/>
          <p:nvPr/>
        </p:nvPicPr>
        <p:blipFill>
          <a:blip r:embed="rId14"/>
          <a:stretch/>
        </p:blipFill>
        <p:spPr>
          <a:xfrm>
            <a:off x="6156360" y="907920"/>
            <a:ext cx="1081080" cy="7714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1" descr="http://photo6.yupoo.com/20070729/231659_274432095_xsegbywx.jpg"/>
          <p:cNvPicPr/>
          <p:nvPr/>
        </p:nvPicPr>
        <p:blipFill>
          <a:blip r:embed="rId15"/>
          <a:stretch/>
        </p:blipFill>
        <p:spPr>
          <a:xfrm>
            <a:off x="6732720" y="1700280"/>
            <a:ext cx="936360" cy="7491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http://photo6.yupoo.com/20070729/231659_1277055354_gwuufuut.jpg"/>
          <p:cNvPicPr/>
          <p:nvPr/>
        </p:nvPicPr>
        <p:blipFill>
          <a:blip r:embed="rId16"/>
          <a:stretch/>
        </p:blipFill>
        <p:spPr>
          <a:xfrm>
            <a:off x="6372360" y="249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3"/>
          <p:cNvSpPr/>
          <p:nvPr/>
        </p:nvSpPr>
        <p:spPr>
          <a:xfrm>
            <a:off x="4434840" y="1051920"/>
            <a:ext cx="16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4"/>
          <p:cNvSpPr/>
          <p:nvPr/>
        </p:nvSpPr>
        <p:spPr>
          <a:xfrm>
            <a:off x="4353480" y="1700280"/>
            <a:ext cx="2111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一天晚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5"/>
          <p:cNvSpPr/>
          <p:nvPr/>
        </p:nvSpPr>
        <p:spPr>
          <a:xfrm>
            <a:off x="4404240" y="2708280"/>
            <a:ext cx="1908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6"/>
          <p:cNvSpPr/>
          <p:nvPr/>
        </p:nvSpPr>
        <p:spPr>
          <a:xfrm>
            <a:off x="3765240" y="47581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27" descr="http://photo8.yupoo.com/20070729/231659_946387693_pfwduifm.jpg"/>
          <p:cNvPicPr/>
          <p:nvPr/>
        </p:nvPicPr>
        <p:blipFill>
          <a:blip r:embed="rId17"/>
          <a:stretch/>
        </p:blipFill>
        <p:spPr>
          <a:xfrm>
            <a:off x="529272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8" descr="http://photo8.yupoo.com/20070729/231700_468342381_dvyerrrb.jpg"/>
          <p:cNvPicPr/>
          <p:nvPr/>
        </p:nvPicPr>
        <p:blipFill>
          <a:blip r:embed="rId18"/>
          <a:stretch/>
        </p:blipFill>
        <p:spPr>
          <a:xfrm>
            <a:off x="6084720" y="486900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9"/>
          <p:cNvSpPr/>
          <p:nvPr/>
        </p:nvSpPr>
        <p:spPr>
          <a:xfrm>
            <a:off x="4088520" y="42202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试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0"/>
          <p:cNvSpPr/>
          <p:nvPr/>
        </p:nvSpPr>
        <p:spPr>
          <a:xfrm>
            <a:off x="4056480" y="4797360"/>
            <a:ext cx="1610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走出考场：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1"/>
          <p:cNvSpPr/>
          <p:nvPr/>
        </p:nvSpPr>
        <p:spPr>
          <a:xfrm>
            <a:off x="3850920" y="5734080"/>
            <a:ext cx="2872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某老师的想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…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32" descr="231700_1542079419_wlyuucak"/>
          <p:cNvPicPr/>
          <p:nvPr/>
        </p:nvPicPr>
        <p:blipFill>
          <a:blip r:embed="rId19"/>
          <a:stretch/>
        </p:blipFill>
        <p:spPr>
          <a:xfrm>
            <a:off x="7164360" y="5516640"/>
            <a:ext cx="11509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2"/>
          <p:cNvSpPr txBox="1"/>
          <p:nvPr/>
        </p:nvSpPr>
        <p:spPr>
          <a:xfrm>
            <a:off x="611280" y="907920"/>
            <a:ext cx="7561080" cy="414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存在问题：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539640" y="39337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些学生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上课注意力不集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存在讲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看课外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睡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现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堂效率低、学习成绩不理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68360" y="1700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些学生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学习目的性不明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导致学习无动力。没有充分挖掘自己的潜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3939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348000" y="2205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324000" y="404640"/>
            <a:ext cx="84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部分学生平时不紧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考试前才想起要努力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按要求做练习、作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没能合理安排时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特别是中午和周六、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基础训练不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停留在听懂就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再深刻思考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380880" y="19162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339966"/>
                </a:solidFill>
                <a:latin typeface="黑体"/>
                <a:ea typeface="黑体"/>
              </a:rPr>
              <a:t>有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作业完成情况差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老师讲评过的练习部分学生还是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没有养成及时订正的习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导致已做过的练习错了又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468360" y="472428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些学生吃零食现象严重，同时卫生习惯差，给人印象十分不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68360" y="4762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部分孩子喜欢带一些与学习无关的书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P3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到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yanzi"/>
          <p:cNvPicPr/>
          <p:nvPr/>
        </p:nvPicPr>
        <p:blipFill>
          <a:blip r:embed="rId1"/>
          <a:stretch/>
        </p:blipFill>
        <p:spPr>
          <a:xfrm>
            <a:off x="7236000" y="0"/>
            <a:ext cx="1523880" cy="1685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cai"/>
          <p:cNvPicPr/>
          <p:nvPr/>
        </p:nvPicPr>
        <p:blipFill>
          <a:blip r:embed="rId2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ai"/>
          <p:cNvPicPr/>
          <p:nvPr/>
        </p:nvPicPr>
        <p:blipFill>
          <a:blip r:embed="rId3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cai"/>
          <p:cNvPicPr/>
          <p:nvPr/>
        </p:nvPicPr>
        <p:blipFill>
          <a:blip r:embed="rId4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3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4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6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7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8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9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0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2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3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4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5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6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7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8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9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0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1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2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3" descr="cai"/>
          <p:cNvPicPr/>
          <p:nvPr/>
        </p:nvPicPr>
        <p:blipFill>
          <a:blip r:embed="rId3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4" descr="cai"/>
          <p:cNvPicPr/>
          <p:nvPr/>
        </p:nvPicPr>
        <p:blipFill>
          <a:blip r:embed="rId33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5" descr="cai"/>
          <p:cNvPicPr/>
          <p:nvPr/>
        </p:nvPicPr>
        <p:blipFill>
          <a:blip r:embed="rId34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6" descr="cai"/>
          <p:cNvPicPr/>
          <p:nvPr/>
        </p:nvPicPr>
        <p:blipFill>
          <a:blip r:embed="rId35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7" descr="cai"/>
          <p:cNvPicPr/>
          <p:nvPr/>
        </p:nvPicPr>
        <p:blipFill>
          <a:blip r:embed="rId36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8" descr="cai"/>
          <p:cNvPicPr/>
          <p:nvPr/>
        </p:nvPicPr>
        <p:blipFill>
          <a:blip r:embed="rId37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9" descr="cai"/>
          <p:cNvPicPr/>
          <p:nvPr/>
        </p:nvPicPr>
        <p:blipFill>
          <a:blip r:embed="rId38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0" descr="cai"/>
          <p:cNvPicPr/>
          <p:nvPr/>
        </p:nvPicPr>
        <p:blipFill>
          <a:blip r:embed="rId39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1" descr="cai"/>
          <p:cNvPicPr/>
          <p:nvPr/>
        </p:nvPicPr>
        <p:blipFill>
          <a:blip r:embed="rId40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2" descr="cai"/>
          <p:cNvPicPr/>
          <p:nvPr/>
        </p:nvPicPr>
        <p:blipFill>
          <a:blip r:embed="rId41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3" descr="cai"/>
          <p:cNvPicPr/>
          <p:nvPr/>
        </p:nvPicPr>
        <p:blipFill>
          <a:blip r:embed="rId42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4" descr="cai"/>
          <p:cNvPicPr/>
          <p:nvPr/>
        </p:nvPicPr>
        <p:blipFill>
          <a:blip r:embed="rId43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5" descr="cai"/>
          <p:cNvPicPr/>
          <p:nvPr/>
        </p:nvPicPr>
        <p:blipFill>
          <a:blip r:embed="rId44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6" descr="cai"/>
          <p:cNvPicPr/>
          <p:nvPr/>
        </p:nvPicPr>
        <p:blipFill>
          <a:blip r:embed="rId45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7" descr="cai"/>
          <p:cNvPicPr/>
          <p:nvPr/>
        </p:nvPicPr>
        <p:blipFill>
          <a:blip r:embed="rId46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-1692360" y="1700280"/>
            <a:ext cx="1047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首先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中学学业繁重，过度读课外书浪费时间，分散精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次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课外书范围广，内容杂，有些根本不适合初中生阅读。尤其是武打、言情、异世、仙侠，甚至于色情书刊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次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本末倒置，上课，晚修都入迷，甚至作业乱做，甚至不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最后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书如药也，有良药也有毒药。对思想的影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049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一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外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yanzi"/>
          <p:cNvPicPr/>
          <p:nvPr/>
        </p:nvPicPr>
        <p:blipFill>
          <a:blip r:embed="rId1"/>
          <a:stretch/>
        </p:blipFill>
        <p:spPr>
          <a:xfrm>
            <a:off x="7956720" y="0"/>
            <a:ext cx="1523880" cy="1685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cai"/>
          <p:cNvPicPr/>
          <p:nvPr/>
        </p:nvPicPr>
        <p:blipFill>
          <a:blip r:embed="rId2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cai"/>
          <p:cNvPicPr/>
          <p:nvPr/>
        </p:nvPicPr>
        <p:blipFill>
          <a:blip r:embed="rId3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cai"/>
          <p:cNvPicPr/>
          <p:nvPr/>
        </p:nvPicPr>
        <p:blipFill>
          <a:blip r:embed="rId4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8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9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0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1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2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3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4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5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6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7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8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1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2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4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5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6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7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8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9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0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1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2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3" descr="cai"/>
          <p:cNvPicPr/>
          <p:nvPr/>
        </p:nvPicPr>
        <p:blipFill>
          <a:blip r:embed="rId3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4" descr="cai"/>
          <p:cNvPicPr/>
          <p:nvPr/>
        </p:nvPicPr>
        <p:blipFill>
          <a:blip r:embed="rId33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5" descr="cai"/>
          <p:cNvPicPr/>
          <p:nvPr/>
        </p:nvPicPr>
        <p:blipFill>
          <a:blip r:embed="rId34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6" descr="cai"/>
          <p:cNvPicPr/>
          <p:nvPr/>
        </p:nvPicPr>
        <p:blipFill>
          <a:blip r:embed="rId35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7" descr="cai"/>
          <p:cNvPicPr/>
          <p:nvPr/>
        </p:nvPicPr>
        <p:blipFill>
          <a:blip r:embed="rId36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8" descr="cai"/>
          <p:cNvPicPr/>
          <p:nvPr/>
        </p:nvPicPr>
        <p:blipFill>
          <a:blip r:embed="rId37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9" descr="cai"/>
          <p:cNvPicPr/>
          <p:nvPr/>
        </p:nvPicPr>
        <p:blipFill>
          <a:blip r:embed="rId38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0" descr="cai"/>
          <p:cNvPicPr/>
          <p:nvPr/>
        </p:nvPicPr>
        <p:blipFill>
          <a:blip r:embed="rId39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1" descr="cai"/>
          <p:cNvPicPr/>
          <p:nvPr/>
        </p:nvPicPr>
        <p:blipFill>
          <a:blip r:embed="rId40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2" descr="cai"/>
          <p:cNvPicPr/>
          <p:nvPr/>
        </p:nvPicPr>
        <p:blipFill>
          <a:blip r:embed="rId41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3" descr="cai"/>
          <p:cNvPicPr/>
          <p:nvPr/>
        </p:nvPicPr>
        <p:blipFill>
          <a:blip r:embed="rId42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4" descr="cai"/>
          <p:cNvPicPr/>
          <p:nvPr/>
        </p:nvPicPr>
        <p:blipFill>
          <a:blip r:embed="rId43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5" descr="cai"/>
          <p:cNvPicPr/>
          <p:nvPr/>
        </p:nvPicPr>
        <p:blipFill>
          <a:blip r:embed="rId44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6" descr="cai"/>
          <p:cNvPicPr/>
          <p:nvPr/>
        </p:nvPicPr>
        <p:blipFill>
          <a:blip r:embed="rId45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7" descr="cai"/>
          <p:cNvPicPr/>
          <p:nvPr/>
        </p:nvPicPr>
        <p:blipFill>
          <a:blip r:embed="rId46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-1116000" y="1267920"/>
            <a:ext cx="97567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：在宿舍熄灯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上网，用短消息或者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QQ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聊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一聊就聊到深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造成睡眼不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第二天也就会精神不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学习效率也大大折扣 ，长期以往，学业健康受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：初中生自制力弱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进课室，在课堂上发短消息或打游戏都可以在老师的眼皮底下隐敝地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定会影响学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3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会成为新型的攀比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型号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外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价钱都能成为比较的对象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攀比中自然会影响到学习或学生的心态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二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手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2005050204242260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2050920" y="476280"/>
            <a:ext cx="53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家长会议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900000" y="1341360"/>
            <a:ext cx="770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向家长汇报班级整体情况及简单介绍这次期中考试情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由班长对这半个学期的学生情况做个汇报；尖子生孙亚琪谈谈她是如何学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就初二学生的一些“现象”及特征做个说明，望引起各位家长的高度重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留几个家长作个小范围的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2005050204242260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2268360" y="112536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60e32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960e32"/>
                </a:solidFill>
                <a:latin typeface="Times New Roman"/>
              </a:rPr>
              <a:t>老师的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395280" y="1989000"/>
            <a:ext cx="770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手机上这件物品上，我们承受的起的是金钱，而我们承受不起的是逝去的美好求学时光和灿烂的未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u=835287119,1933748305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三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早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9612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会影响学业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会给学生造成严重心理伤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可能威胁学生的身体健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现象会涣散同学的意志，影响整个学校风气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早恋期间的学生一般有下列几种表现：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讲究打扮和发型，在异性面前   表现失常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上课听讲注意力不集中，心事重重，学习成绩呈下降的趋势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沉默不语，不能按时就寝，逃避集体活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出现不正常的交往或来往书信   明显增多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cai"/>
          <p:cNvPicPr/>
          <p:nvPr/>
        </p:nvPicPr>
        <p:blipFill>
          <a:blip r:embed="rId1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cai"/>
          <p:cNvPicPr/>
          <p:nvPr/>
        </p:nvPicPr>
        <p:blipFill>
          <a:blip r:embed="rId2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cai"/>
          <p:cNvPicPr/>
          <p:nvPr/>
        </p:nvPicPr>
        <p:blipFill>
          <a:blip r:embed="rId3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cai"/>
          <p:cNvPicPr/>
          <p:nvPr/>
        </p:nvPicPr>
        <p:blipFill>
          <a:blip r:embed="rId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8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1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2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3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4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5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6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7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9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0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1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2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3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4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5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6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7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8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9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0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1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2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3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4" descr="cai"/>
          <p:cNvPicPr/>
          <p:nvPr/>
        </p:nvPicPr>
        <p:blipFill>
          <a:blip r:embed="rId32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5" descr="cai"/>
          <p:cNvPicPr/>
          <p:nvPr/>
        </p:nvPicPr>
        <p:blipFill>
          <a:blip r:embed="rId33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6" descr="cai"/>
          <p:cNvPicPr/>
          <p:nvPr/>
        </p:nvPicPr>
        <p:blipFill>
          <a:blip r:embed="rId34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7" descr="cai"/>
          <p:cNvPicPr/>
          <p:nvPr/>
        </p:nvPicPr>
        <p:blipFill>
          <a:blip r:embed="rId35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8" descr="cai"/>
          <p:cNvPicPr/>
          <p:nvPr/>
        </p:nvPicPr>
        <p:blipFill>
          <a:blip r:embed="rId36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9" descr="cai"/>
          <p:cNvPicPr/>
          <p:nvPr/>
        </p:nvPicPr>
        <p:blipFill>
          <a:blip r:embed="rId37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0" descr="cai"/>
          <p:cNvPicPr/>
          <p:nvPr/>
        </p:nvPicPr>
        <p:blipFill>
          <a:blip r:embed="rId38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1" descr="cai"/>
          <p:cNvPicPr/>
          <p:nvPr/>
        </p:nvPicPr>
        <p:blipFill>
          <a:blip r:embed="rId39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2" descr="cai"/>
          <p:cNvPicPr/>
          <p:nvPr/>
        </p:nvPicPr>
        <p:blipFill>
          <a:blip r:embed="rId40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3" descr="cai"/>
          <p:cNvPicPr/>
          <p:nvPr/>
        </p:nvPicPr>
        <p:blipFill>
          <a:blip r:embed="rId41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4" descr="cai"/>
          <p:cNvPicPr/>
          <p:nvPr/>
        </p:nvPicPr>
        <p:blipFill>
          <a:blip r:embed="rId42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5" descr="cai"/>
          <p:cNvPicPr/>
          <p:nvPr/>
        </p:nvPicPr>
        <p:blipFill>
          <a:blip r:embed="rId43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6" descr="cai"/>
          <p:cNvPicPr/>
          <p:nvPr/>
        </p:nvPicPr>
        <p:blipFill>
          <a:blip r:embed="rId44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7" descr="cai"/>
          <p:cNvPicPr/>
          <p:nvPr/>
        </p:nvPicPr>
        <p:blipFill>
          <a:blip r:embed="rId45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WordArt 2"/>
          <p:cNvSpPr txBox="1"/>
          <p:nvPr/>
        </p:nvSpPr>
        <p:spPr>
          <a:xfrm>
            <a:off x="250920" y="1125360"/>
            <a:ext cx="79200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关于孩子的教育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1447920" y="914400"/>
            <a:ext cx="79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611280" y="1052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若孩子在实际生活中确认，他的任性要求都能满足，他的不听话并未遭致任何不愉快的后果，那么就渐渐习惯于顽皮、任性、捣乱、不听话，之后就慢慢认为这是理所当然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著名教育家苏霍姆林斯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18920" y="5300640"/>
            <a:ext cx="70866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2"/>
          <p:cNvSpPr txBox="1"/>
          <p:nvPr/>
        </p:nvSpPr>
        <p:spPr>
          <a:xfrm>
            <a:off x="611280" y="549360"/>
            <a:ext cx="7416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谈谈家庭教育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395280" y="1125360"/>
            <a:ext cx="7567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好上学放学时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间及业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尤其是上网的时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468360" y="2637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严格控制孩子的零花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衣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发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468360" y="342900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反对同学聚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过生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395280" y="42926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GB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双休日期间尽量少外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3964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⒌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了解孩子的交际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 特点 玩法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755640" y="33336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希望家长配合老师做好以下工作</a:t>
            </a:r>
            <a:r>
              <a:rPr b="1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684360" y="579132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孩子面前对学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老师的评价态度的把握要恰当不要造成负面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测测您的家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你们是否有全家一起固定参与的活动（散步，去祖父母家，购物，去朋友家）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cc3300"/>
                </a:solidFill>
                <a:latin typeface="黑体"/>
                <a:ea typeface="黑体"/>
              </a:rPr>
              <a:t>（这是一个令家庭成员可以交流的好机会，不要错过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你们是否同孩子一起看他喜爱的电视节目并讨论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000" spc="-1" strike="noStrike">
                <a:solidFill>
                  <a:srgbClr val="cc3300"/>
                </a:solidFill>
                <a:latin typeface="黑体"/>
                <a:ea typeface="黑体"/>
              </a:rPr>
              <a:t>（指导孩子有选择看电视节目是现代家庭必不可少的一课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、您是否知道孩子的好朋友是谁，他和朋友一起时所热衷的活动是什么？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100" spc="-1" strike="noStrike">
                <a:solidFill>
                  <a:srgbClr val="cc3300"/>
                </a:solidFill>
                <a:latin typeface="黑体"/>
                <a:ea typeface="黑体"/>
              </a:rPr>
              <a:t>（友谊是孩子成长中不可缺少的，是父母无法替代的，应该指导孩子如何交友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b53beb0ecf10bafc37d12279"/>
          <p:cNvPicPr/>
          <p:nvPr/>
        </p:nvPicPr>
        <p:blipFill>
          <a:blip r:embed="rId1"/>
          <a:stretch/>
        </p:blipFill>
        <p:spPr>
          <a:xfrm>
            <a:off x="-228600" y="-228600"/>
            <a:ext cx="9505800" cy="7345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8"/>
          <p:cNvSpPr/>
          <p:nvPr/>
        </p:nvSpPr>
        <p:spPr>
          <a:xfrm>
            <a:off x="1379880" y="1447920"/>
            <a:ext cx="62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0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011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学年第二学期期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9"/>
          <p:cNvSpPr/>
          <p:nvPr/>
        </p:nvSpPr>
        <p:spPr>
          <a:xfrm>
            <a:off x="2886480" y="26668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成绩分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在工作中取得成绩，是否会与全家人分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分享自已的成功可以让每一个家庭成员都为你自豪，增强家庭的亲凝聚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您情绪暴躁并伴有过激行为时，是否会向家人（包括孩子）作出道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不要怕失面子，你的解释和道歉只会让家庭成员更多地体谅你，孩子对成人世界的了解可以丰富他的心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夫妻吵架是否回避孩子，事后是否会向孩子解释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夫妻吵架在所难免，攻击性的争吵会给孩子带来恐惧，但当争吵发生时，父母应当顾及到孩子的感受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在与孩子有沟通障碍时，是放弃还是另想其他方式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沟通有障碍正说明有问题，可以从其他可能的方面入手，也许需要一段时间的等待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您是否会在客人面前公开谈论对孩子的教养心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请珍视孩子的自尊，这种谈论有害无益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在孩子的朋友面前，你是否会大声斥责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这会让孩子很没面子，即使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有错，也要等到朋友走了以后再管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孩子提出过分的物质要求时，您是简单粗暴地拒绝，还是先了解原因再疏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如果粗暴地拒绝，您将错过一次了解、疏导孩子的机会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您与孩子发生争执，您是否会以摔坏他喜爱的物品作为惩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这是很不成熟的表现，别忘记您是成人，打击孩子不是良策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会在孩子面前与他人谈论他的过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请维护孩子的自尊心，他一定不希望听到您谈论他的过失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孩子解决不了的问题，您是如何帮助他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要相信孩子，他们要父母想象的好得多，为什么不让他试试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给自己和配偶留下独处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要有独处的时间，沉浸于自己的世界，夫妻也要有纯粹的二人世界，平静调节感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你们的家务分配合理吗？有没有人不做家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责任的培养应该体现在家务的承担上，没有人可以有借口不做家务，只是多少而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认为工作忙是你无法管教孩子的充足理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是父母的责任，工作忙是一条理由，却不是充足的理由，你一定可以找到时间和机会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会在孩子面前赞美您的丈夫（妻子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感觉到父母的相爱和美好，会使孩子更有安全感，更易信任他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411280" y="47628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华文隶书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3" descr="rose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0570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3"/>
          <p:cNvSpPr/>
          <p:nvPr/>
        </p:nvSpPr>
        <p:spPr>
          <a:xfrm>
            <a:off x="577800" y="99072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1203480" y="2666880"/>
            <a:ext cx="545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900000" y="508464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826920" y="314172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620787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3"/>
          <p:cNvSpPr/>
          <p:nvPr/>
        </p:nvSpPr>
        <p:spPr>
          <a:xfrm>
            <a:off x="0" y="0"/>
            <a:ext cx="838836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Arial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任课教师联络方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（安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3081095213     852412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（赵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（甄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（赵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历史（张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政治（牛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27"/>
          <p:cNvPicPr/>
          <p:nvPr/>
        </p:nvPicPr>
        <p:blipFill>
          <a:blip r:embed="rId2"/>
          <a:stretch/>
        </p:blipFill>
        <p:spPr>
          <a:xfrm rot="2269200">
            <a:off x="6732720" y="333360"/>
            <a:ext cx="1655640" cy="9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b53beb0ecf10bafc37d12279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3454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1066680" y="9144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各科最高分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066680" y="1676520"/>
          <a:ext cx="7113600" cy="3744720"/>
        </p:xfrm>
        <a:graphic>
          <a:graphicData uri="http://schemas.openxmlformats.org/drawingml/2006/table">
            <a:tbl>
              <a:tblPr/>
              <a:tblGrid>
                <a:gridCol w="1094040"/>
                <a:gridCol w="1066680"/>
                <a:gridCol w="1295280"/>
                <a:gridCol w="1219320"/>
                <a:gridCol w="1219320"/>
                <a:gridCol w="1218960"/>
              </a:tblGrid>
              <a:tr h="91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物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5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杨硕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马子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石淞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李伊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石淞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5" name="WordArt 3"/>
          <p:cNvSpPr txBox="1"/>
          <p:nvPr/>
        </p:nvSpPr>
        <p:spPr>
          <a:xfrm>
            <a:off x="380880" y="533520"/>
            <a:ext cx="6096240" cy="36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！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！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26" name="Picture 5" descr="BD10253_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BD10253_"/>
          <p:cNvPicPr/>
          <p:nvPr/>
        </p:nvPicPr>
        <p:blipFill>
          <a:blip r:embed="rId3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7" descr="BD10253_"/>
          <p:cNvPicPr/>
          <p:nvPr/>
        </p:nvPicPr>
        <p:blipFill>
          <a:blip r:embed="rId4"/>
          <a:stretch/>
        </p:blipFill>
        <p:spPr>
          <a:xfrm>
            <a:off x="7680240" y="4896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829" name="b04.mid" descr=""/>
          <p:cNvPicPr/>
          <p:nvPr/>
        </p:nvPicPr>
        <p:blipFill>
          <a:blip r:embed="rId5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" fill="hold"/>
                                        <p:tgtEl>
                                          <p:spTgt spid="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b53beb0ecf10bafc37d12279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345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914400" y="762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班级前十名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3172680" y="5486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警示：有薄弱科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Object 7"/>
          <p:cNvGraphicFramePr/>
          <p:nvPr/>
        </p:nvGraphicFramePr>
        <p:xfrm>
          <a:off x="990720" y="1295280"/>
          <a:ext cx="731520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31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3119400" y="395280"/>
            <a:ext cx="27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01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年河北中考分数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596240" y="1427040"/>
            <a:ext cx="6221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前年，长沙市一中和师大附中的最低录取分数线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5A1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中招第一批录取分数线出炉，长沙市一中、师大附中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雅礼中学和长郡中学都将分数线划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6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且雅礼中学和长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中学还要求综合素质评定成绩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4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也就是必须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科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全部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等，才能被雅礼中学和长郡中学录取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中招办公布首批进点招生学校公费录取最低控制线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一中、师大附中、雅礼中学和长郡中学都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6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一中对综合试验区的考生学业成绩等第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5A1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明德中学、周南中学和田家炳实验中学对考生学业成绩等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3A3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086"/>
          <p:cNvPicPr/>
          <p:nvPr/>
        </p:nvPicPr>
        <p:blipFill>
          <a:blip r:embed="rId1"/>
          <a:stretch/>
        </p:blipFill>
        <p:spPr>
          <a:xfrm>
            <a:off x="0" y="0"/>
            <a:ext cx="9647280" cy="7254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42920" y="765000"/>
            <a:ext cx="3754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期中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WordArt 5"/>
          <p:cNvSpPr txBox="1"/>
          <p:nvPr/>
        </p:nvSpPr>
        <p:spPr>
          <a:xfrm>
            <a:off x="2627280" y="537372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们真棒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b53beb0ecf10bafc37d12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838080" y="533520"/>
            <a:ext cx="67690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绩进步幅度大的同学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Object 5"/>
          <p:cNvGraphicFramePr/>
          <p:nvPr/>
        </p:nvGraphicFramePr>
        <p:xfrm>
          <a:off x="990720" y="1295280"/>
          <a:ext cx="728172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2817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b53beb0ecf10bafc37d12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1965240" y="228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各科平均分及年级排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143000" y="1066680"/>
          <a:ext cx="6705720" cy="4907160"/>
        </p:xfrm>
        <a:graphic>
          <a:graphicData uri="http://schemas.openxmlformats.org/drawingml/2006/table">
            <a:tbl>
              <a:tblPr/>
              <a:tblGrid>
                <a:gridCol w="1905120"/>
                <a:gridCol w="2590560"/>
                <a:gridCol w="2210040"/>
              </a:tblGrid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科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平均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语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数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4.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英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9.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政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8.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历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4.7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物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6.7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6:16:30Z</dcterms:modified>
  <cp:revision>10</cp:revision>
  <dc:subject/>
  <dc:title>PowerPoint Presentation</dc:title>
</cp:coreProperties>
</file>